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87A-0A9A-461F-9C32-8C4A245E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144-B241-4EB2-A9EF-F499EA06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79A-706A-453A-821C-69F54C0A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EA4-9558-4968-8992-A77C7D02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175C-804B-4417-9152-E53D774B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3E04-3A10-46EF-AB1C-5E331EC0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B75D-F453-44C9-ACB1-803CF6A1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F50C-05DE-4752-AEDF-F3C9036D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3311-AE35-4C42-AE5C-14DE5684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B7A4-C813-4B5D-969C-B5DFB794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6ABF-83C4-4381-BD03-B4CBA4B8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4A6-20DA-4104-977B-7258EF35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5834-161F-4D9A-A990-B2F9BB33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86C3-9186-4156-987D-21D7375F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13C0-8957-4AC5-9741-E24C5D63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88C9-54CA-48C8-8FF3-1EDC1A31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BDC6-2896-45E1-846D-FF691298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46F-30F4-4791-9DCA-26B997E8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B85-0AA9-40EC-B872-93D976A3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9C7-80F4-430E-AB1F-2A4DCB44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E6D-F98D-46B8-8D3F-5D225F0A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381-AB62-4A7C-AA80-10773687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995-BB4E-4485-AB79-2C3A3DED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54A-2D17-41B0-9E08-F98A04E8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853A-FDF0-4092-B73C-0B449732B3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111A-6157-47BA-98A0-0D44C75CBDC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458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Tahoma"/>
              </a:rPr>
              <a:t>Управление оборотным капиталом предприятия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258560" y="443664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югин Евгений Владимир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403280" y="18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ИПЛОМН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а тем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нализ ликвидности</a:t>
            </a:r>
            <a:br>
              <a:rPr sz="4000"/>
            </a:br>
            <a:r>
              <a:rPr b="0" lang="en-US" sz="3500" spc="-1" strike="noStrike">
                <a:solidFill>
                  <a:srgbClr val="ffffcc"/>
                </a:solidFill>
                <a:latin typeface="Tahoma"/>
              </a:rPr>
              <a:t>Коэффициент текущей ликвидности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68360" y="1557360"/>
          <a:ext cx="820908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20908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нализ ликвидности</a:t>
            </a:r>
            <a:br>
              <a:rPr sz="4000"/>
            </a:br>
            <a:r>
              <a:rPr b="0" lang="en-US" sz="3500" spc="-1" strike="noStrike">
                <a:solidFill>
                  <a:srgbClr val="ffffcc"/>
                </a:solidFill>
                <a:latin typeface="Tahoma"/>
              </a:rPr>
              <a:t>Коэффициент быстрой ликвидности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69800" y="1557360"/>
          <a:ext cx="827892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557360"/>
                    <a:ext cx="827892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1114560" y="3141720"/>
            <a:ext cx="7557840" cy="0"/>
          </a:xfrm>
          <a:prstGeom prst="line">
            <a:avLst/>
          </a:prstGeom>
          <a:ln w="151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116000" y="2421000"/>
            <a:ext cx="7558200" cy="0"/>
          </a:xfrm>
          <a:prstGeom prst="line">
            <a:avLst/>
          </a:prstGeom>
          <a:ln w="151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26200" y="2260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4000" y="299736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,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нализ ликвидности</a:t>
            </a:r>
            <a:br>
              <a:rPr sz="4000"/>
            </a:br>
            <a:r>
              <a:rPr b="0" lang="en-US" sz="3500" spc="-1" strike="noStrike">
                <a:solidFill>
                  <a:srgbClr val="ffffcc"/>
                </a:solidFill>
                <a:latin typeface="Tahoma"/>
              </a:rPr>
              <a:t>Коэффициент абсолютной ликвидности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469800" y="1557360"/>
          <a:ext cx="8167680" cy="51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557360"/>
                    <a:ext cx="81676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1114560" y="3789360"/>
            <a:ext cx="7418160" cy="0"/>
          </a:xfrm>
          <a:prstGeom prst="line">
            <a:avLst/>
          </a:prstGeom>
          <a:ln w="151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16000" y="3213000"/>
            <a:ext cx="7416720" cy="0"/>
          </a:xfrm>
          <a:prstGeom prst="line">
            <a:avLst/>
          </a:prstGeom>
          <a:ln w="151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26200" y="2997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26920" y="350028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,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нализ оборачиваемости</a:t>
            </a:r>
            <a:br>
              <a:rPr sz="4000"/>
            </a:br>
            <a:r>
              <a:rPr b="0" lang="en-US" sz="3500" spc="-1" strike="noStrike">
                <a:solidFill>
                  <a:srgbClr val="ffffcc"/>
                </a:solidFill>
                <a:latin typeface="Tahoma"/>
              </a:rPr>
              <a:t>оборотного капитала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69800" y="1557360"/>
          <a:ext cx="816768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557360"/>
                    <a:ext cx="81676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нализ рентабельности</a:t>
            </a:r>
            <a:br>
              <a:rPr sz="4000"/>
            </a:br>
            <a:r>
              <a:rPr b="0" lang="en-US" sz="3500" spc="-1" strike="noStrike">
                <a:solidFill>
                  <a:srgbClr val="ffffcc"/>
                </a:solidFill>
                <a:latin typeface="Tahoma"/>
              </a:rPr>
              <a:t>оборотного капитала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69800" y="1557360"/>
          <a:ext cx="816768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557360"/>
                    <a:ext cx="816768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акторный анализ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лияние составляющих оборотных средств на время оборота оборотных средст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209520" y="1841400"/>
          <a:ext cx="8908920" cy="43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841400"/>
                    <a:ext cx="890892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864080" y="6308640"/>
            <a:ext cx="57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лияние фактора ПЕРВОГО порядка + 356,6 д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акторный анализ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лияние составляющих выручки от реализации на время оборота об. средст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51840" y="6308640"/>
            <a:ext cx="56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лияние фактора ВТОРОГО порядка - 474,1 д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247680" y="1779480"/>
          <a:ext cx="8772480" cy="455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1779480"/>
                    <a:ext cx="87724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едостат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540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каз от нормирования оборотных средст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достаточно внимания, уделяется управлению запас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вышенные расходы будущих пери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вращение текущих финансовых потребностей в отрицательную величин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я управления текущими активами и пассивами применять консервативную политик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возможности снизить потребление материальных ресур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вести практику нормирования оборотных средст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зить затраты в незавершенном производ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Цель исслед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8000" y="1915920"/>
            <a:ext cx="854064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ведение анализа использования оборотных активов ЗАО «Строительная корпорация» и разработка мер по повышению эффективности управления оборотными средствами предпри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дачи дипломной раб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540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учение теоретических и организационных основ управления оборотным капитал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нализ оборотного капитала исследуемой организации с выводами о его результат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работка рекомендаций по совершенствованию механизма управления оборотными средствами предприя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ъект исслед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8000" y="1915920"/>
            <a:ext cx="854064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О «Строительная корпорац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ой вид деятельности - производство общестроительных раб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ервая гла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24000" y="1987560"/>
            <a:ext cx="85406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но понятие оборотного капитала, его состав и классификация, назначение и роль в производств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смотрены понятия эффективности использования оборотного капитала и факторы их повышающ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ражены основная цель, задачи и информационные источники анализа оборотного капита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Tahoma"/>
              </a:rPr>
              <a:t>Динамика структуры оборотных средств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95280" y="1268280"/>
          <a:ext cx="8353440" cy="54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835344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Динамика абсолютных значений оборотных средств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611280" y="1247760"/>
          <a:ext cx="8137440" cy="52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47760"/>
                    <a:ext cx="813744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Динамика абсолютных значений оборотных средств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250920" y="1413000"/>
          <a:ext cx="8675640" cy="522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67564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Динамика абсолютных запасов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09680" y="1273320"/>
          <a:ext cx="8350200" cy="526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273320"/>
                    <a:ext cx="8350200" cy="52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6:56:42Z</dcterms:created>
  <dc:creator>Татьяна</dc:creator>
  <dc:description/>
  <dc:language>en-US</dc:language>
  <cp:lastModifiedBy>Zhe</cp:lastModifiedBy>
  <dcterms:modified xsi:type="dcterms:W3CDTF">2007-07-01T11:37:24Z</dcterms:modified>
  <cp:revision>49</cp:revision>
  <dc:subject/>
  <dc:title>Слайд 1</dc:title>
</cp:coreProperties>
</file>