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BA97-45AB-4C56-9665-B0FE145F0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9348-2B56-4B88-B16C-DD3F3A3A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074-37A8-4B94-9D0B-B1AE3897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D7E-84FA-438B-927B-9121E1DC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9D1-89C9-49DF-A45D-0C2407B6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74E-AB7F-41E4-A95B-63C9A30F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BFB1-3E58-460C-8252-26AB01A2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459-1E1F-49E4-8101-C3FDF726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CCDB-B97E-4164-A83B-F42EFEA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E18-CBCE-49B1-AEEE-0F779DAC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277-AD2A-49EF-A9C4-29344AF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069-3B59-44D2-80D1-4DD78067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509-CA3C-4151-90CD-21967A180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Соединения</a:t>
            </a:r>
            <a:br>
              <a:rPr sz="4000"/>
            </a:b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часть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162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Сварные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2743200"/>
            <a:ext cx="58327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88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ЛЕЕВЫЕ СОЕДИ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неразъемное соединение с помощью клея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Синтетическим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еям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единяют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практическ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се материа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стали, сплавы, медь, серебро, древесину, пластики, фарфор, ткани, кож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413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большее распространение получ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а вида клеевых соеди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нахлестку и телескопическ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телескопического соединения требуется жидкий клей, холодного отвер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ля соединения внахлестку нужен высокопрочный к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0" b="28384"/>
          <a:stretch/>
        </p:blipFill>
        <p:spPr>
          <a:xfrm>
            <a:off x="141120" y="3071880"/>
            <a:ext cx="8893440" cy="25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2360" y="5877000"/>
            <a:ext cx="74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добно паяному соедине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прочность клеевого соедин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же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опорциональна площади склеив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4832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Прочность клеевого соединения зависит от толщины клеевого слоя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чно толщина слоя составляет 0,05...0,15 мм и зависит от вязкости клея и давления при склеи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Условие прочности на сдви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рез) соединения внахлест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48000" y="2852640"/>
            <a:ext cx="2736720" cy="560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51440" y="4220280"/>
            <a:ext cx="2568960" cy="825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ш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длина нахлестки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85840" y="5083560"/>
            <a:ext cx="308448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допуска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двиг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5329080" cy="266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12000" y="5084640"/>
            <a:ext cx="6476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е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ч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жно получить так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счет увеличения шир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нежели длины нахлес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еи обладаю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статоч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большой прочнос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двиг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невысокой прочнос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отдире и раскалыв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62784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Лекция 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Сварные соединения являются наиболее прочными среди неразъемных соед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33000"/>
            <a:ext cx="518328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Виды свар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сварка плавление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—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сварка давление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80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ракти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пользу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ыше 60 способов сварки (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газовая, дуговая, электронно-лучевая, плазменная , контактная, высокочастотная , холодная, взрывом и т. 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620000"/>
            <a:ext cx="59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 основных способов свар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2519" r="0" b="0"/>
          <a:stretch/>
        </p:blipFill>
        <p:spPr>
          <a:xfrm>
            <a:off x="0" y="2133720"/>
            <a:ext cx="914400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40360" y="4867920"/>
            <a:ext cx="2736720" cy="39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Контактная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варка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4653720"/>
            <a:ext cx="197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6372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Шовная сварка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 - непрерывная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прерывистая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554440"/>
            <a:ext cx="914400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ные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недостатк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сварных  соеди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личие остаточных напряжений и  коробление детале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особенно тонкостенных)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и сваривани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озникновение скрытых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фек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рещин, непроваров, шлаковых включений), снижающих прочность соедин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7800" y="4581360"/>
            <a:ext cx="28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Дуговая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свар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( автоматическая, полу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автоматическая, руч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-153720"/>
            <a:ext cx="7416720" cy="7646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Виды  соедин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тыковые ,                    нахлест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40975" b="68678"/>
          <a:stretch/>
        </p:blipFill>
        <p:spPr>
          <a:xfrm>
            <a:off x="5003640" y="549360"/>
            <a:ext cx="3916440" cy="252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476280"/>
            <a:ext cx="3384720" cy="2619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33515" r="67121" b="28020"/>
          <a:stretch/>
        </p:blipFill>
        <p:spPr>
          <a:xfrm>
            <a:off x="3059280" y="3213000"/>
            <a:ext cx="316836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380880" y="5949000"/>
            <a:ext cx="96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Times New Roman"/>
              </a:rPr>
              <a:t>В зависимости от толщины детал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варку выполняют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односторон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0760" y="2305440"/>
            <a:ext cx="180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49800" y="6399720"/>
            <a:ext cx="4378320" cy="4597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дву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х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сторонним швом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93800" y="400536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тавр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8880" y="4365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угл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20" y="-1080"/>
            <a:ext cx="90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Расчет сварных соединений при постоянных нагруз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389880" y="403560"/>
            <a:ext cx="6671160" cy="7646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5084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верочный расчет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тыкового соедине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0840"/>
                <a:tab algn="l" pos="204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Условие проч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растяж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1584360" cy="600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1908000" cy="48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2600" y="1915560"/>
            <a:ext cx="5878800" cy="520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лина шва и толщина соединяемых дета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720720" cy="442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91080" y="2420280"/>
            <a:ext cx="62600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емое  напряжение сварного шва на рас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124000" y="3068640"/>
            <a:ext cx="649440" cy="43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28680" y="26262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2360" y="3067920"/>
            <a:ext cx="1271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(0,9...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4067280" y="3068640"/>
            <a:ext cx="644400" cy="43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22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3334680"/>
            <a:ext cx="6985080" cy="1465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ем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е основ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Допускаемая растягивающая нагруз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643280" y="4076640"/>
            <a:ext cx="2808360" cy="56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9680" y="4939920"/>
            <a:ext cx="7772040" cy="15260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оектном расче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определяется длина ш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211640" y="5805360"/>
                <a:ext cx="792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/>
                        </m:sSub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39640" y="3645000"/>
            <a:ext cx="72072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-3132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Нахлесточные соеди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имеют высокую концентрацию напряжений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  <a:ea typeface="Times New Roman"/>
              </a:rPr>
              <a:t>лобовом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о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  <a:ea typeface="Times New Roman"/>
              </a:rPr>
              <a:t>фланговых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швах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упрощенных расчетах швов учитывают лишь касательные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708360" y="928800"/>
            <a:ext cx="1727280" cy="4363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274760"/>
            <a:ext cx="7020000" cy="673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условие  прочности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одного лобового  углового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шва на с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16360" y="1773360"/>
            <a:ext cx="3041640" cy="850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40360" y="5877000"/>
            <a:ext cx="2016360" cy="723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436120"/>
            <a:ext cx="9144000" cy="990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допускаемое напряжение среза 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перимет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счетный катет ш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948360" y="4724280"/>
            <a:ext cx="136872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3280" y="5220360"/>
            <a:ext cx="428652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требуемая длина одного ш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2708280"/>
            <a:ext cx="719280" cy="46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rcRect l="947" t="1415" r="55892" b="2829"/>
          <a:stretch/>
        </p:blipFill>
        <p:spPr>
          <a:xfrm>
            <a:off x="468360" y="3162240"/>
            <a:ext cx="3816360" cy="3695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793040" y="4292640"/>
            <a:ext cx="30535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ариваемого элеме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9440" y="3213000"/>
            <a:ext cx="4090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пыт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0,9...1,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— наименьш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щ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2440" y="-1080"/>
            <a:ext cx="811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Фланговые швы проверяют и рассчитывают по этим же форму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49261" b="0"/>
          <a:stretch/>
        </p:blipFill>
        <p:spPr>
          <a:xfrm>
            <a:off x="826920" y="476280"/>
            <a:ext cx="3527640" cy="403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rcRect l="0" t="0" r="46760" b="0"/>
          <a:stretch/>
        </p:blipFill>
        <p:spPr>
          <a:xfrm>
            <a:off x="4716360" y="476280"/>
            <a:ext cx="3829320" cy="396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57720" y="4365000"/>
            <a:ext cx="68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Распределение касательных напряжений вдоль флангового ш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507564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л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флангового шва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олжна бы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не менее 30 м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Допускаемая растягивающая нагруз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419640" y="6243480"/>
            <a:ext cx="2881080" cy="614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18120" y="357048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-1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a50021"/>
                </a:solidFill>
                <a:latin typeface="Arial"/>
              </a:rPr>
              <a:t>Тавровые соединения угловыми шв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рассчитывают по форму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углового ш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2520720" cy="770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651640" y="476280"/>
            <a:ext cx="2519280" cy="536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934160" y="54864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rcRect l="0" t="33515" r="67121" b="52195"/>
          <a:stretch/>
        </p:blipFill>
        <p:spPr>
          <a:xfrm>
            <a:off x="539640" y="1341360"/>
            <a:ext cx="3492720" cy="175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rcRect l="0" t="46151" r="83370" b="40108"/>
          <a:stretch/>
        </p:blipFill>
        <p:spPr>
          <a:xfrm>
            <a:off x="5292720" y="1268280"/>
            <a:ext cx="2305080" cy="172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3204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4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Точечное соеди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груженное в плоскости стыка,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рассчитывают на ср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708360" y="3789360"/>
            <a:ext cx="2303640" cy="81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4557960"/>
            <a:ext cx="9144000" cy="11138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усилие,   приходящееся   на  одну точ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число плоскостей среза т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Ш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лучаемые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на  роликовых машин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рассчитывают по форм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4211640" y="5734080"/>
            <a:ext cx="2592360" cy="685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185880"/>
            <a:ext cx="4716360" cy="825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ес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ширина ш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его д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-1800"/>
            <a:ext cx="9144000" cy="28990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аяные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зуется за счет связи материалов деталей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по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ы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зд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яный ш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уменьшения влияния окисления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меняют специальные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флюс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Times New Roman"/>
              </a:rPr>
              <a:t>канифоль, бура и д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ачестве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припое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применяют чистые металлы,  чаще сплавы на основе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  <a:ea typeface="Times New Roman"/>
              </a:rPr>
              <a:t>олова, меди, серебра, цинка, свинца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Times New Roman"/>
              </a:rPr>
              <a:t> и др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чность при сре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единений, паянных оловянно-свинцовистыми припоями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также  на основе меди и серебра, составляет (0,8...0,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956720" y="2492280"/>
            <a:ext cx="792000" cy="422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2995920"/>
            <a:ext cx="9144000" cy="1923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л прочности прип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рименяют соедин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стык , нахлесточные и их комбина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ечаются соеди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телескопическо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нахлестку с заклепко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или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штифтом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нахлестку со шпонко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фальцевый замок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792360" cy="387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06400" y="2996640"/>
            <a:ext cx="54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8209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3484800"/>
            <a:ext cx="914400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чет паяных соединений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аналогичен расчету сварных соеди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площадь нахлесточного соединения равна площади контак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величением площади конта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есущая способность соединения возраста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ольший эффек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ожно получи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 счет увеличения шир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еталей и меньший - за счет длины нахлестк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9840" y="476280"/>
            <a:ext cx="90741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2:00:45Z</dcterms:created>
  <dc:creator>Рябчук</dc:creator>
  <dc:description/>
  <dc:language>en-US</dc:language>
  <cp:lastModifiedBy>Рябчук</cp:lastModifiedBy>
  <dcterms:modified xsi:type="dcterms:W3CDTF">2006-10-06T17:51:40Z</dcterms:modified>
  <cp:revision>8</cp:revision>
  <dc:subject/>
  <dc:title>Соединения  часть  2</dc:title>
</cp:coreProperties>
</file>