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DA90-D5E8-47E2-B9B4-44C94A3F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9ECA-D009-41C1-8438-5E1FFFAD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4105-FAD8-4B9C-B175-7F8AACF7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376-D1FE-4297-9FDB-E44ECB7F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F44-E550-45BC-B19C-AF7D195B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DFDF-FCF0-4515-B784-5965DA38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9A44-86FC-44DB-A9B3-2B626B8A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8AB5-832F-49BC-9EF5-F02DF8BB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7CD6-7290-46E2-A89C-7B596097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6E32-1F4D-44FF-B5D7-ADE0778B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4CB-8823-4F7F-9F2D-18BE2F14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FA9D-10C7-4329-B46E-DF0CD8C5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43E9-B05D-43B4-A079-61C1DFBF1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Валы и оси</a:t>
            </a:r>
            <a:endParaRPr b="0" lang="en-US" sz="6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5400"/>
            <a:ext cx="9144000" cy="37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Расчет жесткости в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пругие перемещения валов оказывают неблагоприятное влияние на работу связанных с ними подшипников, зубчатых колес и других деталей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величивают концентраци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нтактных напряжений и износ деталей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нижают сопротивл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усталости деталей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чн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ь механизмов и т.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ие перемещения вала при изгибе могут привести к заклиниванию подшипников. При проектировании валов следует проверять прогибы и углы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ворота сечений, зависящих от требований, предъявляемых к валу, и особенностей его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Допустимые величины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-4559400" y="307800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3119400"/>
            <a:ext cx="914400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углов закручива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ечения в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местах расположения деталей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подшипников ка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шариковых однорядных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0,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шариковых   сферических ..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0,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оликовых     цилиндрических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0,00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оликовых    конических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0,0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Подшипников скольж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0,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Зубчатых коле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0,001...0,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851920"/>
            <a:ext cx="9144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ьшинство валов машин и механизмов имеют переменное по длине сечение. В упрощенных расчетах жесткость таких валов оценивают по условной эквивален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модели вала постоянного с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аксимальный прогиб ва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должен превышать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(0,0002... 0,0003)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— расстояние между опорами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допустимый проги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д колесами составля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,01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ля цилиндрическ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0,005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ля конических, гипоидных и глобоидных переда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модуль зацеп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Допустимые относительные углы закручивания валов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жат в пределах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0,20...1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а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1 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ины в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69236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Лекция  заверш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52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06668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БЩАЯ ХАРАКТЕРИСТИКА ВАЛОВ И О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6668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значение    и    классифик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668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668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алы служат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ля  поддержания вращающихся деталей и пере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668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ращающего момента от одной детали к дру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668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6668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условно разделяют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668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простые вал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алы прямые) - работают в условиях кручения, изгиба и растяжения (сжатия),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х применяют в передачах: зубчатых, ремен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др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668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торсионные вал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орсионы) - работают лишь в условиях кручения и передают вращающий момент, соединяя обычно два вала на индивидуальных опор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668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оси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поддерживающие валы, работающие лишь в условиях изги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6668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исимости от распределения нагрузок вдоль оси вала и условий сборки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остые вал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яют гладки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упенчаты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668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668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Коленчатые валы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спользуют в поршневых двигателях и компрессор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668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ередачи вращающего момента между агрегатами со смещенными в пространстве осями применяют специальные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гибкие вал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е валы обладают высокой жесткостью при кручении и малой жесткостью при изги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668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668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 зависимости от расположения, быстроходности и назначения различа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алы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входные, промежуточные, выходн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6668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тихо- или быстроходные, распределите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42920" y="3860640"/>
            <a:ext cx="7561440" cy="18180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6400800" cy="17226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0" y="-14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Особенности конструкции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структивная форма вала   (оси)   зависит от нагрузки, способа фиксирования насаживаемой детали и условий сборки  (разборк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Эскизы в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3126600"/>
            <a:ext cx="8893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осевого фиксирования деталей (подшипников, зубчатых колес и др.) на валах выполняют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упорные буртики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или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заплечики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675040"/>
            <a:ext cx="9144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85104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Переходные участки ва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между соседними ступенями разных диаметров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выполня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радиусной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галтелью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или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в форме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канавки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51040"/>
                <a:tab algn="l" pos="1812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ысот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порных буртиков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фиксирования подшипников должна обеспечивать их демонтаж и подход смазочного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1040"/>
            <a:ext cx="9144000" cy="66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Материалы ва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Для изготовления валов использу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углеродистые ст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арок 20, 30, 40, 45 и 5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легированные ста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арок 20Х,   40Х,   40ХН,   18Х2Н4МА,   40ХН2МА  и  др.,                                   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титановые   сплав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ВТЗ-1,   ВТ6   и ВТ9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ор материала, термической и химико-термической обработки определяется конструкцией вала и опор, условиями эксплуатации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Быстроходные вал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в подшипниках скольжения, требуют высокой твердости цапф (посадочных хвостовиков), поэтому их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изготовляют из цементируемых стал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2Х2Н4А, 18ХГТ или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азотируемых стал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8Х2МЮА .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алы-шестер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акже изготовляют из цементируемых легированных сталей марок 12ХНЗА, 12Х2Н4А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                       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РАСЧЕТ ВАЛОВ НА ПРОЧНОСТЬ И ЖЕСТК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л принадлежит к числу наиболее ответственных деталей машин, нарушение его формы, или разрушение влечет за собой выход из строя всей  конструкции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обеспечения работоспособности и надежности валы и оси должны      удовлетворять основным  критериям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прочности и жест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деформативн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-111240"/>
            <a:ext cx="914400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Нагрузки на валы и расчетные сх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оценки прочностной надежности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необходимо знать напряжения и деформации в сечениях в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от внешних нагрузок, которые передаются от сопряженных деталей (зубчатых колес, шкивов...) Если внешние нагрузки известны, то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вал рассматривают как балку, шарнирно закрепленную в двух жестких опорах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ложение условной опоры зависит от типа и числа подшипников в опо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7129800" cy="3649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0" y="554544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Расчетные схемы ва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грузки от зубчатых колес, шкивов, звездочек и других подобных деталей передаются на    валы    через    поверхности    конта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счетах валов эти нагрузки для упрощения заменяют сосредоточенными эквивалентными силами, приложенными в середине или на краях ступицы (рис  г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52862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889440" y="5283000"/>
            <a:ext cx="36360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V="1" rot="10800000">
            <a:off x="-1440" y="-78840"/>
            <a:ext cx="914688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Расчет на проч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едварительном (проектном) расчете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диаметр входного вала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приближенно может быть найден по известному значению крутящего момента из условия про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51370" r="0" b="0"/>
          <a:stretch/>
        </p:blipFill>
        <p:spPr>
          <a:xfrm>
            <a:off x="1403280" y="1628640"/>
            <a:ext cx="2305080" cy="621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-3490200" y="256608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211640" y="1484280"/>
            <a:ext cx="3529080" cy="743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-251280" y="2348640"/>
            <a:ext cx="661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Т — крутящий момент в расчетном сечении ва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2160" y="2736000"/>
            <a:ext cx="47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ускаемое напряжение на кр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292720" y="2781360"/>
            <a:ext cx="503280" cy="406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2603520"/>
            <a:ext cx="914400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12...20 МПа  для стальных валов;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— передаваемая мощность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частота вращения 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Иног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и проектировании диаметр входного хвостовика вала (минимальный диаметр вала) принимают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конструктив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из практики проектирования) равным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0,8...1,0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вала приводного двиг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Наименьший диаметр промежуточного вала принимают обычно равным внутреннему диаметру подшип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у прочностной надежности вала в конструкции выполняют обычно в форме определения запасов про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10160"/>
            <a:ext cx="9144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Статический запас прочности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в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рассчитывают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по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наибольшей кратковременной нагрузк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торая не может вызвать усталостного разрушения (например,  в момент пуска установк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алы могут быть нагружены постоянными напряжениями, например от неуравновешенности вращающихся дета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Валы работают в основном в условиях изгиба и круч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а напряжения от осевых сил малы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этом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эквивалентное напряжение рав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16360" y="2093760"/>
            <a:ext cx="2519280" cy="576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38320" y="256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00000" y="2565360"/>
            <a:ext cx="549360" cy="360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32000" y="2565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547640" y="2565360"/>
            <a:ext cx="503280" cy="388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14560" y="2514960"/>
            <a:ext cx="712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ибольшие напряжения от изгиба моментом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М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и кручения моментом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Т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rcRect l="0" t="59932" r="0" b="0"/>
          <a:stretch/>
        </p:blipFill>
        <p:spPr>
          <a:xfrm>
            <a:off x="4427640" y="2997360"/>
            <a:ext cx="2087640" cy="4651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-4570920" y="2358000"/>
            <a:ext cx="11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rcRect l="0" t="0" r="0" b="51370"/>
          <a:stretch/>
        </p:blipFill>
        <p:spPr>
          <a:xfrm>
            <a:off x="2268360" y="2997360"/>
            <a:ext cx="1727280" cy="4633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395280" y="3330360"/>
            <a:ext cx="39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—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осевой и полярный мо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сопротивления сечения вал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4140360" y="3716280"/>
            <a:ext cx="2881080" cy="4669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539640" y="4317480"/>
            <a:ext cx="230364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о есть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1" i="1" lang="ru-RU" sz="13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огда с  учетом  эт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но запис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2700360" y="4508640"/>
            <a:ext cx="3024000" cy="6714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174240" y="5515920"/>
            <a:ext cx="525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Запас прочности по пределу текучести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5508720" y="5516640"/>
            <a:ext cx="2376360" cy="3952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250920" y="6115320"/>
            <a:ext cx="61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Обычно принимают допускаемый запас прочности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6300720" y="6165720"/>
            <a:ext cx="432000" cy="397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01480" y="623628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,2...1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3162600" y="74311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 flipV="1" rot="10800000">
            <a:off x="-1800" y="-16560"/>
            <a:ext cx="9148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Опасное се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в котором следует определить запас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находят после построения эпюр изгибающих и крутящих мо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агрузки действуют на вал в разных плоскостях, то строят эпюры моментов в координатных плоскостях. Затем геометрически суммируют изгибающие моменты, очерчивая эпюру прямыми линиями, что идет в запас про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85328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нные напряжения в валах вызываются переменн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стоянной нагрузкой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Постоянные по величине и направлению силы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передач вызывают во вращающихся валах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переменные напряжения изгиба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,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изменяющиеся по симметричному циклу с амплитудой и средними напряжениями: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0" r="27883" b="0"/>
          <a:stretch/>
        </p:blipFill>
        <p:spPr>
          <a:xfrm>
            <a:off x="3059280" y="3357720"/>
            <a:ext cx="2441520" cy="792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450936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четах валов условно принимают, что вращающий момент и касательные напряжения от кручения изменяются по пульсационному циклу, которому соответствуют амплитуда и среднее напряжение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27466" b="0"/>
          <a:stretch/>
        </p:blipFill>
        <p:spPr>
          <a:xfrm>
            <a:off x="3419640" y="5084640"/>
            <a:ext cx="2454120" cy="747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585288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словие прочностной надежности в этом случае имеет ви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276720" y="6165720"/>
            <a:ext cx="1008000" cy="4762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rcRect l="12780" t="0" r="12780" b="0"/>
          <a:stretch/>
        </p:blipFill>
        <p:spPr>
          <a:xfrm>
            <a:off x="4716360" y="6491160"/>
            <a:ext cx="898560" cy="3668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-4478040" y="5964840"/>
            <a:ext cx="28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86840"/>
            <a:ext cx="9144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Высокооборотные валы в ряде конструкций работают в условиях изгибных, крутильных и изгибно-крутильных колебаний, вызывающих появление переменных напря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Эти напряжения могут быть опасными для прочности вала на резонансных режимах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предотвращения резонансных колебаний валов проводят их расчет на колеб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Для повышения сопротивления усталости валов используют различные конструктивные и технологические методы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ой конструктивный метод повышения надежности валов — снижение концентрации напряжений в опасных сечениях путем увеличения радиусов галтелей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енное значение имеет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правильный выбор материала и режима термической обработ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аготовки   (вал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повышения сопротивления усталости производят упрочняющую обработку зон концентрации напряжений (выточек, галтелей, шпоночных канавок, резьбы и др.) путем обдувки дробью, лучом лазера и т.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8:58:10Z</dcterms:created>
  <dc:creator>Рябчук</dc:creator>
  <dc:description/>
  <dc:language>en-US</dc:language>
  <cp:lastModifiedBy>Рябчук</cp:lastModifiedBy>
  <dcterms:modified xsi:type="dcterms:W3CDTF">2006-10-17T05:00:46Z</dcterms:modified>
  <cp:revision>14</cp:revision>
  <dc:subject/>
  <dc:title>Валы и оси</dc:title>
</cp:coreProperties>
</file>