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5F9-3662-4A9B-A158-807B6D1B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D3B-33FA-49AB-9FA1-9AE300E4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FDD-01C1-4A33-9A66-90D030BD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AF9-DEC6-4976-A2E8-1B2A12A6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618-B935-420B-8E51-6E02C828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695-2D95-4E7F-807A-6B2A3801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F48-3694-422E-B0C8-3B62BA86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C574-CCB1-4CBC-BA5A-CC8207B7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AD3-798D-4B77-8BEE-C3DE8C89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43A-7F4F-4B36-BF2A-6C4B5FDB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B46-D3AE-4FE1-9BB1-035302DD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EBB-F15E-45EB-806A-44C1B304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18F8-0657-456A-86BF-36B68E2BE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Arial"/>
              </a:rPr>
              <a:t>АНАЛИЗ И СИНТЕЗ КУЛАЧКОВЫХ МЕХАНИЗ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33"/>
                </a:solidFill>
                <a:latin typeface="Arial"/>
              </a:rPr>
              <a:t>Лекция </a:t>
            </a:r>
            <a:r>
              <a:rPr b="1" i="1" lang="en-US" sz="4800" spc="-1" strike="noStrike">
                <a:solidFill>
                  <a:srgbClr val="ff9933"/>
                </a:solidFill>
                <a:latin typeface="Arial"/>
              </a:rPr>
              <a:t>заверше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55640" y="106200"/>
            <a:ext cx="5078520" cy="258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58920" y="2781360"/>
            <a:ext cx="6084720" cy="2462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52293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улачковые механизмы и законы дв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теоретические профили кулачков с роликовым и  плоским толкателя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законы движения ведущего з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-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 скоростей строится по известным принципам графического кинематического исследования механиз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ктор скорости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2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надлежащей звену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толкателю, определяется из векторного урав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00720" y="1557360"/>
            <a:ext cx="2303640" cy="552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6050160" cy="29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59640" y="2133720"/>
            <a:ext cx="1512720" cy="407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436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ан ускорений строится по тем же принцип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411280" y="4941720"/>
            <a:ext cx="3816360" cy="511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3203640" y="5445000"/>
            <a:ext cx="1728720" cy="511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348000" y="5962680"/>
            <a:ext cx="3600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24920" y="-720"/>
            <a:ext cx="49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ИНТЕЗ    КУЛАЧКОВЫХ    МЕХАНИЗ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1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2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Синтез включает несколько этап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09520" algn="ctr">
              <a:buClr>
                <a:srgbClr val="ff3300"/>
              </a:buClr>
              <a:buFont typeface="Arial"/>
              <a:buAutoNum type="arabicParenR"/>
              <a:tabLst>
                <a:tab algn="l" pos="42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выбор типа  механизма, т.  е.  правильной кинематической схемы,  обеспечивающей требуемый закон движ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2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)  выбор и  обоснование закона движения толк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3) определение    основных    размеров звеньев, обеспечивающих   его   прочность, долговечность и высокий КП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2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Закон движения ведомого звена должен удовлетворять кинематическому и динамическому услов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2695320" cy="295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5240" y="6307920"/>
            <a:ext cx="43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Законы движени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ведомых звенье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306600" cy="2952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82480" y="5876280"/>
            <a:ext cx="34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асчетная схем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механ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3311640" cy="287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380360" y="6308640"/>
            <a:ext cx="143964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686040" cy="5029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9600" y="476280"/>
            <a:ext cx="30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Графическое дифферен-</a:t>
            </a:r>
            <a:br>
              <a:rPr sz="1800"/>
            </a:b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ц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76280"/>
            <a:ext cx="457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сь абсцисс разбивают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на равные участки 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t 1, t2, t3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и проводят соответствующие ординаты. Кривую заменяем хордами 0,1,2,3 . Откладываем вспомогательный отрезок 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h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Из полюса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 р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роводим лучи до пересечения с осью ординат и переносим значения на середины участков. Соединяя плавной линией полученные точки, имеем график производной. Для получения начального и конечного значений необходимо экстраполировать кривую за пределы данного учаастка. Заметим: при дифференцировании графика скоростей получаем значения касательных  ускорений. Нормальные ускорения следует находить через линейные скорости и радиус кривиз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74480" y="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Графическое интегр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7650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Графическое интегрирование - задача, обратная дифференцированию. Положим, задан график ускорения </a:t>
            </a:r>
            <a:r>
              <a:rPr b="0" i="1" lang="en-US" sz="18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3399"/>
                </a:solidFill>
                <a:latin typeface="Arial"/>
              </a:rPr>
              <a:t>f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3399"/>
                </a:solidFill>
                <a:latin typeface="Arial"/>
              </a:rPr>
              <a:t>t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(а) и требуется построить график скорости </a:t>
            </a:r>
            <a:r>
              <a:rPr b="0" i="1" lang="en-US" sz="1800" spc="-1" strike="noStrike">
                <a:solidFill>
                  <a:srgbClr val="003399"/>
                </a:solidFill>
                <a:latin typeface="Arial"/>
              </a:rPr>
              <a:t>v 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3399"/>
                </a:solidFill>
                <a:latin typeface="Arial"/>
              </a:rPr>
              <a:t>f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3399"/>
                </a:solidFill>
                <a:latin typeface="Arial"/>
              </a:rPr>
              <a:t>t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Разбивая ось времени на ряд участков, заменяют внутри каждого участка переменное ускорение средним его значением, проводя горизонтальный отрезок чтобы площади выступающих и входящих площадок были одинаковыми (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а).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рдинаты полученных средних ускорении сносят на ось ускорений и соединяют лучами /, //, 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///..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с полюсом 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Р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взятым на расстоянии </a:t>
            </a:r>
            <a:r>
              <a:rPr b="0" i="1" lang="ru-RU" sz="1800" spc="-1" strike="noStrike">
                <a:solidFill>
                  <a:srgbClr val="003399"/>
                </a:solidFill>
                <a:latin typeface="Arial"/>
              </a:rPr>
              <a:t>Н мм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от начала координ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4675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2392200" cy="815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19240" y="1267560"/>
            <a:ext cx="630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ОПРЕДЕЛЕНИЕ ОСНОВНЫХ РАЗМЕРОВ МЕХ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5256360" cy="365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696320" y="5444280"/>
            <a:ext cx="61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ы к определению начального радиуса кулач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81680" y="91440"/>
            <a:ext cx="21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отно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87640" y="189000"/>
            <a:ext cx="1295280" cy="7221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755640" y="10515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отрез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484360" y="1125360"/>
            <a:ext cx="3527640" cy="348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4428000"/>
            <a:ext cx="66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Для работы механизма должно быть соблюдено услов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780000" y="5084640"/>
            <a:ext cx="1726920" cy="411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5013360"/>
            <a:ext cx="1943280" cy="406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392720" cy="4251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187280" y="5661000"/>
            <a:ext cx="1584360" cy="352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rcRect l="0" t="4315" r="0" b="0"/>
          <a:stretch/>
        </p:blipFill>
        <p:spPr>
          <a:xfrm>
            <a:off x="5133960" y="692280"/>
            <a:ext cx="4010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4T02:51:15Z</dcterms:created>
  <dc:creator>Рябчук</dc:creator>
  <dc:description/>
  <dc:language>en-US</dc:language>
  <cp:lastModifiedBy>Рябчук</cp:lastModifiedBy>
  <dcterms:modified xsi:type="dcterms:W3CDTF">2006-04-25T09:17:31Z</dcterms:modified>
  <cp:revision>4</cp:revision>
  <dc:subject/>
  <dc:title>АНАЛИЗ И СИНТЕЗ КУЛАЧКОВЫХ МЕХАНИЗМОВ</dc:title>
</cp:coreProperties>
</file>