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57D-27A4-47AC-AF14-0554C7F1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8394-510B-42C2-80E9-02D8BB54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9D44-CC22-432D-A30E-3BFA7237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013-1914-4EFE-BCF4-0FAD7B31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9E2E-B51D-4712-9BE7-FF9D5BA5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C04-B3B5-4A33-8747-22946C63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0FCB-D11B-4C4E-B900-1F09A96A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A0E-CEF2-4E6B-944F-2F8381CB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7B2A-BBFE-46C2-8EF9-D60614E1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565-357B-4AF8-9687-80F61EF3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002-E664-4EE2-9AA0-241AAAB5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C74-FC99-412C-B5C4-26418404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A7EC-C1D3-49C8-9C71-8AFD5A9CA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Arial"/>
              </a:rPr>
              <a:t>Муфты. Корпусные дет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Часть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М у ф т 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-31680"/>
            <a:ext cx="9144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Цепные муфт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меняют для соединения валов с </a:t>
            </a:r>
            <a:r>
              <a:rPr b="1" i="1" lang="ru-RU" sz="2000" spc="-1" strike="noStrike">
                <a:solidFill>
                  <a:srgbClr val="ff505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от 20 до 14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м при передаче вращающего момента от 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63 до 8000 Н-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частотой вращения до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= 500...1600 мин~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енсируют 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радиальное смещение валов до 1,2 м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</a:rPr>
              <a:t>угловое до 1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предохранения закрываются кожухом с уплотняющими элементами. Вращающий момент передается с помощью звездочек и цеп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муфты соединяются с валами с помощью шлицев и шпо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545440" cy="2892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68360" y="5019480"/>
            <a:ext cx="86756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уфты имеют простую конструкцию и просты в обслуживании, надежны, технологичны в изготовлении,  имеют  малы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абариты  и  массу,  удоб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594900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таже  и демонтаже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достаток - наличие «мертвого»   хода,   который   ограничивает их применение в реверсивных передач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-116280"/>
            <a:ext cx="91440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Шарнирные   муфты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единяют валы, имеющие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углы переко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до 45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именяются для валов с </a:t>
            </a:r>
            <a:r>
              <a:rPr b="1" i="1" lang="en-US" sz="2800" spc="-1" strike="noStrike">
                <a:solidFill>
                  <a:srgbClr val="ff5050"/>
                </a:solidFill>
                <a:latin typeface="Arial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 от 8 до 40 м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 передаваемый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мом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от 112,2 до 1120 Н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971640" y="2001960"/>
            <a:ext cx="748800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-1692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Упругие муф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особны  компенсировать радиальные и угловые смещения,  демпфировать колебания, амортизировать толчки и уд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3892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Упругие втулочно-пальцев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муфты типа  МУВП  применяю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в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=10...180 м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и вращающих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моментах 6,3...16 000 Н-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37003" b="0"/>
          <a:stretch/>
        </p:blipFill>
        <p:spPr>
          <a:xfrm>
            <a:off x="0" y="3068640"/>
            <a:ext cx="4968720" cy="3313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11142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ращающий момент передается резиновыми гофрированными втулк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над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ыми на пальц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Допускают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радиальное смещение ос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алов до 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0,2...0,4 м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продоль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до 10...15 м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углов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- 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на 1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6360" y="1875600"/>
            <a:ext cx="442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х работоспособ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ется стойкостью втуло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ее контактное давление пальца на втулку находят по форм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24360" y="3573360"/>
            <a:ext cx="2016360" cy="657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932360" y="3914640"/>
            <a:ext cx="4211640" cy="31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число пальцев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6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диаметр окружности расположения пальцев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диаметр пальцев;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ℓ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длина упругого элемента;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[р]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допускаемое давление для резиновых втул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ычн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[р]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 М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91440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Упругая муфта с торообразной оболочкой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тоит из резинового упругого элемента (оболочки) 1 и полумуфт  2, к которым винтами притягиваются прижимные . полукольца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ращающий момент с полумуфты передается на оболоч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фта соединяет валы с </a:t>
            </a:r>
            <a:r>
              <a:rPr b="1" i="1" lang="en-US" sz="1800" spc="-1" strike="noStrike">
                <a:solidFill>
                  <a:srgbClr val="ff505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 =14...240 м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и передает вращающий         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мом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в диапазоне 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20...40 000 Н-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Компенсирует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родольные смеще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до 11 м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05720" y="1627920"/>
            <a:ext cx="53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радиальны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до 5,0 м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угловы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до 1,5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  <a:ea typeface="Times New Roman"/>
              </a:rPr>
              <a:t>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63442" t="0" r="0" b="0"/>
          <a:stretch/>
        </p:blipFill>
        <p:spPr>
          <a:xfrm>
            <a:off x="0" y="1773360"/>
            <a:ext cx="3492360" cy="3166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486720" y="234360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1374" t="2016" r="2062" b="0"/>
          <a:stretch/>
        </p:blipFill>
        <p:spPr>
          <a:xfrm>
            <a:off x="1979640" y="4483080"/>
            <a:ext cx="3424320" cy="2374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292720" y="1845000"/>
            <a:ext cx="3851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еря работоспособности муфты  вызывается разрушением упругого элемента у зажима.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Напряжения сре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сечении у заж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300720" y="3429000"/>
            <a:ext cx="2592360" cy="914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10360" y="4291200"/>
            <a:ext cx="3957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диаметр  оболочки  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четном сечен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толщина оболоч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435640" y="5589720"/>
            <a:ext cx="503280" cy="471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73680" y="5589000"/>
            <a:ext cx="35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каемое   напря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  срез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084720" y="6237360"/>
            <a:ext cx="719280" cy="403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672960" y="623664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,4 МП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-1440"/>
            <a:ext cx="914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Муфты с металлическими упругими элементами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и муфты обладают меньшими габаритами, но сложны по конструкции, дороже, требуют ухода при эксплуат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1211400"/>
            <a:ext cx="4752720" cy="3676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-28440" y="5142240"/>
            <a:ext cx="9144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муфты 1 и 7 соединены цилиндрическими стальными стержнями (пружинами) 5, равномерно расположенными по окружности диаметром D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Крышка 3 и кожух 4 удерживают стержни и смазку в муф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муфты изготавливают из сталей 45, 40Х, стержни – из высоколегированной пружинной стали, крышки и кожухи – из чугуна Сч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00800" y="1268280"/>
            <a:ext cx="3057480" cy="3673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-3579840" y="612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-1440"/>
            <a:ext cx="914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Упругая муфта со звездочк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оединяет валы с </a:t>
            </a:r>
            <a:r>
              <a:rPr b="1" i="1" lang="ru-RU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 до12...45 м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вращающем момент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 = 2,5...400 Н-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кает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смещение ос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алов 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до 0,4 м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угол переко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1,5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1380960"/>
            <a:ext cx="6192720" cy="3022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45961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уфты просты по конструкции, но допускают сравнительно небольшой вращающий момент (от 6,3 Н-м до 16 - 400 Н-м) и треб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мещения валов или полумуфт при монта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оит из двух  полумуфт, которые снабжены торцовыми кулач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жду ними  помещается резиновая звездочка с четырьмя или шестью лепест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59200"/>
            <a:ext cx="914400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СЦЕПНЫЕ МУФ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Управляемые муф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оединяют и разъединяют валы, а также установленные  на них детали  с помощью специальных механизмов управления.  Используют в коробках скоростей и других механизмах для изменения режима работы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работающем двигателе, облегчают запуск машин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дача вращающего момента осуществляется зубчатыми , кулачковыми или фрикционные муф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149000"/>
            <a:ext cx="9144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Сцепные самоуправляемы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муф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ериодически соединяют  и разъединяют ва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5444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Управляемая зубчатая электромагнитная муф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48132" b="0"/>
          <a:stretch/>
        </p:blipFill>
        <p:spPr>
          <a:xfrm>
            <a:off x="1763640" y="1125360"/>
            <a:ext cx="5400720" cy="5061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6155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единение  ее частей и включение зубчатого колеса происходят с помощью электромагнита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-1440"/>
            <a:ext cx="914400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Управляемые фрикционные сцепные муф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ают вращающий момент за счет сил трения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ключении муф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ращающий момент нарастает с увеличением усилия нажатия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зволяе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единять валы под нагрузкой. Пробуксовывание муфт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ения обеспечивает плавный разгон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домого вала..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54244" t="3150" r="0" b="7874"/>
          <a:stretch/>
        </p:blipFill>
        <p:spPr>
          <a:xfrm>
            <a:off x="0" y="1700280"/>
            <a:ext cx="5219640" cy="5157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435640" y="5241240"/>
            <a:ext cx="3421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Часто фрикционные муфты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це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примен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в качестве тормо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3520" y="2852640"/>
            <a:ext cx="39304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фта состоит из посаженного на вал 1 барабана 2, втулки  8, посаженной на ведомый вал 9, трех ведущих 5 и двух ведомых дисков 4, сжимаемых при осевом перемещении втулки 6 по направляющей шпонке 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59600" y="-720"/>
            <a:ext cx="44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Сцепные самоуправляемые муфты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512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Пружинно-шариковая муфт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и достижении вращающим моментом предельной величины под действием осевых усилий, обусловленных формой впадин  полумуфты 1, шарики смещаются в осевом направлении  (преодоле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55640" y="2971800"/>
            <a:ext cx="802800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118764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противление пружины) и размыкают муфту с последующим прощелки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и муфты применяются для валов с </a:t>
            </a:r>
            <a:r>
              <a:rPr b="1" i="1" lang="en-US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 от 8 до 48 м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и допускают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крутящие момен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4...400 Н-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ют также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пружинно-фрикционные, пружинно-кулачков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и другие типы предохранительных муф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5050"/>
                </a:solidFill>
                <a:latin typeface="Arial"/>
              </a:rPr>
              <a:t>Назначение и классификация муф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Муфты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- устройства для соединения валов совместно работающих узлов  машин, частей составных валов а также для соединения валов с расположенными на них деталями (зубчатыми колесами, звездочками и д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 машиностроении используются стандартные муф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-137160"/>
            <a:ext cx="914400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Обгонные муфты (муфты свободного ход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предназначены для передачи вращающего момента только в одном направлении. По принципу действия различают муфты    </a:t>
            </a:r>
            <a:r>
              <a:rPr b="1" i="1" lang="en-US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фрикционные и храп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ибольшее распространение получили фрикционные обгонные муфты,передающие вращающий момент за счет заклинивания между полумуфтами промежуточных тел ( роликов). Такие муфты бесшумны, компактны, могут работать при высокой частоте вращения. Их изготовляют для валов </a:t>
            </a:r>
            <a:r>
              <a:rPr b="1" i="1" lang="en-US" sz="1800" spc="-1" strike="noStrike">
                <a:solidFill>
                  <a:srgbClr val="ff5050"/>
                </a:solidFill>
                <a:latin typeface="Arial"/>
                <a:ea typeface="Times New Roman"/>
              </a:rPr>
              <a:t>d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  <a:ea typeface="Times New Roman"/>
              </a:rPr>
              <a:t> до 10...90 м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переда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момент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  <a:ea typeface="Times New Roman"/>
              </a:rPr>
              <a:t>до 750...800 Н-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028960"/>
            <a:ext cx="5435640" cy="4829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688000" y="2641320"/>
            <a:ext cx="3456000" cy="30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уфта свободного 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зволяет ведомому звену вращаться (по инерции) при остановленном ведущем звене. Этот эффект используется в передачах велосипедов, мотоциклов, станков, автомобилей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46088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Предохранительные муфты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с разрушающимся элементом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граничивают частоты вращения, предохраняют детали и машины от случайных перегрузо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рабатывают, когда вращающий момент превышает некоторую установленную велич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T</a:t>
            </a:r>
            <a:r>
              <a:rPr b="1" i="1" lang="en-US" sz="1800" spc="-1" strike="noStrike">
                <a:solidFill>
                  <a:srgbClr val="ff5050"/>
                </a:solidFill>
                <a:latin typeface="Arial"/>
              </a:rPr>
              <a:t>p</a:t>
            </a:r>
            <a:r>
              <a:rPr b="1" i="1" lang="en-US" sz="2000" spc="-1" strike="noStrike">
                <a:solidFill>
                  <a:srgbClr val="ff5050"/>
                </a:solidFill>
                <a:latin typeface="Arial"/>
              </a:rPr>
              <a:t> = 1,25 </a:t>
            </a: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T</a:t>
            </a:r>
            <a:r>
              <a:rPr b="1" i="1" lang="en-US" sz="1600" spc="-1" strike="noStrike">
                <a:solidFill>
                  <a:srgbClr val="ff505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i="1" lang="en-US" sz="1600" spc="-1" strike="noStrike">
                <a:solidFill>
                  <a:srgbClr val="cc00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максимальный момент, возникающий при рабо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-273960"/>
            <a:ext cx="914400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Пусковые (центробежные)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муф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ют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для плавного пуска приводов грузоподъемных машин, конвейер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 т. п. Основой таких муф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являютс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различные автоматические самоуправляемые центробежные муфты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нтробежные муфты устанавливают на вал электродвигател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ни позволяют электродвигателю легко разогнаться и по достижении им определенной скорости начать плавный разгон рабочего орг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овременно пусковые муфты выполняют и предохранительные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7848720" cy="3117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5036040"/>
            <a:ext cx="914400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остране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5050"/>
                </a:solidFill>
                <a:latin typeface="Arial"/>
              </a:rPr>
              <a:t>к</a:t>
            </a:r>
            <a:r>
              <a:rPr b="1" i="1" lang="ru-RU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олодочные</a:t>
            </a:r>
            <a:r>
              <a:rPr b="1" i="1" lang="ru-RU" sz="2000" spc="-1" strike="noStrike">
                <a:solidFill>
                  <a:srgbClr val="ff5050"/>
                </a:solidFill>
                <a:latin typeface="Arial"/>
              </a:rPr>
              <a:t>,</a:t>
            </a:r>
            <a:r>
              <a:rPr b="1" i="1" lang="ru-RU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 дисковые</a:t>
            </a:r>
            <a:r>
              <a:rPr b="1" i="1" lang="ru-RU" sz="20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505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ff5050"/>
                </a:solidFill>
                <a:latin typeface="Arial"/>
              </a:rPr>
              <a:t>шариковые </a:t>
            </a:r>
            <a:r>
              <a:rPr b="1" i="1" lang="ru-RU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центробежные фрикц</a:t>
            </a:r>
            <a:r>
              <a:rPr b="1" i="1" lang="ru-RU" sz="2000" spc="-1" strike="noStrike">
                <a:solidFill>
                  <a:srgbClr val="ff5050"/>
                </a:solidFill>
                <a:latin typeface="Arial"/>
              </a:rPr>
              <a:t>.</a:t>
            </a:r>
            <a:r>
              <a:rPr b="1" i="1" lang="ru-RU" sz="2000" spc="-1" strike="noStrike">
                <a:solidFill>
                  <a:srgbClr val="ff5050"/>
                </a:solidFill>
                <a:latin typeface="Arial"/>
                <a:ea typeface="Times New Roman"/>
              </a:rPr>
              <a:t> муф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аваемый муфтой вращающий момент равен моменту сил тр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Т= F</a:t>
            </a:r>
            <a:r>
              <a:rPr b="1" lang="ru-RU" sz="2000" spc="-1" strike="noStrike" baseline="-30000">
                <a:solidFill>
                  <a:srgbClr val="a50021"/>
                </a:solidFill>
                <a:latin typeface="Arial"/>
                <a:ea typeface="Times New Roman"/>
              </a:rPr>
              <a:t>r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 f R</a:t>
            </a:r>
            <a:r>
              <a:rPr b="1" lang="ru-RU" sz="2000" spc="-1" strike="noStrike" baseline="-30000">
                <a:solidFill>
                  <a:srgbClr val="a50021"/>
                </a:solidFill>
                <a:latin typeface="Arial"/>
                <a:ea typeface="Times New Roman"/>
              </a:rPr>
              <a:t>тр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 z =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m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ω</a:t>
            </a:r>
            <a:r>
              <a:rPr b="1" lang="ru-RU" sz="2000" spc="-1" strike="noStrike" baseline="30000">
                <a:solidFill>
                  <a:srgbClr val="a50021"/>
                </a:solidFill>
                <a:latin typeface="Arial"/>
                <a:ea typeface="Times New Roman"/>
              </a:rPr>
              <a:t>2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 f R</a:t>
            </a:r>
            <a:r>
              <a:rPr b="1" lang="ru-RU" sz="2000" spc="-1" strike="noStrike" baseline="-30000">
                <a:solidFill>
                  <a:srgbClr val="a50021"/>
                </a:solidFill>
                <a:latin typeface="Arial"/>
                <a:ea typeface="Times New Roman"/>
              </a:rPr>
              <a:t>тр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 z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масса колодки, Н с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/ м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ω– угловая скорость вращения муфты , с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 - коэффициент трения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тр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радиус трения, м; z – число колод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9360">
            <a:solidFill>
              <a:srgbClr val="ffffd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Лекция заверш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-2160"/>
            <a:ext cx="8604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Постоянные</a:t>
            </a: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(нерасцепляемые) муфты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)глухие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) фланц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25360"/>
            <a:ext cx="766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5050"/>
                </a:solidFill>
                <a:latin typeface="Arial"/>
              </a:rPr>
              <a:t>СЦЕПНЫЕ МУФ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1.Управляемы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а)  зубчат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)фрик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)кулач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2. Самоуправляе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)предохран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)свободного 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997000"/>
            <a:ext cx="9144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28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5050"/>
                </a:solidFill>
                <a:latin typeface="Arial"/>
              </a:rPr>
              <a:t>Компенсирующие и упругие</a:t>
            </a:r>
            <a:r>
              <a:rPr b="0" i="1" lang="ru-RU" sz="2400" spc="-1" strike="noStrike">
                <a:solidFill>
                  <a:srgbClr val="ff5050"/>
                </a:solidFill>
                <a:latin typeface="Arial"/>
              </a:rPr>
              <a:t> постоянные муф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1.Компенсирующие и подвижные муф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28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)крест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028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)зубчат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028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)цеп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0288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арнир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933080"/>
            <a:ext cx="896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. Упругие муфт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а)втулочно-пальц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102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)с резиновой  торообразной оболоч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102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)со звездоч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1028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таллическими упругими элемент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520" y="6385320"/>
            <a:ext cx="53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Пусковые</a:t>
            </a: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 (центробежные) муф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-184680"/>
            <a:ext cx="91440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5050"/>
                </a:solidFill>
                <a:latin typeface="Arial"/>
                <a:ea typeface="Times New Roman"/>
              </a:rPr>
              <a:t>Основная нагрузка и нагрузочная способ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Основной нагрузкой для муфт является вращающий мом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Нагрузочную способ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оценивают значением допустимого (предельного) вращающего момента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Т</a:t>
            </a:r>
            <a:r>
              <a:rPr b="1" i="1" lang="ru-RU" sz="1400" spc="-1" strike="noStrike">
                <a:solidFill>
                  <a:srgbClr val="0000cc"/>
                </a:solidFill>
                <a:latin typeface="Arial"/>
                <a:ea typeface="Times New Roman"/>
              </a:rPr>
              <a:t>П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ени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размеры, массу и др. указывают в паспорте муф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упрощенных расчетах приним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</a:t>
            </a:r>
            <a:r>
              <a:rPr b="1" i="1" lang="en-US" sz="2800" spc="-1" strike="noStrike">
                <a:solidFill>
                  <a:srgbClr val="ff5050"/>
                </a:solidFill>
                <a:latin typeface="Arial"/>
                <a:ea typeface="Times New Roman"/>
              </a:rPr>
              <a:t>T</a:t>
            </a:r>
            <a:r>
              <a:rPr b="1" i="1" lang="ru-RU" sz="2800" spc="-1" strike="noStrike">
                <a:solidFill>
                  <a:srgbClr val="ff5050"/>
                </a:solidFill>
                <a:latin typeface="Arial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ff5050"/>
                </a:solidFill>
                <a:latin typeface="Arial"/>
                <a:ea typeface="Times New Roman"/>
              </a:rPr>
              <a:t>T</a:t>
            </a:r>
            <a:r>
              <a:rPr b="1" i="1" lang="ru-RU" sz="2800" spc="-1" strike="noStrike">
                <a:solidFill>
                  <a:srgbClr val="ff5050"/>
                </a:solidFill>
                <a:latin typeface="Arial"/>
                <a:ea typeface="Times New Roman"/>
              </a:rPr>
              <a:t>п/</a:t>
            </a:r>
            <a:r>
              <a:rPr b="1" i="1" lang="en-US" sz="2800" spc="-1" strike="noStrike">
                <a:solidFill>
                  <a:srgbClr val="ff5050"/>
                </a:solidFill>
                <a:latin typeface="Arial"/>
                <a:ea typeface="Times New Roman"/>
              </a:rPr>
              <a:t>K</a:t>
            </a:r>
            <a:r>
              <a:rPr b="1" i="1" lang="ru-RU" sz="2800" spc="-1" strike="noStrike">
                <a:solidFill>
                  <a:srgbClr val="ff5050"/>
                </a:solidFill>
                <a:latin typeface="Arial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коэффициент режима рабо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708360" y="4292640"/>
            <a:ext cx="1440000" cy="428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4900680"/>
            <a:ext cx="48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эффициент безопасност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03640" y="5084640"/>
            <a:ext cx="2232360" cy="416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5702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эффициент нагрузк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 = 1,0...1,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для спокойной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-ударной и реверсивной нагруз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-154440"/>
            <a:ext cx="9144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Компенсирующая, амортизирующая</a:t>
            </a:r>
            <a:r>
              <a:rPr b="1" i="1" lang="en-US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и демпфирующая способности муфт</a:t>
            </a:r>
            <a:r>
              <a:rPr b="0" lang="ru-RU" sz="2400" spc="-1" strike="noStrike">
                <a:solidFill>
                  <a:srgbClr val="ff505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а муфт - компенсировать  отклонения от соосности соединяемых в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237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4164480"/>
            <a:ext cx="9144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иды смещения осей от соосного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Изгибающие и перерезывающие нагруз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системе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ал - муфта – опо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можно сниз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и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пенсирующих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виж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пругих муф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-154080"/>
            <a:ext cx="914400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Постоянные глухие муфты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олняют лишь соединительные функ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зуя жесткое соединение в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х применяют  для соединения строго соосных валов агрег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Втулочные муф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ставляю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обой втулку надеваемую с зазором на концы валов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х применяют для соединения вало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70 м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ужный диаметр муфты :       D = ( 1,5 – 1,6 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диаметр 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ина муфты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 = ( 2,5 - 4,0 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определяется длиной шпонок или шлицев). На муфты имеется стандар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982" t="0" r="59453" b="3404"/>
          <a:stretch/>
        </p:blipFill>
        <p:spPr>
          <a:xfrm>
            <a:off x="2281320" y="3154320"/>
            <a:ext cx="45957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86220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Фланцевые муфт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Фланцевая муфта состоит из двух одинаковых полумуфт, выполненных в виде ступицы с фланцем. Фланцы соединяют болтами. Различают два конструктивных исполн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4434" r="0" b="0"/>
          <a:stretch/>
        </p:blipFill>
        <p:spPr>
          <a:xfrm>
            <a:off x="3635280" y="3257640"/>
            <a:ext cx="5184720" cy="281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3055320" y="3624840"/>
            <a:ext cx="5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41617" t="0" r="0" b="0"/>
          <a:stretch/>
        </p:blipFill>
        <p:spPr>
          <a:xfrm>
            <a:off x="324000" y="3284640"/>
            <a:ext cx="2808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71640" y="-3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5050"/>
                </a:solidFill>
                <a:latin typeface="Arial"/>
              </a:rPr>
              <a:t>КОМПЕНСИРУЮЩИЕ И УПРУГИЕ ПОСТОЯННЫЕ МУФ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Компенсирующие муфты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708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Крестовая муф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допускает соединение валов с большими взаимными   смещениями   осей  ( &lt;0,0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360" y="1052640"/>
            <a:ext cx="1009800" cy="345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 rot="10800000">
            <a:off x="0" y="1410840"/>
            <a:ext cx="896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оит   из   двух полумуфт 1 и 3 с направляющими пазами и промежуточного диска 2 с крестообразно расположенными выступ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rcRect l="0" t="7031" r="42950" b="3515"/>
          <a:stretch/>
        </p:blipFill>
        <p:spPr>
          <a:xfrm>
            <a:off x="1778040" y="2060640"/>
            <a:ext cx="55306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-1440"/>
            <a:ext cx="914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Зубчатые муф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яют в высоконагруженных конструкциях для валов с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от 40 до 200 мм. Допускают угловое смещение до 1,5° при радиальном смещен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16882" t="0" r="0" b="0"/>
          <a:stretch/>
        </p:blipFill>
        <p:spPr>
          <a:xfrm>
            <a:off x="2627280" y="692280"/>
            <a:ext cx="1081080" cy="312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920" y="907200"/>
            <a:ext cx="72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расстояние между зубчатыми соединениями муф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rcRect l="57818" t="0" r="0" b="2344"/>
          <a:stretch/>
        </p:blipFill>
        <p:spPr>
          <a:xfrm>
            <a:off x="0" y="1268280"/>
            <a:ext cx="3780000" cy="5384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211640" y="972360"/>
            <a:ext cx="4932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Муфта состоит из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тулк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 – обоймы  с внешними и внутренн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вольвентными зубь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52680" y="2132640"/>
            <a:ext cx="45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эффициент высоты  головки  зуб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084720" y="2421000"/>
            <a:ext cx="1297080" cy="372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90560" y="380736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2840040"/>
            <a:ext cx="543564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единение втулок с валом осуществляется шпонкой или шлиц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вращении валов, установленных с перекосом, происходит циклическое смещение (продольное и радиальное) зубьев втулок относительно обойм. Это смещение вызывает износ зубьев. Для повышения износостойкости внутрь муфты заливают ма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бор муфт производится по расчетному вращающему моменту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04:36:42Z</dcterms:created>
  <dc:creator>Рябчук</dc:creator>
  <dc:description/>
  <dc:language>en-US</dc:language>
  <cp:lastModifiedBy>Рябчук</cp:lastModifiedBy>
  <dcterms:modified xsi:type="dcterms:W3CDTF">2006-11-13T08:20:50Z</dcterms:modified>
  <cp:revision>6</cp:revision>
  <dc:subject/>
  <dc:title>Муфты. Корпусные детали Уплотнения. Пружины.</dc:title>
</cp:coreProperties>
</file>