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206-D175-4307-967F-8ED7D17B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DB42-AD8F-476A-9623-C634D93E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444-8247-4FE6-A98E-7F29FBBA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18B-613A-4B6C-98D6-9C58A0E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2AE9-3047-462D-9438-19A60352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E380-8622-4483-8E0C-336B8515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1F24-098E-4571-A511-660D00B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BF8F-7F17-4195-9A09-8AEB0926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A084-B043-4F9B-832E-FB3D3CE1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1A24-9E3D-4FB1-8A8D-C0CD0388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007-FFD3-4CBB-8B45-0A8D5C20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7EA-D06E-478C-BDB2-83ECB16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DB0A-2429-4C63-BB00-62B91389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393E-F6F1-4AE2-8EE4-800A0A7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75D9-9F10-41A8-AADF-F82B86EF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A9DD-E376-4F7D-B029-4DC728FF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2445-30DB-435C-9159-78D82A3E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141B-B85C-4F5B-B4D6-2D6BA04D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DC0F1-A5BB-434C-B519-A3616B82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3F0E-1B52-4519-B140-255907B5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CE799-49F5-4BF4-8AF4-32367B1B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4CCE7-040B-48B3-8001-3E57A7C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CA83-56A1-4A8D-92BF-DCDEBAA8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8CA1-AE8C-48C1-A146-3A69FB9F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654DF-E961-46ED-AE5F-575134E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F32A-20DA-4A6D-84D6-7FA9E7D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0EF0-93B7-46F3-94AC-8D67C1D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BA83-B125-4A0B-A50F-5F16A68B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6DC6D-E381-483C-B20A-ADA43D82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FE78A-EBE7-450D-A7DF-B8129CA5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3D3-945A-4253-9BDE-32D0E19F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2707-1E67-4A7D-8137-A84755EA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D2D-374B-4088-A31A-F8FAA3BF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4D5-E873-447C-BB3D-9D209BE4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0BB-B00A-46E9-8CAB-2C67E495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C793-FEE8-4150-A044-4EC198AD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E2BE-43F9-448A-9B6E-6CBBD064D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66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BF15-3A1C-4996-A49C-5DF3561F2C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66ffcc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66ffcc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6ff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66ffcc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8CF-913D-44D2-BFCC-08D6EEB367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jpe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image" Target="../media/image77.png"/><Relationship Id="rId6" Type="http://schemas.openxmlformats.org/officeDocument/2006/relationships/image" Target="../media/image7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7432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фрикционны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f01"/>
                </a:solidFill>
                <a:latin typeface="Tahoma"/>
              </a:rPr>
              <a:t>передачи с жесткими звенья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48243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Прикладная мех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Лек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492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Фрикционные пере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68000" y="22050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фрикционные передач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          </a:t>
            </a: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с гибкими звеньям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3933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(РЕМЕННЫЕ      ПЕРЕДА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-551520"/>
            <a:ext cx="9144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"/>
                <a:ea typeface="Times New Roman"/>
              </a:rPr>
              <a:t>.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ОБЩИЕ СВЕДЕНИЯ О РЕМЕННЫХ ПЕРЕДА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Ременная передача --фрикционный механизм с гибки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звень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ит из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вух шкив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вяз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собой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емн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его помощью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ют дви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араллельными и перекрещ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ающимися ва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вращающимися в одну или в противоположные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форме сечения ремня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различ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плоско-, кругло- и клиноременные переда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Достоинства передач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сть передачи движения на большие расстояния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 8...10 м и бол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тота конструкции,  малая стоимость, быстроходность, плавность и бесшумность работы, малая чувствительность к перегрузкам и удар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Недостатки переда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изкая долговечностью ремня ,большие габарит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ельные нагрузки на валы и опо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остоянство передаточного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менную передачу применяют обычно в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быстроходной ступен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используя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понижающ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авливая ведущий шкив на вал двигате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ваемая мощность — до 50 кВ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окружная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корость до 40...50 м/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  максимальное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точное отно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804000" y="6492960"/>
            <a:ext cx="198360" cy="2775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110360" y="646380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5...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669040" y="226080"/>
            <a:ext cx="423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Схема ременной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848720" cy="54100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205440" y="6165000"/>
            <a:ext cx="29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Сечения ремней 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б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—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52083" t="0" r="0" b="0"/>
          <a:stretch/>
        </p:blipFill>
        <p:spPr>
          <a:xfrm>
            <a:off x="1332000" y="3213000"/>
            <a:ext cx="6649920" cy="2924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rcRect l="0" t="0" r="45904" b="0"/>
          <a:stretch/>
        </p:blipFill>
        <p:spPr>
          <a:xfrm>
            <a:off x="1332000" y="476280"/>
            <a:ext cx="6702480" cy="2611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547640" y="6236640"/>
            <a:ext cx="67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Перекрестная (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)        и полуперекрестная (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)    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28589" b="2016"/>
          <a:stretch/>
        </p:blipFill>
        <p:spPr>
          <a:xfrm>
            <a:off x="0" y="3030480"/>
            <a:ext cx="6273720" cy="3827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-165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МЕХАНИКА РЕМЕН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вижение ремня по шкиву сопровождается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упругим скольжением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к обоим концам ремня подвешены одинаковые гру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ы тяжести  грузов создадут на дуге обхвата контактные напряжения (давления),  при этом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ет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емня получат одинаковые относительные деформации растяжен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де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Е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жесткость сечения ремня при растяжени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3419640" y="1628640"/>
            <a:ext cx="1800000" cy="428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000" y="2421000"/>
            <a:ext cx="717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ое натяжение ремня вызывает деформацию ветв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164360" y="2421000"/>
            <a:ext cx="1800360" cy="385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335640" y="2924280"/>
            <a:ext cx="280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o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усилие начального натяжени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действии вращающего момент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е и деформация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едущей  ветв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едачи увеличатся  т .к.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1&gt;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0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яжения и деформац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едомой ветв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 этом уменьшатся т.к.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2&lt;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77840" y="-55440"/>
            <a:ext cx="89661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уменьшении натяжения ветв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до велич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тносительное    удлинение этой ветви также уменьшится до  </a:t>
            </a:r>
            <a:r>
              <a:rPr b="1" i="1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носительное  сокращение длины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</a:t>
            </a:r>
            <a:r>
              <a:rPr b="1" i="1" lang="en-US" sz="2000" spc="-1" strike="noStrike" baseline="30000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- </a:t>
            </a:r>
            <a:r>
              <a:rPr b="1" i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</a:t>
            </a:r>
            <a:r>
              <a:rPr b="1" i="1" lang="en-US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й ветви ремня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пространитс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доль ремня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 дуге обхва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точки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</a:t>
            </a:r>
            <a:r>
              <a:rPr b="0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очке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ызывая скольжени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мня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шкиву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320" y="1762920"/>
            <a:ext cx="90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жение и деформации ремня прекратятся в некоторой точке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уги обхва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положение определяется из равенства  с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724360" y="2421000"/>
            <a:ext cx="1295640" cy="39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940360" y="3211560"/>
            <a:ext cx="32036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дуге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В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мень будет находиться в по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гол  </a:t>
            </a: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дуге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ют  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углом обхват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8101080" y="4797360"/>
            <a:ext cx="503280" cy="422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651640" y="5004000"/>
            <a:ext cx="349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дуге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В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    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углом скольж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жение ремня связано с его упругими свойствами, и называется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пруг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05480" y="42840"/>
            <a:ext cx="358920" cy="3160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949800" y="241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37440" y="2421000"/>
            <a:ext cx="6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rcRect l="34843" t="0" r="0" b="0"/>
          <a:stretch/>
        </p:blipFill>
        <p:spPr>
          <a:xfrm>
            <a:off x="0" y="2825640"/>
            <a:ext cx="55800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34843" t="0" r="0" b="0"/>
          <a:stretch/>
        </p:blipFill>
        <p:spPr>
          <a:xfrm>
            <a:off x="0" y="2997360"/>
            <a:ext cx="5329080" cy="3635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0"/>
            <a:ext cx="9144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ложение точк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шкиве зависит от нагрузок и условий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ежиме холостого хо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точка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почти совпадать  с точкой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 мере увеличения  момента  сопроти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504720" cy="427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12536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а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смещаться по шкиву к точке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 при некотором предельном значении мо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340000" y="1484280"/>
            <a:ext cx="719280" cy="485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-14400" y="1512720"/>
            <a:ext cx="91440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нь будет скользить по всей дуге обхва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точка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местится с точкой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оследующее увеличение мо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480960" cy="50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61120" y="2274840"/>
            <a:ext cx="36385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едет к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буксовани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ремень будет обегать    неподвижный ведомый шки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-217800"/>
            <a:ext cx="91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Полезная нагруз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окружное усили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емое передачей в основном за счет сил трения, находится из со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l</a:t>
            </a:r>
            <a:r>
              <a:rPr b="1" i="1" lang="ru-RU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 = 2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</a:t>
            </a:r>
            <a:r>
              <a:rPr b="1" i="1" lang="en-US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l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/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</a:t>
            </a:r>
            <a:r>
              <a:rPr b="1" i="1" lang="ru-RU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151632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диаметр ведущего шк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431640" cy="377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973800" y="17002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rcRect l="34843" t="0" r="0" b="0"/>
          <a:stretch/>
        </p:blipFill>
        <p:spPr>
          <a:xfrm>
            <a:off x="971640" y="2192400"/>
            <a:ext cx="684036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19080" y="-29880"/>
            <a:ext cx="9077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Кинематика пере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ращении ведущего  шкива с угловой скоростью  </a:t>
            </a:r>
            <a:r>
              <a:rPr b="1" lang="en-US" sz="20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кружная     скорост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780000" y="830160"/>
            <a:ext cx="1728720" cy="3985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833040" y="2142360"/>
            <a:ext cx="76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е упругого скольжения ремня  под  нагрузк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635280" y="1268280"/>
            <a:ext cx="2664000" cy="500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-470880" y="1843920"/>
            <a:ext cx="93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едаточное отношени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. е. отношение угловых скоростей шки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rcRect l="0" t="-8616" r="20495" b="0"/>
          <a:stretch/>
        </p:blipFill>
        <p:spPr>
          <a:xfrm>
            <a:off x="2987640" y="2421000"/>
            <a:ext cx="2809800" cy="865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28680" y="334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-326880" y="3241800"/>
                <a:ext cx="1141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826920" y="328356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лено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203640" y="3284640"/>
            <a:ext cx="863640" cy="353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067280" y="3131280"/>
            <a:ext cx="43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ля плоскоременных передач и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2340000" y="3716280"/>
            <a:ext cx="2089080" cy="3621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64392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ля клиноременных пере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силия   в  переда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Усил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971640" y="4869000"/>
            <a:ext cx="792000" cy="487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48963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начального натяжен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м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 для обеспечения работоспособности передачи. Оно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ызывает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етвях ремня си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3276720" y="5734080"/>
            <a:ext cx="2958840" cy="460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87120" y="6490440"/>
            <a:ext cx="6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2843280" y="6499080"/>
            <a:ext cx="331560" cy="358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23920" y="6429960"/>
            <a:ext cx="71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клона ветви ремня к линии центров передач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6160" y="134136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домого шк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-28080"/>
            <a:ext cx="914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ращающий момен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Т</a:t>
            </a:r>
            <a:r>
              <a:rPr b="1" i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1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яет усилия до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дущей и ведомой ветвях. Связь между этими усилиями определяется зависим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17629" t="65764" r="13515" b="0"/>
          <a:stretch/>
        </p:blipFill>
        <p:spPr>
          <a:xfrm>
            <a:off x="2916360" y="746280"/>
            <a:ext cx="3168360" cy="660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67400"/>
            <a:ext cx="9144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ru-RU" sz="20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ц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тихоходных передач при скорости рем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3640" y="1773360"/>
            <a:ext cx="1081080" cy="361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4000" y="1728000"/>
            <a:ext cx="86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/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у инерции можно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читывать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огда выражение приобретает вид формулы Л. Эйлера из которой     можно на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3"/>
          <a:srcRect l="0" t="0" r="17787" b="0"/>
          <a:stretch/>
        </p:blipFill>
        <p:spPr>
          <a:xfrm>
            <a:off x="3203640" y="2584440"/>
            <a:ext cx="3024000" cy="542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188880"/>
            <a:ext cx="88930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Усилие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</a:t>
            </a:r>
            <a:r>
              <a:rPr b="1" i="1" lang="ru-RU" sz="1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0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ачального натяжения ветвей рем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жно приближенно выразить через усилия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</a:t>
            </a:r>
            <a:r>
              <a:rPr b="1" i="1" lang="ru-RU" sz="1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1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F</a:t>
            </a:r>
            <a:r>
              <a:rPr b="1" i="1" lang="ru-RU" sz="1800" spc="-1" strike="noStrike" baseline="-30000">
                <a:solidFill>
                  <a:srgbClr val="000099"/>
                </a:solidFill>
                <a:latin typeface="Arial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етвях работающей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rcRect l="23215" t="0" r="26117" b="0"/>
          <a:stretch/>
        </p:blipFill>
        <p:spPr>
          <a:xfrm>
            <a:off x="2700360" y="3811680"/>
            <a:ext cx="2509920" cy="169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6012000" y="4437000"/>
                <a:ext cx="3204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-327240" y="5444280"/>
            <a:ext cx="50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Сил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действующая на вал передачи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5"/>
          <a:srcRect l="0" t="0" r="20131" b="50857"/>
          <a:stretch/>
        </p:blipFill>
        <p:spPr>
          <a:xfrm>
            <a:off x="1979640" y="5824440"/>
            <a:ext cx="2952720" cy="532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-2609640" y="5585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6"/>
          <a:srcRect l="30012" t="50857" r="20131" b="0"/>
          <a:stretch/>
        </p:blipFill>
        <p:spPr>
          <a:xfrm>
            <a:off x="4932360" y="5835600"/>
            <a:ext cx="1800360" cy="519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7"/>
          <a:stretch/>
        </p:blipFill>
        <p:spPr>
          <a:xfrm>
            <a:off x="1835280" y="6546960"/>
            <a:ext cx="36036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2270160" y="65826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03240" y="64911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го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360" y="450792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F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2160" y="43657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1440" y="284040"/>
            <a:ext cx="914544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ОБЩИЕ С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Фрикционная передач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еханизм, в котором движение одного жесткого звена передается другому звену за счет сил т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ключ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едущий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ведомы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оп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меняется для преобразования параметров вращательного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или преобразования в поступательное движение ведомо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Достоин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ота конструкции, плавность движения ,бесшумность, удобство регулирования частоты вращения ведомого зв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Недостат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ие нагрузки на опоры, взаимное проскальзывание кат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Звень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передач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могут име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цилиндрическу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форму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оническую , сферическу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рижати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- необходимое условие работы переда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Могут иметь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остоянное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передаточное отно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нерегулируемые перед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зменяем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еремен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передаточное отно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вариатор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Распространены вариато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конусные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многодисковые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шаровые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оровые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иапазон передаваемых мощностей обычно находится в пределах до 10 кВ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 больших мощностях трудно обеспечить необходимое усилие прижатия кат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17094" b="0"/>
          <a:stretch/>
        </p:blipFill>
        <p:spPr>
          <a:xfrm>
            <a:off x="2556000" y="836640"/>
            <a:ext cx="4608360" cy="434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74600" y="3262320"/>
            <a:ext cx="8834400" cy="346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-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Напряжения в ремне пере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я в сечениях ветвей ремня от внешней нагруз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337680" y="1699920"/>
            <a:ext cx="86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Кроме эт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новных напряжений в точках ремня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будут действовать  напряжения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042920" y="1989000"/>
            <a:ext cx="487440" cy="365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546200" y="1988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1979640" y="1989000"/>
            <a:ext cx="503280" cy="4413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396160" y="1988640"/>
            <a:ext cx="412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от центробежных сил и изгиба ремн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63760" y="33145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5"/>
          <a:stretch/>
        </p:blipFill>
        <p:spPr>
          <a:xfrm>
            <a:off x="3203640" y="2276640"/>
            <a:ext cx="1944720" cy="4633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90040" y="278064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1616040" y="4284720"/>
            <a:ext cx="314280" cy="190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476360" y="2730600"/>
            <a:ext cx="74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,2...1,25 г/см' —плотность прорезиненных  плоских и клиновых ремней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04680" y="1268280"/>
            <a:ext cx="31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се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м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1187280" y="2852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2995560" y="6448320"/>
            <a:ext cx="491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спределение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напряжений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о контуру рем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9640" y="9108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Для клинового ремня максимальные напряжения изгиба в крайних волокнах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-2979720" y="1614600"/>
                <a:ext cx="1141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3348000" y="502200"/>
            <a:ext cx="2376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 Е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427640" y="692280"/>
                <a:ext cx="11412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0" y="90756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— приведенный модуль упругости рем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для прорезиненных рем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200...300 МПа, для капроновых ремне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600 МПа, для клиновых корд-тканевых ремне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00...600 МП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Напряжения изги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32000" cy="3952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 flipV="1" rot="10800000">
            <a:off x="-1800" y="1771920"/>
            <a:ext cx="89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 переменными, они вызывают усталостное               разрушение ремн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ля уменьшения этих напря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граничивают минимальные значения диаметра малого шкива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нимаю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720720" cy="385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3067920"/>
            <a:ext cx="9144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25...4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Максимальное растягивающее напря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дет действовать в точке набегания ремня на шкив меньшего ди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2484360" y="4365720"/>
            <a:ext cx="3743280" cy="550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0" y="5012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дин пробег рем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шкивам в нем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важды будут действовать максимальные напряж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динаковой интенсивности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6732720" y="5373720"/>
            <a:ext cx="720720" cy="322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-145080" y="5660280"/>
            <a:ext cx="43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еодинаковой интенсивности п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4211640" y="5734080"/>
            <a:ext cx="863640" cy="3301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-2979720" y="555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3736800" y="6251400"/>
            <a:ext cx="1729080" cy="5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-288000" y="0"/>
            <a:ext cx="95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РАСЧЕТ ПАРАМЕТРОВ ПЕРЕ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актике расчет клиноременной передачи часто выполняют по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ваемой мощ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24360" y="633240"/>
            <a:ext cx="1079280" cy="441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12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требуемое число ремн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читывают 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rcRect l="0" t="0" r="61030" b="0"/>
          <a:stretch/>
        </p:blipFill>
        <p:spPr>
          <a:xfrm>
            <a:off x="3492360" y="1557360"/>
            <a:ext cx="1305000" cy="7794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5796000" y="2708280"/>
            <a:ext cx="228600" cy="181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0" y="227628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мощность, допускаемая на один рем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Основными геометрическими параметрами передачи являю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диаметры шкив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411280" y="3141720"/>
            <a:ext cx="432000" cy="404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87640" y="314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3492360" y="3141720"/>
            <a:ext cx="505080" cy="4492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05200" y="3504960"/>
            <a:ext cx="39571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межосевое расстоя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длина ремн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гол обхвата на меньшем шк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4140360" y="4292640"/>
            <a:ext cx="502920" cy="4366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501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граничения напряжений изгиба 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диаметр меньшего шки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ычно принимают несколько большим  диаметра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4643280" y="5300640"/>
            <a:ext cx="720720" cy="3859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228240" y="5589000"/>
            <a:ext cx="43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ого сечения клинового ремн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8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4427640" y="5905440"/>
            <a:ext cx="2376360" cy="64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0" y="504360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102600" y="5560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-1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Минимальное межосевое 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иноременной передачи на основании опыта проектирования и эксплуатации приним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2627280" y="755640"/>
            <a:ext cx="3529080" cy="4953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-1076400" y="-3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334800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-1076400" y="76680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0" y="13402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Максимальное межосевое расстоя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экономическим соображениям (во избежание увеличения габаритов и стоимости ремней) рекомендуют ограничивать знач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826920" y="2997360"/>
          <a:ext cx="2192400" cy="699840"/>
        </p:xfrm>
        <a:graphic>
          <a:graphicData uri="http://schemas.openxmlformats.org/drawingml/2006/table">
            <a:tbl>
              <a:tblPr/>
              <a:tblGrid>
                <a:gridCol w="2192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Угол обхвата меньшего шки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"/>
          <p:cNvSpPr/>
          <p:nvPr/>
        </p:nvSpPr>
        <p:spPr>
          <a:xfrm>
            <a:off x="-1074600" y="29451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-1076400" y="-3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492360" y="3008160"/>
            <a:ext cx="4104000" cy="5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5" name=""/>
          <p:cNvGraphicFramePr/>
          <p:nvPr/>
        </p:nvGraphicFramePr>
        <p:xfrm>
          <a:off x="-1076400" y="364824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0" y="39135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Требуемая длина рем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открытой передачи при заданном (или желательном) межосевом расстоя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4211640" y="4267080"/>
            <a:ext cx="576360" cy="449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930560" y="4291560"/>
            <a:ext cx="188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794640" y="4221000"/>
            <a:ext cx="461880" cy="5032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013760" y="4867920"/>
            <a:ext cx="79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ется как сумма прямолинейных участков и дуг об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403280" y="5499000"/>
            <a:ext cx="6481800" cy="5572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-104760" y="6155280"/>
            <a:ext cx="94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у ремня передач с натяжным роликом также находят из геометриче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б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188640"/>
            <a:ext cx="914400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РЕМНИ И ШК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лоские рем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ют прямоугольное сеч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каные ремн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толщину 0,5 и 0,7 мм, их изготовляют из капроновых тканей Модуль упругости ремней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00...1370 М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пряжение начального натяжения рем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-4402080" y="290196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-14400" y="22269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..10 М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руглые рем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жаные, капроновые и др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меня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 машинах малой мощ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швейных и бытовых машинах, настольных станках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линовые ремн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 в настоящее время основное применение., допускают значение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8...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без натяжного ролика. Эт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менее быстроход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до 25 м/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КПД ниже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..2 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  применяются лишь в открытой сх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оликлиновые ремн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обны клино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ти ремни имеют  большую поперечную жесткость.При одинаковой мощност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поликлиновыми ремням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более компактны и быстроход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Шкив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готовляют из чугуна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Ч1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Ч1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легких сплавов,пластасс для тихоходдных  передач из сталей при окружных скоростях свыше 30 м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а об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т от профиля ре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ь канавок шкивов клиновых ремней выполняют по ГОСТ 20898—8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12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Лекция  заверш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0" r="0" b="72943"/>
          <a:stretch/>
        </p:blipFill>
        <p:spPr>
          <a:xfrm>
            <a:off x="611280" y="404640"/>
            <a:ext cx="8064360" cy="2910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50054" t="30181" r="0" b="39738"/>
          <a:stretch/>
        </p:blipFill>
        <p:spPr>
          <a:xfrm>
            <a:off x="5292720" y="3416400"/>
            <a:ext cx="3456000" cy="2778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rcRect l="0" t="65649" r="46204" b="4024"/>
          <a:stretch/>
        </p:blipFill>
        <p:spPr>
          <a:xfrm>
            <a:off x="539640" y="3395520"/>
            <a:ext cx="3816360" cy="2835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35280" y="-10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хемы  пере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53289" t="3414" r="0" b="3414"/>
          <a:stretch/>
        </p:blipFill>
        <p:spPr>
          <a:xfrm>
            <a:off x="1619280" y="3627360"/>
            <a:ext cx="6408720" cy="311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rcRect l="740" t="10242" r="46622" b="3414"/>
          <a:stretch/>
        </p:blipFill>
        <p:spPr>
          <a:xfrm>
            <a:off x="250920" y="692280"/>
            <a:ext cx="8656560" cy="2725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19280" y="-10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Схемы      вариаторов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-14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Кинематика передач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948360" y="4762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47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нерегулируемой передаче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окружная скорость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едомого   катк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колько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меньше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124000" y="836640"/>
            <a:ext cx="360360" cy="3110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46044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едущего катка из-за их взаимного проскальзывания ка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Влияние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роскальзывания учитываю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помощью </a:t>
            </a:r>
            <a:r>
              <a:rPr b="1" i="1" lang="en-US" sz="2000" spc="-1" strike="noStrike">
                <a:solidFill>
                  <a:srgbClr val="0066cc"/>
                </a:solidFill>
                <a:latin typeface="Arial"/>
                <a:ea typeface="Times New Roman"/>
              </a:rPr>
              <a:t>коэффициента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771640" y="1700280"/>
            <a:ext cx="3168720" cy="716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2427480"/>
            <a:ext cx="63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го величину определяют    экспериментально,     обы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659640" y="2565360"/>
            <a:ext cx="2232000" cy="482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283920"/>
            <a:ext cx="36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Скорость ведомого к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3492360" y="3141720"/>
            <a:ext cx="2089440" cy="68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4160" y="4133880"/>
            <a:ext cx="98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340000" y="4221000"/>
            <a:ext cx="4248000" cy="576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4853880"/>
            <a:ext cx="88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 </a:t>
            </a: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передаточное отношение механизма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 отношению угловых скоростей ведущего и ведомого катков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556000" y="5877000"/>
            <a:ext cx="2808000" cy="74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0" y="53118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3132000" y="50198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братно пропорционально диаметрам кат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771640" y="4508640"/>
            <a:ext cx="3313080" cy="75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3850" t="503" r="51594" b="73949"/>
          <a:stretch/>
        </p:blipFill>
        <p:spPr>
          <a:xfrm>
            <a:off x="2290680" y="399960"/>
            <a:ext cx="4434120" cy="3387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2412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Усилия в передач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(статика передач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486600"/>
            <a:ext cx="9144000" cy="14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домый каток диаметром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d</a:t>
            </a:r>
            <a:r>
              <a:rPr b="1" i="1" lang="ru-RU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2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ует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момент сопроти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внешняя нагрузка)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T</a:t>
            </a:r>
            <a:r>
              <a:rPr b="1" i="1" lang="ru-RU" sz="24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то для его преодоления требуется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олезная окружная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-13680" y="5444280"/>
            <a:ext cx="18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-888840" y="3795840"/>
            <a:ext cx="152280" cy="1904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160520" y="5414040"/>
            <a:ext cx="36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сила трения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411280" y="5300640"/>
            <a:ext cx="1513080" cy="615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580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десь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коэффициент трения ка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0,5— для пары роликов из стали или чугуна при работе в мас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 0,1 ...0,15 — для пары сталь — текстолит без сма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576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Для уменьшения проскальзы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атков (из-за вибрации, перегрузок и др.) в процессе работы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оздаю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запас сце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2160360" cy="517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5886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овых передачах обычно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К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,25...1,5, в приборах -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обходимое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усилие прижати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340000" y="3068640"/>
            <a:ext cx="4824360" cy="5763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132120" y="3864960"/>
            <a:ext cx="739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илие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F</a:t>
            </a:r>
            <a:r>
              <a:rPr b="1" i="1" lang="en-US" sz="2800" spc="-1" strike="noStrike" baseline="-30000">
                <a:solidFill>
                  <a:srgbClr val="a50021"/>
                </a:solidFill>
                <a:latin typeface="Arial"/>
                <a:ea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оказыв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существенно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больш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093080" y="4149720"/>
            <a:ext cx="647640" cy="4762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240" y="4723200"/>
            <a:ext cx="62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имер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при 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=1,5 и </a:t>
            </a:r>
            <a:r>
              <a:rPr b="1" lang="ru-RU" sz="2400" spc="-1" strike="noStrike">
                <a:solidFill>
                  <a:srgbClr val="000099"/>
                </a:solidFill>
                <a:latin typeface="Symbol"/>
                <a:ea typeface="Symbol"/>
              </a:rPr>
              <a:t>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= 0,01 уси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е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780000" y="5300640"/>
            <a:ext cx="2376360" cy="482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3600" y="603432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  <a:ea typeface="Times New Roman"/>
              </a:rPr>
              <a:t>Это требует примен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специальных нажимных устрой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увеличенных габарит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подшипников, жестких валов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-144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РАСЧЕТЫ ПЕРЕ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выполняют по допускаемым контактным напряжения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549360"/>
            <a:ext cx="865080" cy="501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26000" y="2098080"/>
            <a:ext cx="171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59280" y="1076400"/>
            <a:ext cx="2160360" cy="70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600" y="27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2060640"/>
            <a:ext cx="4737240" cy="4797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003640" y="1989000"/>
            <a:ext cx="41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ринимают в зависимости от твердости поверхности кат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ля металлической пары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 работе в масл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50880" y="19162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588000" y="1844640"/>
            <a:ext cx="576360" cy="434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292720" y="400536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при работе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ухую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без  смазочного 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012000" y="3500280"/>
            <a:ext cx="576000" cy="4352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156360" y="4653000"/>
            <a:ext cx="576360" cy="4348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804720" y="47242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1,2..,1,5) Н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61080" y="355752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(2,5.,,3) Н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5920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Межосевое  расстояния передач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определяется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2489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3" name="" descr=""/>
          <p:cNvPicPr/>
          <p:nvPr/>
        </p:nvPicPr>
        <p:blipFill>
          <a:blip r:embed="rId1"/>
          <a:srcRect l="-152" t="0" r="15398" b="0"/>
          <a:stretch/>
        </p:blipFill>
        <p:spPr>
          <a:xfrm>
            <a:off x="2195640" y="981000"/>
            <a:ext cx="5038560" cy="10731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227556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Знак плюс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формуле ставится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и внешнем контакте кат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а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знак минус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при внутрен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ыводе этого соотношения учтено равенств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843280" y="3429000"/>
            <a:ext cx="309564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70560" y="414864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Ширина ка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ня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rcRect l="0" t="0" r="43892" b="0"/>
          <a:stretch/>
        </p:blipFill>
        <p:spPr>
          <a:xfrm>
            <a:off x="4788000" y="4149720"/>
            <a:ext cx="1873080" cy="458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03640" y="4723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rcRect l="77213" t="0" r="0" b="0"/>
          <a:stretch/>
        </p:blipFill>
        <p:spPr>
          <a:xfrm>
            <a:off x="3995640" y="4724280"/>
            <a:ext cx="863640" cy="5176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31840" y="4723560"/>
            <a:ext cx="42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коэффициент  ширины катка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1981080" y="26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340000" y="5877000"/>
            <a:ext cx="4319640" cy="79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554040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0" y="522684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известном межосевом расстоянии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  <a:ea typeface="Times New Roman"/>
              </a:rPr>
              <a:t>диаметры кат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ходятся из форму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3T11:44:19Z</dcterms:created>
  <dc:creator>Рябчук</dc:creator>
  <dc:description/>
  <dc:language>en-US</dc:language>
  <cp:lastModifiedBy>Рябчук</cp:lastModifiedBy>
  <dcterms:modified xsi:type="dcterms:W3CDTF">2006-09-19T17:21:49Z</dcterms:modified>
  <cp:revision>34</cp:revision>
  <dc:subject/>
  <dc:title>Лекции по ПМ и ДМ и ОК</dc:title>
</cp:coreProperties>
</file>