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20.png" ContentType="image/png"/>
  <Override PartName="/ppt/media/image57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58.png" ContentType="image/png"/>
  <Override PartName="/ppt/media/image21.png" ContentType="image/png"/>
  <Override PartName="/ppt/media/image60.png" ContentType="image/png"/>
  <Override PartName="/ppt/media/image23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64B-7C88-4C70-9A06-A4551098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C1D-6CED-442E-A19E-02D67C7F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8B3-8992-4C7F-B5CF-42C7923E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620-A591-4A19-A4B8-7F99CD81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12E-859D-483B-8205-32AA5381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445-DEC8-4306-A0DD-F68057F8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197-2EE6-45BC-94BA-E3EE50E4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71B-35E3-4E49-B6EA-97F120F7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42C-A285-47FE-9DCC-7FDD4B29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9EF-EAF5-4486-9C0F-D0DD19BE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CD1-C5AA-46F2-BB02-49D46444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F393-0510-4CF8-9001-79FBA587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31A9-38A6-4997-B250-3E6D2DFF5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Основные принципы инженерных расчетов. </a:t>
            </a:r>
            <a:br>
              <a:rPr sz="4000"/>
            </a:br>
            <a:r>
              <a:rPr b="0" i="1" lang="en-US" sz="3600" spc="-1" strike="noStrike">
                <a:solidFill>
                  <a:srgbClr val="a50021"/>
                </a:solidFill>
                <a:latin typeface="Arial"/>
              </a:rPr>
              <a:t>Напряженное состояние дет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000" y="4653000"/>
            <a:ext cx="7667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Леккция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Рябчук С.А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-145800"/>
            <a:ext cx="9144000" cy="3416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Закон Гу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противлении материалов изучаются деформации и напряжения ,.возникающие в реальных твердых телах под действием различных нагрузок, а также общие методы расчета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чность, жесткость и устойч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ы деформ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евое растяжение, осевое сжатие,сдвиг, кручение, изги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стяжение (сжати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вид деформации, при котором в поперечном сечении стержня возникает только продольная растягивающая (сжимающая) сила</a:t>
            </a: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х случаях равнодействующая системы внешних сил будет равн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ь растягиваемого стержня широко используется в расчетах болтов, ремней    передач, стержней ферм, лопаток турбин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573360"/>
            <a:ext cx="50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мся  считать продольную силу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ожительной (т. е. присвоим знак плюс), если она растягивает стержень, и отрицательной — если сжим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46571" t="0" r="0" b="19489"/>
          <a:stretch/>
        </p:blipFill>
        <p:spPr>
          <a:xfrm>
            <a:off x="0" y="2997360"/>
            <a:ext cx="2430360" cy="3860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0" y="5516640"/>
            <a:ext cx="68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уравнения равновесие верхней отсеченной части получ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621648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;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+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 плюс показывает, что стержень растя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75560"/>
            <a:ext cx="9144000" cy="6732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оженная в центре тяжести произвольного сечения стержня  , является равнодействующей внутренних си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708360" y="765000"/>
            <a:ext cx="863640" cy="363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35080"/>
            <a:ext cx="4824360" cy="642600"/>
          </a:xfrm>
          <a:prstGeom prst="rect">
            <a:avLst/>
          </a:prstGeom>
          <a:solidFill>
            <a:srgbClr val="def6f1"/>
          </a:solidFill>
          <a:ln w="9360">
            <a:solidFill>
              <a:srgbClr val="def6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дки поперечного сечения площадь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708360" y="1628640"/>
            <a:ext cx="1440000" cy="660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2276280"/>
            <a:ext cx="9144000" cy="916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редположить, что плоские поперечные сечения стержня смещаются при растяжении, оставаясь плоскими (гипотеза плоских сечений), то нормальные напряжения во всех точках сечения должны быть одинаковыми, т.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211640" y="3213000"/>
            <a:ext cx="1512720" cy="351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3644280"/>
            <a:ext cx="914400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ывая эту гипотезу,  получ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348000" y="4005360"/>
            <a:ext cx="1079640" cy="380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08000" y="4507920"/>
            <a:ext cx="93528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276720" y="4508640"/>
            <a:ext cx="1342800" cy="407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5328000"/>
            <a:ext cx="9144000" cy="10087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им образом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льное напряжение в поперечном сечении стержня при растяжении равно продольной силе в этом же сечении поделенной на площадь сечения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50480" y="8366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ействующих на бесконечно мал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14400" y="43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ржень постоянного сечения площадью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действием осевых растягивающих сил удлиняется на величи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17920" y="633240"/>
            <a:ext cx="1655640" cy="328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987480"/>
            <a:ext cx="9144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Это приращение называетс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ым или абсолютным удлинением при растяжени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28280"/>
            <a:ext cx="9144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иболее удобной мерой деформации являетс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носительное удлинен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емо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инейной деформ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16360" y="2492280"/>
            <a:ext cx="3311280" cy="530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660760" y="3044160"/>
            <a:ext cx="6483240" cy="11221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а обычно выражается в процентах от начальной дл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жатии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ют относительным укороч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826880"/>
            <a:ext cx="9144000" cy="1236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длинение стержня в осевом направлении сопровождается          уменьшением его поперечных размер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никает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перечная деформация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ржн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140360" y="3645000"/>
            <a:ext cx="431640" cy="345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rcRect l="0" t="0" r="52921" b="19489"/>
          <a:stretch/>
        </p:blipFill>
        <p:spPr>
          <a:xfrm>
            <a:off x="149400" y="2349360"/>
            <a:ext cx="23158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35720"/>
            <a:ext cx="914400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Ширина стержня под действием си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уменьшится на величин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32720" y="198360"/>
            <a:ext cx="1800000" cy="384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611640"/>
            <a:ext cx="5141880" cy="703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носительная поперечная де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64000" y="765000"/>
            <a:ext cx="2448000" cy="501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400" y="1550160"/>
            <a:ext cx="14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547640" y="1628640"/>
            <a:ext cx="1800360" cy="466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283120"/>
            <a:ext cx="42847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кспериментально получено: для ста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284720" y="2421000"/>
            <a:ext cx="393480" cy="449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58920" y="2786400"/>
            <a:ext cx="29527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люминиевых сплав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4211640" y="2924280"/>
            <a:ext cx="431640" cy="298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63640" y="3219840"/>
            <a:ext cx="2232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медных сплав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284720" y="3284640"/>
            <a:ext cx="385560" cy="452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716360" y="3353760"/>
            <a:ext cx="93204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0,3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8120" y="1700280"/>
            <a:ext cx="41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эффициентом Пуасс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720" y="24922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,25...0,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4000" y="292428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,3...0,3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606840"/>
            <a:ext cx="9144000" cy="27021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З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а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к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о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н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Г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у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к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ду напряжениями и малыми деформациями существует линейная зависимость, называем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оном Гу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« деформации материала элемента в каждой его точке прямо пропорциональ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яжениям в этой же точке как в процессе нагружения, так и при разгруз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та зависимост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3348000" y="6093000"/>
            <a:ext cx="1224000" cy="390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6334200"/>
            <a:ext cx="86756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коэффициент пропорциональности, именуемы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улем упругост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51120"/>
            <a:ext cx="31338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данным экспериментов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411280" y="836640"/>
            <a:ext cx="273240" cy="4017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835920"/>
            <a:ext cx="367344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(2...2,2)*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М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— для ста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411280" y="1197000"/>
            <a:ext cx="2448000" cy="336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59280" y="1196280"/>
            <a:ext cx="309744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титановых сплав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340000" y="1557360"/>
            <a:ext cx="322200" cy="322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627280" y="1419480"/>
            <a:ext cx="475308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,7*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М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для алюминиевых сплав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284720" y="2349360"/>
            <a:ext cx="2520720" cy="385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0" y="2702520"/>
            <a:ext cx="9144000" cy="19227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эффициент продольной податливости стержн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ед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ываю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жесткостью сечения стержн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Удлинения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стержня переменного (ступенчатого) сечения определяют по участкам (ступеням) и результаты суммируют алгебраичес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4067280" y="4508640"/>
            <a:ext cx="1439640" cy="795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5502240"/>
            <a:ext cx="9144000" cy="1355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асчете упругих перемещений стержня от нескольких сил применяю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 независимости действия си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стержня от действия группы сил может быть получ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сумма перемещений от действия каждой силы в отд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89000"/>
            <a:ext cx="75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кон Гука для растянутого (сжатого)  стержн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можно записать в ви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403280" y="2781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577120" y="5084640"/>
            <a:ext cx="355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номер участка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/=1,2, ...,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60480"/>
            <a:ext cx="9144000" cy="1160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МЕТОДЫ   РАСЧЕТА  ЭЛЕМЕНТОВ КОНСТРУК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ибольшее распространение получил метод расчета по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допускаемому напряжен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Условие прочности имеет вид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1584360" cy="546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11280" y="2276640"/>
            <a:ext cx="792000" cy="350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476360" y="2138760"/>
            <a:ext cx="63007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ибольшее напряжение в  детали от ожидаемой нагрузки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715480"/>
            <a:ext cx="9144000" cy="14655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каемое напряжение, свойственное принятому материалу и типу де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начение допускаемого напряжения является ответственным этапом расчета и проектир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433080" cy="346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4084200"/>
            <a:ext cx="9144000" cy="14648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инженерных расчетах допускаемые напряжения используют в основном для предварительных расчетов, связанных с приближенным определением основных размеров дета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Значения допускаемых напряжений приведены в справочниках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245520"/>
            <a:ext cx="9144000" cy="6732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простран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расч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о запасам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 р о ч н ос т 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 Условие про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843280" y="765000"/>
            <a:ext cx="2448000" cy="476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0" y="1340280"/>
            <a:ext cx="5219640" cy="4597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коэффициент запаса проч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988280"/>
            <a:ext cx="914400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ельное на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492280"/>
            <a:ext cx="9144000" cy="14655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альное напряжение в опасной точке дета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личина необходимого запаса прочности имеет стабильн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овия проч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каемым напряжения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асам проч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вязаны соотнош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419640" y="4005360"/>
            <a:ext cx="1873080" cy="4665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4507920"/>
            <a:ext cx="896472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действи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ических нагруз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ногда использую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ас прочности по несущей                   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348000" y="5021280"/>
            <a:ext cx="1584360" cy="4777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0" y="5569560"/>
            <a:ext cx="9144000" cy="11545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стационарных долговременных сооружений коэффициент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ен  2...5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авиационной технике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1,5...2   и    т. 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чно расчет по запасам прочности используют в качестве проверочного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39640" y="256536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468360" y="1989000"/>
            <a:ext cx="79200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МЕХАНИЧЕСКИЕ СВОЙСТВА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КОНСТРУ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3080" y="-36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Испытания материалов при растя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ханические свойства материалов  выявляются при испытаниях образцов на растяжение под нагруз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14560" y="1197000"/>
            <a:ext cx="7129440" cy="3211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21114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4000" y="1557360"/>
          <a:ext cx="1547640" cy="2287440"/>
        </p:xfrm>
        <a:graphic>
          <a:graphicData uri="http://schemas.openxmlformats.org/drawingml/2006/table">
            <a:tbl>
              <a:tblPr/>
              <a:tblGrid>
                <a:gridCol w="154764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скиз стандартного образц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испытаний материалов при растяж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0" y="45864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фик зависимости между растягивающей  сил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удлинением образц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596360" y="5734080"/>
            <a:ext cx="336240" cy="352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509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ывают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граммой растяжения. Получе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грамму перестраивают в координат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971640" y="5734080"/>
            <a:ext cx="792000" cy="336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52240" y="5708880"/>
            <a:ext cx="635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т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ьшения масштаб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  и  абсци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8244000" y="4797360"/>
            <a:ext cx="50472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7885080" y="5522760"/>
            <a:ext cx="982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-720"/>
            <a:ext cx="9144000" cy="1557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арактеристики прочности материа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грамму можно условно разделить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етыр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з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ервая зо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зывается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оной упруг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здесь свойства материала на участк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чиняются закону Гу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132000" y="1341360"/>
            <a:ext cx="3097440" cy="363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0" y="1699920"/>
            <a:ext cx="9144000" cy="423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ибольшее напряжение               называю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елом пропорцион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576360" cy="436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2255040"/>
            <a:ext cx="9144000" cy="398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пряжение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точке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зывают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пред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547640" y="2276640"/>
            <a:ext cx="576360" cy="401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54040" y="2708280"/>
            <a:ext cx="794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личина предела упругости близка к пределу пропорциональности. матери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395280" y="3179880"/>
            <a:ext cx="8352000" cy="3678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438520" y="2276640"/>
            <a:ext cx="27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упругости</a:t>
            </a:r>
            <a:r>
              <a:rPr b="0" i="1" lang="en-US" sz="14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акт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436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831600"/>
            <a:ext cx="9107640" cy="8597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09560"/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МОДЕЛИ ПРОЧНОСТНОЙ НАДЕ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9560"/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9560"/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определения прочностной надежности детали используют вспомогательные моде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иала, формы, нагружения (сил) и разруш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9560"/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9560"/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 расчетах прочностной надеж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атери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етали представляют однородной сплошной средой.Под однородностью материала понимают независимость его свойств от размеров выделенного объе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9560"/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опротивлении материалов в основном рассматриваются изотропные матери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9560"/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четная модель материала наделяется такими физическими свойствами,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9560"/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пругость, пластичность и ползуче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9560"/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9560"/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пругость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войство тела (детали) восстанавливать свою форму после снятия внешней нагру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9560"/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ластичность 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йство тела сохранять после разгрузки полностью или частично деформацию, полученную при нагружени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9560"/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09560"/>
                <a:tab algn="l" pos="160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лзучесть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йство тела увеличивать со временем деформацию при действии внешних сил (например, вытяжка канат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-162360"/>
            <a:ext cx="9144000" cy="20682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Втор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зон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ывается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зоной общей пласт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этой зоне для некоторых материалов (например, малоуглеродистой стали) наблюдается почти горизонтальный участок —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дка текуче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отрезо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грамм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яжение, при котором в материале появляется заметное удлинение без увеличения напряжения называю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елом  текучест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720720" cy="450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1645920"/>
            <a:ext cx="9144000" cy="2493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Трет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зон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зона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упроч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при последующем нагружении материал приобретает способность воспринимать без остаточных деформаций большие нагру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ение повышения упругих свойств материала носит наз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леп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гартов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леп может быть снят термической обработкой — отжи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292640"/>
            <a:ext cx="91440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Четверту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ону называют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зоной  местной текуче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 удлинение образца сопровождается образованием местного сужения —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ейк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многих материалов разрушение происходит без заметного образования шей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9843" r="2853" b="0"/>
          <a:stretch/>
        </p:blipFill>
        <p:spPr>
          <a:xfrm>
            <a:off x="0" y="476280"/>
            <a:ext cx="8497800" cy="3801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-4295880" y="136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4294080" y="1317600"/>
            <a:ext cx="18072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472280"/>
            <a:ext cx="9144000" cy="1145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альное напряжение на диаграмме, которое способен выдержать образец, называют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елом прочност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временным сопротивлением) и обозначаю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4000" y="53737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55640" y="5444280"/>
            <a:ext cx="187344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при сжа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771640" y="5516640"/>
            <a:ext cx="792360" cy="388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17640" y="6165000"/>
            <a:ext cx="119556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2124000" y="6093000"/>
            <a:ext cx="503280" cy="4269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842200" y="6236640"/>
            <a:ext cx="30888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3348000" y="6093000"/>
            <a:ext cx="503280" cy="366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601440" y="6092280"/>
            <a:ext cx="470232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яда материалов сведены в табл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-120240"/>
            <a:ext cx="9144000" cy="13107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Пластичность и хруп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стичностью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имается способность мате­риала получать большие остаточные деформации без разру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рой пластичности является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тносительное остаточное удлинение образца после разрыва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1513080" cy="439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132000" y="10674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лина   образц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 испытан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708360" y="1413000"/>
            <a:ext cx="320760" cy="368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356000" y="1290960"/>
            <a:ext cx="4788000" cy="5806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 разрыва ,составленного  из двух час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708360" y="1052640"/>
            <a:ext cx="260280" cy="309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1654560"/>
            <a:ext cx="9144000" cy="20408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астичность является важным конструкционным свойством. Опыты показали, что детали из малопластичных материалов плохо сопротивляются переменным нагрузк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Хрупкостью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ывается способность материала разрушаться без образования заметных остаточных деформа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таких материалов удлинение при разрыв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ет доли процента . Это свой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тивоположно свойству пласти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219640" y="2637000"/>
            <a:ext cx="3924360" cy="253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3924360" y="3573360"/>
          <a:ext cx="1295280" cy="157968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Диаграммы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растяж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для  хрупк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и  пластичн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2181240" y="33660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" y="521388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ление материалов на пластичные и хрупкие является условным. В зависимости от напряженного состояния, скорости деформирования, температуры и других условий пластичность меняется. Материал, показавший себя хрупким при обычной температуре, может вести себя при других условиях как пластичный, и наобор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 изготовлении конкретных деталей широко пользуются термообработкой, которая позволяет изменять свойства материалов в нужном направл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1413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2600" y="69120"/>
            <a:ext cx="9144000" cy="6686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лияние температур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зультаты механических испытаний материалов обычно относятся к так называемым нормальным условиям, т. е. к температуре 20 °С, при которой производятся испытания в лабораториях, и к сравнительно небольшим скоростям     изменения      нагруз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ногие детали машин работают в самых различных температурных режим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хлопные клапаны в автомобильных двигателях работают при 500...800 СС, а детали того же самого двигателя, соприкасающиеся с внешней средой, иногда работают при весьма низких температурах. Элементы холодильных установок и резервуары, содержащие сжиженные газы, работают при очень низких температу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лияние температуры и фактора времени на механические характеристики материала в общем виде выявить не удается. Поэтому влияние указанных факторов в настоящее время рассматривается применительно к конкретным задач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Явление снижения пластичности малоуглеродистой стали при повышении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температуры называется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охрупчиванием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легированных сталях это явление не наблюд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и статическом нагружении, начиная с некоторых значений температур, заметно начинает сказываться фактор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Изменение деформаций и напряжений, возникающих в нагруженной детали в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процессе работы , носит название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ползучести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Самопроизвольное изменение напряжений в деталях, работающих в условиях высоких температур, при неизменной деформации называют</a:t>
            </a:r>
            <a:r>
              <a:rPr b="0" lang="en-US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релаксацией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на является частным проявлением ползуче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-27000" y="2808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Рассеяние механических характеристик материал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ческим характеристикам материал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98880" y="512640"/>
            <a:ext cx="1800360" cy="411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811440"/>
            <a:ext cx="9144000" cy="50292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5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ельно большое рассеяние для серии идентичных образцов, изготовленных из материала даже одной плавки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ричинами рассеяния являютс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ия в микроструктур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пень дефектности метал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еяние размеров образц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ность измерения нагрузок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buClr>
                <a:srgbClr val="00000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плавочное  рассеяние  механических свойств, вызванным случайными        вариациями химического состава и металлургических факторов в каждой плав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66cc"/>
                </a:solidFill>
                <a:latin typeface="Arial"/>
                <a:ea typeface="Times New Roman"/>
              </a:rPr>
              <a:t>Таким образом, </a:t>
            </a:r>
            <a:r>
              <a:rPr b="1" i="1" lang="ru-RU" sz="2000" spc="-1" strike="noStrike">
                <a:solidFill>
                  <a:srgbClr val="0066cc"/>
                </a:solidFill>
                <a:latin typeface="Arial"/>
                <a:ea typeface="Times New Roman"/>
              </a:rPr>
              <a:t>механические характеристики материала являются случайными величинами, определяемыми с некоторой вероятностью</a:t>
            </a:r>
            <a:r>
              <a:rPr b="1" i="1" lang="ru-RU" sz="1800" spc="-1" strike="noStrike">
                <a:solidFill>
                  <a:srgbClr val="0066cc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5960" y="54936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ойств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843280" y="371628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Лекция         заверш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4400" y="-208800"/>
            <a:ext cx="9144000" cy="2502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Модели формы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рактике для оценки прочностной надежност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лементов конструк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водят упрощение в геометрию детали, приводя ее к сх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тержня (бруса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ластин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оболоч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массива (пространственного те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7130880" cy="2708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0920" y="5516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тержень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ольцо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круглая пластин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оболочка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с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136440"/>
            <a:ext cx="9144000" cy="3385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Модели нагру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Если элемент конструкции (деталь) рассматривается изолированно от сопряженных деталей, то действие последних заменяется силами, называемым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ы взаимодействия между частями отдельной детали или между деталями в сопряжении называю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нутренним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ое деление сил  носит условн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хематизации условий работы в расчеты вводят упрощение в систему сил, подразделяя их условно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редоточенн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ные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ные  (массовы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3213000"/>
            <a:ext cx="6842160" cy="25923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0" y="5851080"/>
            <a:ext cx="9144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характеру изменения во времени нагрузки подразделяют н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ические и переме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62880" y="4869000"/>
            <a:ext cx="220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хемы нагр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уда  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болта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2655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609000"/>
            <a:ext cx="9144000" cy="3111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грузка характеризуется: амплитудой силы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й сило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отой нагружени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формой цик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лоцикловое нагру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уск и остановки машины) - число циклов нагружений не превышает 1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ногоциклов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сли число циклов нагружения превышает 1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1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о характерно для деталей длительно работающих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одели  разру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условий нагружения различ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    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статическ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малоциклового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усталостног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ногоциклового) разруш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72360" y="1052640"/>
            <a:ext cx="23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 нагрузок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ическа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08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По характеру изменения во времени нагрузки подразделяют н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татические и переме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840"/>
            <a:ext cx="9144000" cy="37753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ВНУТРЕННИЕ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нутренние силы представляют собой силы  межатомного взаимодействия , возникающие внутри детали при воздействии на н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х нагруз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нахождения внутренних с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ют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метод сечений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нутренние силы распредел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сечению. Если привести систему внутренних сил к центру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яжести сечения, то для рассматриваемой части  тела  можно  определи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лавный  вектор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нутренних сил, действующих по сечен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323640" cy="360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064200"/>
            <a:ext cx="6443640" cy="10065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система внешних сил удовлетворяет условиям равновес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о  отсеченная часть также должна находиться в равновес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0" r="52821" b="0"/>
          <a:stretch/>
        </p:blipFill>
        <p:spPr>
          <a:xfrm>
            <a:off x="6588000" y="6369120"/>
            <a:ext cx="1297080" cy="488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rcRect l="0" t="0" r="51675" b="9374"/>
          <a:stretch/>
        </p:blipFill>
        <p:spPr>
          <a:xfrm>
            <a:off x="3851280" y="476280"/>
            <a:ext cx="3382920" cy="2490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rcRect l="44293" t="0" r="0" b="11718"/>
          <a:stretch/>
        </p:blipFill>
        <p:spPr>
          <a:xfrm>
            <a:off x="3708360" y="3645000"/>
            <a:ext cx="42688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00" y="295200"/>
            <a:ext cx="914400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ных сечениях возникают различные внутренни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естим в точк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истему коорди­на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yz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разложим главный вектор на составляющие по этим осям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0" r="0" b="49892"/>
          <a:stretch/>
        </p:blipFill>
        <p:spPr>
          <a:xfrm>
            <a:off x="3419640" y="1271520"/>
            <a:ext cx="2016000" cy="647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091240"/>
            <a:ext cx="9144000" cy="3209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и составляющие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нутренними силовыми факторами в сечени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юща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ываю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льн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ольной сило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зывает деформацию растяжения или сжа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ющи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пендикулярны нормали и стремятся сдвинуть одну часть тела относительно другой, их на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перечными сил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нные силовые факторы находят из уравнения равновесия для одной из отсеченных ча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0" t="0" r="0" b="43478"/>
          <a:stretch/>
        </p:blipFill>
        <p:spPr>
          <a:xfrm>
            <a:off x="2411280" y="5516640"/>
            <a:ext cx="39610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-61920"/>
            <a:ext cx="9144000" cy="20142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НАПРЯЖЕНИЯ  И ДЕФОРМАЦИИ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ОЧКЕ</a:t>
            </a:r>
            <a:r>
              <a:rPr b="1" i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лужа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оценки нагруженности детале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мер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нтенсивность внутренних сил взаимодейств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Напря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отрим сечени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ла.. В окрестности произвольной точ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делим элементарную площад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00360" y="1628640"/>
            <a:ext cx="463680" cy="325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-9360" y="1926360"/>
            <a:ext cx="882000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равнодействующую внутренних сил на этой площадке обознач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24720" y="1916280"/>
            <a:ext cx="433440" cy="304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4360" y="2138760"/>
            <a:ext cx="13683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но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136600" y="2298600"/>
            <a:ext cx="936720" cy="290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58920" y="2499120"/>
            <a:ext cx="324000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дке.        Если площад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16360" y="2637000"/>
            <a:ext cx="432000" cy="374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076720" y="2499120"/>
            <a:ext cx="4067280" cy="12218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меньшать , то в пределе получ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яжение в точ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7272360" y="3573360"/>
            <a:ext cx="1871640" cy="743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142080" y="2276640"/>
            <a:ext cx="515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ставляет собой среднее напряжение на да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rcRect l="0" t="0" r="1536" b="2895"/>
          <a:stretch/>
        </p:blipFill>
        <p:spPr>
          <a:xfrm>
            <a:off x="0" y="3405240"/>
            <a:ext cx="6486480" cy="3452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3356640"/>
            <a:ext cx="334800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хемы действия внутрен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сил  и напря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-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576360" cy="33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03280" y="-164880"/>
            <a:ext cx="5400720" cy="7520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но разложить на составляющие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норм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452520" cy="312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40000" y="266760"/>
            <a:ext cx="388764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касательну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перерезывающую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156360" y="476280"/>
            <a:ext cx="503280" cy="315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27480"/>
            <a:ext cx="4500720" cy="1404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этим составляющим можно опред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  <a:ea typeface="Times New Roman"/>
              </a:rPr>
              <a:t>нормально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кас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132000" y="1484280"/>
            <a:ext cx="409680" cy="517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03280" y="1762920"/>
            <a:ext cx="1728720" cy="703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я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356000" y="1557360"/>
            <a:ext cx="4032360" cy="799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>
            <a:alphaModFix amt="0"/>
          </a:blip>
          <a:stretch/>
        </p:blipFill>
        <p:spPr>
          <a:xfrm>
            <a:off x="1835280" y="2421000"/>
            <a:ext cx="5040360" cy="2681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980240"/>
            <a:ext cx="9144000" cy="1875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апряжения имеют размерность силы, деленной на площа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истеме СИ напряжения выражаются в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аскалях (П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 Па = = 1 Н/м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1  МПа=10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Па=10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Н/м2=1  Н/мм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49800" y="40464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ля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4:10:40Z</dcterms:created>
  <dc:creator>Рябчук</dc:creator>
  <dc:description/>
  <dc:language>en-US</dc:language>
  <cp:lastModifiedBy>Рябчук</cp:lastModifiedBy>
  <dcterms:modified xsi:type="dcterms:W3CDTF">2006-09-12T11:09:44Z</dcterms:modified>
  <cp:revision>26</cp:revision>
  <dc:subject/>
  <dc:title>Основные модели прочностной надежности и принципы инженерных расчетов</dc:title>
</cp:coreProperties>
</file>