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3539-5289-49DF-BCD4-752F46FB3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3BAF-B3B2-4C68-B5E9-5D9E4B87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C255-8D2E-4C3A-85E5-F891CD802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7AC9-0B59-4951-AF94-B1D918492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DFD2-012B-45B3-AEA7-526517FA3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3864-0741-4ACF-8625-7340277D9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23DF-C81F-402B-9209-A9A696EE0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1CDF-304B-49FD-BF97-9E8A0A2C7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440E-6277-42F4-B616-ABA592787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A53F-3FEB-4B46-B3D3-0A870E9C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4105-C13F-44F3-89A9-7DC67509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DBEA-4B50-48F5-B361-2FF1646F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69506-E495-424D-AFE8-D2D986201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СОЕДИНЕНИЯ ЭЛЕМЕНТОВ КОНСТРУКЦИЙ</a:t>
            </a: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0066cc"/>
                </a:solidFill>
                <a:latin typeface="Arial"/>
              </a:rPr>
              <a:t>Часть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4764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Arial"/>
              </a:rPr>
              <a:t>Неразъемные соеди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ШЛИЦЕВЫЕ СОЕДИН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9144000" cy="20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Arial"/>
              </a:rPr>
              <a:t>Шлицевое соединение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структивно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подобно многошпоночном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Применяют для неподвижного и подвижного соединения валов со ступицами колес шкивов, дисков и т. 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ни имеют меньшие радиальные габариты, высокую несущую способность, взаимозаменяемы и обеспечивают хорошее центрирование детал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 форме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различают три типа соединен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прямобочные , эвольвентные  и треугольны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0" t="0" r="1965" b="6323"/>
          <a:stretch/>
        </p:blipFill>
        <p:spPr>
          <a:xfrm>
            <a:off x="179280" y="2548080"/>
            <a:ext cx="5040360" cy="3740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rcRect l="0" t="0" r="0" b="13526"/>
          <a:stretch/>
        </p:blipFill>
        <p:spPr>
          <a:xfrm>
            <a:off x="5148360" y="2592360"/>
            <a:ext cx="3995640" cy="1528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rcRect l="0" t="0" r="0" b="8621"/>
          <a:stretch/>
        </p:blipFill>
        <p:spPr>
          <a:xfrm>
            <a:off x="5292720" y="4641840"/>
            <a:ext cx="385128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720"/>
            <a:ext cx="9144000" cy="17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асчет соедин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Зубья рассчитывают на смятие, как и шпоночные соединени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Условие прочностной надежност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по допускаемым напряжениям смятия имее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44720" y="1412280"/>
            <a:ext cx="8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ид 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85139" b="0"/>
          <a:stretch/>
        </p:blipFill>
        <p:spPr>
          <a:xfrm>
            <a:off x="2627280" y="1268280"/>
            <a:ext cx="720720" cy="6876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rcRect l="69659" t="0" r="0" b="0"/>
          <a:stretch/>
        </p:blipFill>
        <p:spPr>
          <a:xfrm>
            <a:off x="3348000" y="1341360"/>
            <a:ext cx="1079640" cy="5270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rcRect l="0" t="0" r="28380" b="0"/>
          <a:stretch/>
        </p:blipFill>
        <p:spPr>
          <a:xfrm>
            <a:off x="2195640" y="2133720"/>
            <a:ext cx="3456000" cy="7189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0" y="2635560"/>
            <a:ext cx="9144000" cy="11962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1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средний диаметр соединения;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- число зубье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- соответственно высота и длина поверхности контакта зубье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116000" y="3645000"/>
            <a:ext cx="304920" cy="4921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385280" y="3715200"/>
            <a:ext cx="7343640" cy="7038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0,7...0,8 — коэф., учитывающий концентрацию контакт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авлений   на  краях  соединен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900000" y="4508640"/>
            <a:ext cx="863640" cy="4395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562400" y="4434120"/>
            <a:ext cx="7072200" cy="8254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—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опускаемое напряжение смятия на боков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верхностях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930240" y="84600"/>
            <a:ext cx="766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ШТИФТОВЫЕ СОЕДИ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Штифтовые соединения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меняют при небольших нагрузках преимущественно в приборострое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481800" cy="28764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429444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В машиностроении  используют штиф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с канавками, вальцованные, резьбовые, разрез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е типы штифтов стандартизов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х изготовляют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з углеродистых сталей 30, 45, 5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характеру работы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штифтовое соединение подобно заклепочному</a:t>
            </a: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 соединению (работает на срез и смятие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Для расчета соединения используются  те же  зависимости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619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Arial"/>
              </a:rPr>
              <a:t>Продолжение  с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Arial"/>
              </a:rPr>
              <a:t>часть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188280"/>
            <a:ext cx="9144000" cy="94752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915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СОЕДИНЕНИЯ ТИПА ВАЛ-СТУПИЦА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с натягом)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осуществляется за счет  разности посадочных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размер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Таким способом соединяют детали с соосными поверхностями конта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76720" y="981000"/>
            <a:ext cx="2927160" cy="2952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829880" y="3933000"/>
            <a:ext cx="5603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единени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андаж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с колесом и колеса с осью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шипника с ва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629600"/>
            <a:ext cx="9144000" cy="228852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единения собирают преимущественно механическим и «тепловым» способ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Достоинства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простота изготовления, хорошее центрирование и фиксирование взаимного положения сопрягаемых деталей, воспринимают значительные статические и динамические нагруз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Недостат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сложность демонтажа и возможность повреждения посадочных поверхностей, контактная коррозия и снижение прочности соединений при переменных нагрузка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взаимное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осевое смещ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067280" y="1125360"/>
            <a:ext cx="1441440" cy="505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32360" y="2637000"/>
            <a:ext cx="2521080" cy="496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2124000" y="3141720"/>
            <a:ext cx="2702160" cy="2519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-276120"/>
            <a:ext cx="9144000" cy="16794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Критерием работоспособности соединени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являютс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несущая способн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прочность сцепления)  и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прочность детал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Условие взаимной неподвиж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прочности сцепления) деталей соедин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541520"/>
            <a:ext cx="9144000" cy="4172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Q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 внешняя сдвигающая  нагрузка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i="1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 сила сцепления  (трени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762920"/>
            <a:ext cx="5003640" cy="7038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Сдвигающее усил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может быть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осевы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5292720" y="2060640"/>
            <a:ext cx="1224000" cy="517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539640" y="2708280"/>
          <a:ext cx="4249440" cy="431280"/>
        </p:xfrm>
        <a:graphic>
          <a:graphicData uri="http://schemas.openxmlformats.org/drawingml/2006/table">
            <a:tbl>
              <a:tblPr/>
              <a:tblGrid>
                <a:gridCol w="4249440"/>
              </a:tblGrid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ли 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окружным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тангенциальным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"/>
          <p:cNvSpPr/>
          <p:nvPr/>
        </p:nvSpPr>
        <p:spPr>
          <a:xfrm>
            <a:off x="1800" y="3659400"/>
            <a:ext cx="180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4686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16360" y="39333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хемы си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соедин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-380520" y="5660280"/>
            <a:ext cx="990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совместном действии осевой силы и вращающего момента принимаю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3059280" y="6093000"/>
            <a:ext cx="2016000" cy="571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3773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3960"/>
            <a:ext cx="9144000" cy="673200"/>
          </a:xfrm>
          <a:prstGeom prst="rect">
            <a:avLst/>
          </a:prstGeom>
          <a:solidFill>
            <a:srgbClr val="def6f1"/>
          </a:solidFill>
          <a:ln w="9360">
            <a:solidFill>
              <a:srgbClr val="def6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Сила сцепле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тре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 образуется на поверхности контакта деталей благодаря контактным напряжениям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от начальной деформации детал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38425" t="0" r="0" b="0"/>
          <a:stretch/>
        </p:blipFill>
        <p:spPr>
          <a:xfrm>
            <a:off x="3203640" y="836640"/>
            <a:ext cx="1817640" cy="4744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1340280"/>
            <a:ext cx="7812000" cy="45972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— номинальное  (среднее)  контактное напряж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476360" y="1989000"/>
            <a:ext cx="2808360" cy="22845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5003640" y="2013120"/>
            <a:ext cx="3313440" cy="22748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4291560"/>
            <a:ext cx="9144000" cy="7038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Условие взаимной неподвижност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деталей соединения определяется неравенств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2916360" y="4869000"/>
            <a:ext cx="1800000" cy="5461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-174240" y="3483360"/>
            <a:ext cx="27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5402520"/>
            <a:ext cx="6156360" cy="106956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— диаметр и длина сопряже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ткуда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нагрузочная способност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соединения :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6300720" y="5734080"/>
            <a:ext cx="1728720" cy="77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55640" y="6490440"/>
            <a:ext cx="7201080" cy="3682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оэффициент запаса сцепления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вны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 1,5 ...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826920" y="75240"/>
            <a:ext cx="67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четный диаметральный натяг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219640" y="0"/>
            <a:ext cx="514440" cy="5540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485280"/>
            <a:ext cx="9144000" cy="10742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δ</a:t>
            </a:r>
            <a:r>
              <a:rPr b="1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Р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</a:t>
            </a:r>
            <a:r>
              <a:rPr b="1" i="1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А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1" i="1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  <a:ea typeface="Times New Roman"/>
              </a:rPr>
              <a:t>В предварительных расчетах допускаю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что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контактные напряжения одинаковы во всех точках поверхностей контак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-36360" y="109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вен раз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садочных диамет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835280" y="1484280"/>
            <a:ext cx="5364000" cy="32637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24000" y="4644000"/>
            <a:ext cx="79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Радиальные перемещен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очек контакта (имеют разные знак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2700360" y="5373720"/>
            <a:ext cx="3995640" cy="5698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332000" y="6075360"/>
            <a:ext cx="6048360" cy="4320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1" i="1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 номинально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тактное напряжение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02520" y="409464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07920" y="4875840"/>
            <a:ext cx="38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0" y="3661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9280" y="4212360"/>
            <a:ext cx="8064720" cy="7038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Осевое усилие запрессовки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еталей можно вычислить по формуле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635280" y="4762440"/>
            <a:ext cx="1657440" cy="503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5258880"/>
            <a:ext cx="9144000" cy="10900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 </a:t>
            </a:r>
            <a:r>
              <a:rPr b="1" i="1" lang="ru-RU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наибольшую полезную сдвигающую нагрузку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по этой же формуле пр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1" i="1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оответствующ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360" y="42940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276720" y="5877000"/>
            <a:ext cx="790560" cy="4698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340000" y="5877000"/>
            <a:ext cx="355680" cy="414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773080" y="58770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4"/>
          <a:srcRect l="0" t="53030" r="15820" b="0"/>
          <a:stretch/>
        </p:blipFill>
        <p:spPr>
          <a:xfrm>
            <a:off x="4572000" y="2060640"/>
            <a:ext cx="4572000" cy="973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rcRect l="0" t="0" r="15820" b="53030"/>
          <a:stretch/>
        </p:blipFill>
        <p:spPr>
          <a:xfrm>
            <a:off x="0" y="2060640"/>
            <a:ext cx="4392720" cy="934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1052640"/>
            <a:ext cx="91440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коэф.</a:t>
            </a: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радиальной</a:t>
            </a: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  податлив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ета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и коэффициенты зависят от радиальных размеров и материалов детале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539640" y="1052640"/>
            <a:ext cx="397080" cy="433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1547640" y="1052640"/>
            <a:ext cx="422280" cy="476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971640" y="1051560"/>
            <a:ext cx="5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Arial"/>
              </a:rPr>
              <a:t>ШПОНОЧНЫЕ СОЕДИ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-1080"/>
            <a:ext cx="9374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Шпоночным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зывается соединение соосных деталей с помощью шпон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Шпонк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— специальная деталь, размещаемая в пазах вала и ступицы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92360" y="1341360"/>
            <a:ext cx="5400720" cy="32083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24000" y="482760"/>
            <a:ext cx="8367480" cy="94752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  <a:ea typeface="Times New Roman"/>
              </a:rPr>
              <a:t>В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  <a:ea typeface="Times New Roman"/>
              </a:rPr>
              <a:t>машиностроении применяю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стандартизованн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призматические, сегментные, клиновые,цилиндрическ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шпонк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4172040"/>
            <a:ext cx="9144000" cy="234972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  <a:ea typeface="Times New Roman"/>
              </a:rPr>
              <a:t>Достоинств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простота конструкции, невысокая стоимости изготовления, удобство сборки и разбор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Призматические  шпонки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спользуются в конструкциях чаще. Они имеют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ям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гольное сечение с отношением высоты к ширине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/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валов диаметром до 22 мм  -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/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1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а для валов больших диаметров - до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/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0,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110280"/>
            <a:ext cx="9144000" cy="97812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600 МП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Сегментные шпонки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спользуют в основном на малонагруженных участках в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093080" y="6237360"/>
            <a:ext cx="792000" cy="404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5840" y="6265800"/>
            <a:ext cx="68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Материал шпоно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— чистотянутая сталь с пределом то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4400" y="-12348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Критерии работоспособности и расчеты соедин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Шпоночные соединения выходят из строя из-за смятия  рабочих граней. Возможен также и срез шпон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Прочностную надежность соединен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оценивают по напряжениям см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564000" y="1341360"/>
            <a:ext cx="863640" cy="576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24000" y="1340640"/>
            <a:ext cx="3024000" cy="3988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 рабочих граня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rcRect l="0" t="0" r="31847" b="0"/>
          <a:stretch/>
        </p:blipFill>
        <p:spPr>
          <a:xfrm>
            <a:off x="3564000" y="2276640"/>
            <a:ext cx="2700360" cy="5778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2963160"/>
            <a:ext cx="9144000" cy="83052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вращающий момент;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1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1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рабочая длина шпонки ;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1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0,4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- глубин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резания шпонки в ступиц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54040" y="3616920"/>
            <a:ext cx="7689960" cy="9630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Рабочую длину шпонки 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ℓ</a:t>
            </a:r>
            <a:r>
              <a:rPr b="1" i="1" lang="ru-RU" sz="2800" spc="-1" strike="noStrike" baseline="-30000">
                <a:solidFill>
                  <a:srgbClr val="000099"/>
                </a:solidFill>
                <a:latin typeface="Arial"/>
                <a:ea typeface="Times New Roman"/>
              </a:rPr>
              <a:t>р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можно определить из соотно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565992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верку прочности шпонок на срез обычно не производя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Если условие прочности не выполняется, то используют две шпонки, установленные под углом 120 или 180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rcRect l="0" t="0" r="41716" b="0"/>
          <a:stretch/>
        </p:blipFill>
        <p:spPr>
          <a:xfrm>
            <a:off x="2811600" y="4881600"/>
            <a:ext cx="2226960" cy="6904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rcRect l="71240" t="0" r="0" b="0"/>
          <a:stretch/>
        </p:blipFill>
        <p:spPr>
          <a:xfrm>
            <a:off x="5275440" y="4836960"/>
            <a:ext cx="1098360" cy="6908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859280" y="479736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15" name="" descr=""/>
          <p:cNvPicPr/>
          <p:nvPr/>
        </p:nvPicPr>
        <p:blipFill>
          <a:blip r:embed="rId5"/>
          <a:srcRect l="69659" t="0" r="0" b="0"/>
          <a:stretch/>
        </p:blipFill>
        <p:spPr>
          <a:xfrm>
            <a:off x="4427640" y="1341360"/>
            <a:ext cx="1296720" cy="6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2T09:42:45Z</dcterms:created>
  <dc:creator>Рябчук</dc:creator>
  <dc:description/>
  <dc:language>en-US</dc:language>
  <cp:lastModifiedBy>Рябчук</cp:lastModifiedBy>
  <dcterms:modified xsi:type="dcterms:W3CDTF">2006-10-31T10:57:13Z</dcterms:modified>
  <cp:revision>7</cp:revision>
  <dc:subject/>
  <dc:title>СОЕДИНЕНИЯ ЭЛЕМЕНТОВ КОНСТРУКЦИЙ Часть 1</dc:title>
</cp:coreProperties>
</file>