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793-7F91-4DC9-B166-B29B5184E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DA26-7743-460C-9B15-E7495899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9D0-A148-4544-8C36-F5514CC3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637D-E717-418D-9DE9-015658ED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4BB-7928-48FB-BC24-549DB34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19A5-D8E6-4136-9928-4B1A87E4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2BA-7B06-4851-9E4C-34A72C4A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A61-6C5A-4F76-9953-9AA92209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B603-6D6D-4E0A-8AAE-D164C33C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E29-C9DF-4FFB-9EC4-99CF12D5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B9E-944A-4878-A0DA-A189015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101-4E83-43A0-B8DC-7593F92B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4B2-BB08-421D-A00E-2B3D9E3F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Силовой анализ механ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692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Лекция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6211800"/>
            <a:ext cx="50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единяя точ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йдем реа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35640" y="6075360"/>
            <a:ext cx="1873080" cy="587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0" y="4221000"/>
            <a:ext cx="810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ная реакция в шарнир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яется из условий равновесия сил,  действующих на звень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0" t="0" r="0" b="48835"/>
          <a:stretch/>
        </p:blipFill>
        <p:spPr>
          <a:xfrm>
            <a:off x="1116000" y="5157720"/>
            <a:ext cx="2592360" cy="641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66593" r="0" b="-1054"/>
          <a:stretch/>
        </p:blipFill>
        <p:spPr>
          <a:xfrm>
            <a:off x="4356000" y="5167440"/>
            <a:ext cx="3240360" cy="554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79280" y="2060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ечения этих двух  ли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 величину и направление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187280" y="3141720"/>
            <a:ext cx="2808360" cy="465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175680" y="0"/>
            <a:ext cx="407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точек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м ли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правлении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1511280" cy="600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484360" y="907920"/>
            <a:ext cx="1513080" cy="614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2052360" y="1052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rcRect l="70876" t="0" r="2953" b="16347"/>
          <a:stretch/>
        </p:blipFill>
        <p:spPr>
          <a:xfrm>
            <a:off x="5695920" y="189000"/>
            <a:ext cx="284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748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чет ведущего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о входит со стойкой в пару (вращательную) пятого класса. Кинематическая цепь статически неопределима ,т.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едущее звено не находится в равновес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66492" b="16571"/>
          <a:stretch/>
        </p:blipFill>
        <p:spPr>
          <a:xfrm>
            <a:off x="5148360" y="1341360"/>
            <a:ext cx="3740040" cy="5516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1984680"/>
            <a:ext cx="478800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равновешивания ведущего зв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еобходимо дополнительно ввести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уравновешивающую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у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уравновешивающий момен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у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ые бы уравновес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силы и момен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ные к ведущему зве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1413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08000" y="108720"/>
            <a:ext cx="49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чет реакции стойки на ведущее звено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724360" y="0"/>
            <a:ext cx="576360" cy="482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619560"/>
            <a:ext cx="82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 звену приложена уравновешивающая сила, линией действия (л.д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й задаемся. Состави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уравнение моментов  относительно точк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1347840" y="-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9970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-1347840" y="-2970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-1346040" y="220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-1347840" y="-17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076720" y="1590840"/>
            <a:ext cx="3167280" cy="96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-1476360" y="1136520"/>
          <a:ext cx="311040" cy="517680"/>
        </p:xfrm>
        <a:graphic>
          <a:graphicData uri="http://schemas.openxmlformats.org/drawingml/2006/table">
            <a:tbl>
              <a:tblPr/>
              <a:tblGrid>
                <a:gridCol w="31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-1346040" y="1653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356000" y="1773360"/>
          <a:ext cx="649080" cy="334800"/>
        </p:xfrm>
        <a:graphic>
          <a:graphicData uri="http://schemas.openxmlformats.org/drawingml/2006/table">
            <a:tbl>
              <a:tblPr/>
              <a:tblGrid>
                <a:gridCol w="64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2340000" y="2624760"/>
            <a:ext cx="107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92360" y="2781360"/>
            <a:ext cx="3384720" cy="473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9280" y="3348360"/>
            <a:ext cx="49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равнение равновесия для ведущего звен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003640" y="3429000"/>
            <a:ext cx="2592720" cy="461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0040" y="391752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3419640" y="6165720"/>
            <a:ext cx="431640" cy="417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3822840"/>
            <a:ext cx="91836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 из плана с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ведущему звену приложен уравновешивающий момен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у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уравнения моментов относительно точ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у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3708360" y="4869000"/>
            <a:ext cx="468000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92360" y="52664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708360" y="5445000"/>
            <a:ext cx="4537080" cy="490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47640" y="6006600"/>
            <a:ext cx="136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476360" y="3789360"/>
            <a:ext cx="476280" cy="539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211640" y="6048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м из плана с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0436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ИЛЫ Т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р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является сложным физико-химическим процессом, сопровождающийся выделением тепла. Это вызвано тем, что перемещающиеся тела оказывают сопротивление относительному движ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рой интенсивности сопротивления относительному перемещению является сила (момент) т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Различаю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ние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кач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трение с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коль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ухое, граничное и жидкост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Если высота микронеровностей поверхносте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боль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чем высота слоя смазки -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ухо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т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ысоте слоя смазки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граничное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р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ньш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ем высота слоя смазки -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жидкостно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268360" y="2708280"/>
          <a:ext cx="187344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708280"/>
                    <a:ext cx="1873440" cy="1179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651640" y="2781360"/>
          <a:ext cx="178272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2781360"/>
                    <a:ext cx="1782720" cy="12286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5280" y="2708280"/>
          <a:ext cx="1577880" cy="117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2708280"/>
                    <a:ext cx="1577880" cy="117144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-441720" y="-1080"/>
            <a:ext cx="92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т трения в поступательной кинематической п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63840"/>
            <a:ext cx="91440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з учета трения реакция направлена по нормали к взаимодействующим поверхностям. При учете трения результирующая реа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тклоняется от общей нормали на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угол трения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торону противоположную направлению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без учета трения                       с учетом т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190760"/>
            <a:ext cx="9144000" cy="21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эффициент трения 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яется экспериментально и зависит от многих фа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-1779480" y="3611520"/>
                <a:ext cx="34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171360" y="765000"/>
          <a:ext cx="2367000" cy="23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765000"/>
                    <a:ext cx="2367000" cy="237672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2916360" y="1700280"/>
          <a:ext cx="1057320" cy="20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6360" y="1700280"/>
                    <a:ext cx="1057320" cy="2089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-900000" y="-18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т трения во вращательной кинематической па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25400" y="782640"/>
            <a:ext cx="350172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цап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диус цап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заз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дус круга тр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725280"/>
            <a:ext cx="9144000" cy="32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1СК </a:t>
            </a:r>
            <a:r>
              <a:rPr b="0" lang="ru-R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малых углах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. Тогд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чете трения во вращательной КП результирующая реакция                    отклоняется от общей нормали на угол трени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роходит касательно к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ругу тр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диуса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-1111680" y="-720"/>
            <a:ext cx="94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457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Определение КПД (</a:t>
            </a:r>
            <a:r>
              <a:rPr b="0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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) машинного агрег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39640" y="907920"/>
                <a:ext cx="18734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п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с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цикл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с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ре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д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цикл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ус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реж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-917640" y="315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8355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ПД машинного агрегата равен отношению работы сил полезного сопротивления к работе движущих сил за цикл установившегося реж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76360" y="1916280"/>
                <a:ext cx="6408720" cy="18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b>
                                    <m:r>
                                      <m:t xml:space="preserve">п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с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А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дв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с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с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в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с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М</m:t>
                                </m:r>
                              </m:e>
                              <m:sub>
                                <m:r>
                                  <m:t xml:space="preserve">С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В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С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В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М</m:t>
                                </m:r>
                              </m:e>
                              <m:sub>
                                <m:r>
                                  <m:t xml:space="preserve">С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В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С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В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ЫХ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r>
                              <m:t xml:space="preserve">В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ЫХ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В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В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0" y="29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47640" y="4365720"/>
          <a:ext cx="518508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365720"/>
                    <a:ext cx="5185080" cy="75240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39640" y="3466440"/>
            <a:ext cx="759636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ПД при последовательном соединении механизм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в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Р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79280" y="5172120"/>
                <a:ext cx="385128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-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…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500720" y="5172120"/>
                <a:ext cx="46432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…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…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800" y="-1080"/>
            <a:ext cx="91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пределение КПД при параллельном соединении механизмов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84360" y="692280"/>
          <a:ext cx="3600360" cy="15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92280"/>
                    <a:ext cx="3600360" cy="15364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148360" y="476280"/>
                <a:ext cx="23763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Д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Д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Д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Д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2122920"/>
            <a:ext cx="41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эффициен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я мощ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+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+… +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24000" y="3141720"/>
                <a:ext cx="6883200" cy="23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ВЫХ</m:t>
                            </m:r>
                            <m:r>
                              <m:t xml:space="preserve"> </m:t>
                            </m:r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  <m:e>
                        <m:r>
                          <m:t xml:space="preserve">η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Ы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ВХ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Д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…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332000" y="5661000"/>
                <a:ext cx="16923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3635280" y="6162840"/>
            <a:ext cx="52880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Лекция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86256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Задача силовог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нализ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хан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определение реакций связе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читаются известны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ассы звенье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нешние силы и момен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йствующие на звенья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коны дви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ен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ловой расчет проводят для ряда положений механизма за цик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иловой расчет позволяет решить следующие инженерные зада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ение оптимальных конструктивных форм звеньев механизма путем расчета их на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чность, жесткость, вибростойкость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зносоустойчивость и др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чет опор и направляющих на долговеч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бор  мощности  двигател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улирование мех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равновешивание движущих  масс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чет фундамента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556920"/>
            <a:ext cx="9144000" cy="66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ы, действующие в механизм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ы движущи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илы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опроти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моменты этих с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и  моменты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М</a:t>
            </a:r>
            <a:r>
              <a:rPr b="0" i="1" lang="ru-RU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д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ют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вижение механ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движущих сил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ожитель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К силам сопротивления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F</a:t>
            </a:r>
            <a:r>
              <a:rPr b="1" i="1" lang="en-US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я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ы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олезных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п.</a:t>
            </a:r>
            <a:r>
              <a:rPr b="1" lang="en-US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ы вред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сопротивлений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F</a:t>
            </a:r>
            <a:r>
              <a:rPr b="1" i="1" lang="en-US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B</a:t>
            </a:r>
            <a:r>
              <a:rPr b="1" i="1" lang="ru-RU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r>
              <a:rPr b="1" i="1" lang="en-US" sz="20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C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.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лы полезных сопротивлений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(технологического сопротив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ил сопротивлений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.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рицатель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лы  вредных сопротивлени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ы т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инематических пара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эродинамического,гидравлического и др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ротивлени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Силы инерции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и,                                ..                               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Реакции в кинематических парах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5084640"/>
            <a:ext cx="574560" cy="4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300720" y="5004360"/>
            <a:ext cx="26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а воз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04280" y="573300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естах их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146400" y="504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03040" y="573300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естах их со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332000" y="6286680"/>
            <a:ext cx="2950920" cy="571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250920" y="5734080"/>
            <a:ext cx="23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вено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140360" y="907920"/>
            <a:ext cx="1366560" cy="3747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0" y="44640"/>
            <a:ext cx="91440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ы инерции  и точки их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ы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нер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действующие на  звенья механизма, приводят к главному вектору и главному моменту инерционных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28800" y="3546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40360" y="907920"/>
            <a:ext cx="1368360" cy="392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1387800"/>
            <a:ext cx="9144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59800"/>
            <a:ext cx="90727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бщем случае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у инер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ару сил инер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жно заменить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дной си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ая должна быть смещена  параллельно силе инерции на плеч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мое из услов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                  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580000" y="2708280"/>
                <a:ext cx="4161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и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-3145320" y="289656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3377880"/>
            <a:ext cx="57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06600" y="4821120"/>
                <a:ext cx="162000" cy="1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-1476360" y="425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97400" y="4392720"/>
                <a:ext cx="161640" cy="1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268360" y="4438440"/>
            <a:ext cx="5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525600" y="5603760"/>
                <a:ext cx="104760" cy="1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300560" y="4091040"/>
                <a:ext cx="162000" cy="1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411280" y="5373720"/>
            <a:ext cx="6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5440" y="4437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335772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9640" y="4149720"/>
            <a:ext cx="381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484360" y="3645000"/>
            <a:ext cx="719280" cy="1224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564000" y="3425400"/>
            <a:ext cx="542880" cy="10112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975040" y="4456080"/>
            <a:ext cx="581040" cy="1103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73160" y="4164120"/>
            <a:ext cx="64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27280" y="429264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494172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042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44500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9440" y="529992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350160" y="134064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411280" y="3645000"/>
            <a:ext cx="720720" cy="122400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4437000"/>
            <a:ext cx="4716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вращательно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вижен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эта сила проходит через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центр качания 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сстояние между   ц. м.  и  ц.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ходится по форм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46560" y="6229440"/>
            <a:ext cx="2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4640" y="63403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029200" y="6229440"/>
                <a:ext cx="58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52360" y="544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60320" y="6469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-2880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акции  в кинематических па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ращательной паре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вестна точка приложения реакци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известны направление ее и величи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упательной паре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вестно  направление ре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22880"/>
            <a:ext cx="9144000" cy="536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еизвестны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ее величин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очка приложе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высшей пар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звест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а приложения реакции и ее направл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о неизвестн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вое значение реакци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ю связей можно разделить на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ормальную и тангенциальную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составляющ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ормаль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ющая не производит работ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ангенциаль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юща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это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а тр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еханизм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еакции связей  взаимно уравновешенны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нутренними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 рассмотрени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вена изолированно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от механизма  реакции отброшенных связей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тановятся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нешним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-30960"/>
            <a:ext cx="9144000" cy="67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ение реакции в кинематических па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овой расчет механизма выполняется в два эта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ерв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пределяют реак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инематических парах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без учета сил тр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втором -- используя результаты первого этапа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преде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ы тр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стинные реакц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инематических па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спользовании принципа д'Аламбера уравнения равновесия наз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уравнениями кинетост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каждого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ве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жно написать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ри уравнения равновес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вень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исло уравнений равновесия будет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072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этом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механизм расчленяют на структурные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замен отброшенных связей к системе прикладывают                  соответствующие этим связям силы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ываю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равнения равновесия зв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660" t="0" r="7547" b="0"/>
          <a:stretch/>
        </p:blipFill>
        <p:spPr>
          <a:xfrm>
            <a:off x="0" y="1916280"/>
            <a:ext cx="4284720" cy="1547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76720" y="2205000"/>
            <a:ext cx="336600" cy="447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5446080" y="220428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векторы с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33440" cy="447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5219640" y="2786400"/>
            <a:ext cx="27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ктор реакций связ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916360" y="3573360"/>
            <a:ext cx="1944720" cy="422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6480" y="3922920"/>
            <a:ext cx="9137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овой расчет начинается с последней, наиболее удаленной от ведущего звена групп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атем следует перейти к соседней групп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В конце расчета останется структурная групп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 которой прикладывают уравновешивающую силу или уравновешивающий момен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ведущее зве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 расчете последней группы находят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уравновешивающую силу, 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оставшуюся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реакцию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32360" y="3645000"/>
            <a:ext cx="42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оменты сил  относительно точки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067280" y="4214880"/>
            <a:ext cx="3313080" cy="5968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43307" b="10217"/>
          <a:stretch/>
        </p:blipFill>
        <p:spPr>
          <a:xfrm>
            <a:off x="3924360" y="731880"/>
            <a:ext cx="483552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77600" y="91080"/>
            <a:ext cx="62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иловой расчет шарнирного четырехзвен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63880"/>
            <a:ext cx="3600360" cy="20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 звеньям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2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3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лож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звестные  силы и мо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точках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кладыв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неизвестные реакци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0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12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0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4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брошенных звенье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69480"/>
            <a:ext cx="478800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ложим реакци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0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и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0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4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орма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 тангенциал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ставля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5661000"/>
          <a:ext cx="4356000" cy="365040"/>
        </p:xfrm>
        <a:graphic>
          <a:graphicData uri="http://schemas.openxmlformats.org/drawingml/2006/table">
            <a:tbl>
              <a:tblPr/>
              <a:tblGrid>
                <a:gridCol w="4356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гда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уравнение равновес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мет ви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-1836720" y="3214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1838160" y="28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284720" y="5661000"/>
            <a:ext cx="4319640" cy="652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aphicFrame>
        <p:nvGraphicFramePr>
          <p:cNvPr id="109" name=""/>
          <p:cNvGraphicFramePr/>
          <p:nvPr/>
        </p:nvGraphicFramePr>
        <p:xfrm>
          <a:off x="-1838160" y="3917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-1836720" y="4435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836720" y="5932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20" y="4221000"/>
            <a:ext cx="39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равнение равновесия группы 2-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4280" y="169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1760" y="243000"/>
            <a:ext cx="431640" cy="2840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762200" y="227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22560" y="243000"/>
            <a:ext cx="360360" cy="306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400" y="66960"/>
            <a:ext cx="831672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пределяют из условия равновесия звенье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оставив уравнение моментов звеньев относительно точки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звена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356000" y="1052640"/>
            <a:ext cx="3132360" cy="476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2253600" y="139788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звена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284720" y="1655640"/>
            <a:ext cx="3166920" cy="486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-25200" y="2568960"/>
            <a:ext cx="19364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ткуда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476360" y="2637000"/>
            <a:ext cx="2881440" cy="558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932360" y="2637000"/>
            <a:ext cx="2665440" cy="564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35000" y="3413880"/>
            <a:ext cx="29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оставляющие   реакци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2843280" y="3573360"/>
            <a:ext cx="503280" cy="393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418920" y="357228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995640" y="3573360"/>
            <a:ext cx="505080" cy="395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0" y="3795840"/>
            <a:ext cx="7885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пределяем из плана с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,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остроенного на основе уравнения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равновесия.</a:t>
            </a:r>
            <a:r>
              <a:rPr b="0" lang="en-US" sz="9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начала плана сил (точ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сшта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4284720" y="4508640"/>
            <a:ext cx="503280" cy="395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788000" y="43707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м  векторы си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0"/>
          <a:stretch/>
        </p:blipFill>
        <p:spPr>
          <a:xfrm>
            <a:off x="7451640" y="4508640"/>
            <a:ext cx="392040" cy="504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7955640" y="458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1"/>
          <a:stretch/>
        </p:blipFill>
        <p:spPr>
          <a:xfrm>
            <a:off x="8459640" y="4581360"/>
            <a:ext cx="395280" cy="487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684720" y="55159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8680" y="5875920"/>
            <a:ext cx="49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одим векторы найденных выше с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2"/>
          <a:stretch/>
        </p:blipFill>
        <p:spPr>
          <a:xfrm>
            <a:off x="5364000" y="5661000"/>
            <a:ext cx="3095640" cy="5684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-494640" y="79966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492120" y="94381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9920" y="352584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олные их значения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12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и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0T15:43:17Z</dcterms:created>
  <dc:creator>Рябчук</dc:creator>
  <dc:description/>
  <dc:language>en-US</dc:language>
  <cp:lastModifiedBy>Рябчук</cp:lastModifiedBy>
  <dcterms:modified xsi:type="dcterms:W3CDTF">2006-09-06T06:09:50Z</dcterms:modified>
  <cp:revision>31</cp:revision>
  <dc:subject/>
  <dc:title>Силовой анализ механизма</dc:title>
</cp:coreProperties>
</file>