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4848-B114-403B-80F9-549091CA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2463-AACF-48CC-AB2B-2D227570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C379-DB50-41E0-B35E-DBE8C4F2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E5D1-E37B-411E-A6C3-6220D03E2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A847-AD50-4AC6-A93C-988B09B2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9A32-85AE-4ED3-B117-4F76E932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24EC-9E01-4E59-831B-EEAEBBD6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9A7F-DA91-4E44-A046-D67A52B8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8E81-8710-4325-83E4-8DA17431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AD6B-996C-4E6D-9A74-9EB902C3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CD9E-9EA5-446D-861B-C7D504AF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2F8D-68E1-499A-9C21-61EB8D1B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4584-F341-4BF3-8D54-C443720EC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ДИНАМИЧЕСКИЙ АНАЛИЗ  МЕХАНИЗ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-1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380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аналогии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диф.уравнение поступательно движущего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809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8099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звена приве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буд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18629" b="0"/>
          <a:stretch/>
        </p:blipFill>
        <p:spPr>
          <a:xfrm>
            <a:off x="3708360" y="549360"/>
            <a:ext cx="4321080" cy="1044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0" y="2102400"/>
            <a:ext cx="4284720" cy="8913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— приведенная сил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015360"/>
            <a:ext cx="9144000" cy="14626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3809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щение и скорость звена приведения;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— приведенная ма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809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809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лучае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когда  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J</a:t>
            </a:r>
            <a:r>
              <a:rPr b="1" i="1" lang="ru-RU" sz="1800" spc="-1" strike="noStrike" baseline="-30000">
                <a:solidFill>
                  <a:srgbClr val="0000cc"/>
                </a:solidFill>
                <a:latin typeface="Arial"/>
                <a:ea typeface="Times New Roman"/>
              </a:rPr>
              <a:t>П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const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 уравнения движения примут ви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0" t="0" r="46276" b="0"/>
          <a:stretch/>
        </p:blipFill>
        <p:spPr>
          <a:xfrm>
            <a:off x="5651640" y="4859280"/>
            <a:ext cx="2665440" cy="11905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343080" y="457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rcRect l="0" t="0" r="63357" b="0"/>
          <a:stretch/>
        </p:blipFill>
        <p:spPr>
          <a:xfrm>
            <a:off x="1979640" y="4965840"/>
            <a:ext cx="2160720" cy="115236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4284720" y="2349360"/>
            <a:ext cx="64764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-45000"/>
            <a:ext cx="9144000" cy="17395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0380996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ежимы движения мех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380996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згон до установившейся скорости за время 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t</a:t>
            </a: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Р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8360" algn="r">
              <a:buClr>
                <a:srgbClr val="0000cc"/>
              </a:buClr>
              <a:buFont typeface="Arial"/>
              <a:buChar char="•"/>
              <a:tabLst>
                <a:tab algn="l" pos="10380996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становившееся движение в течении времени 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t</a:t>
            </a: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98360" algn="r">
              <a:buClr>
                <a:srgbClr val="0000cc"/>
              </a:buClr>
              <a:buFont typeface="Wingdings" charset="2"/>
              <a:buChar char=""/>
              <a:tabLst>
                <a:tab algn="l" pos="10380996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ыбег (торможение до остановки) за время 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t</a:t>
            </a:r>
            <a:r>
              <a:rPr b="1" i="1" lang="en-US" sz="1400" spc="-1" strike="noStrike">
                <a:solidFill>
                  <a:srgbClr val="0000cc"/>
                </a:solidFill>
                <a:latin typeface="Arial"/>
              </a:rPr>
              <a:t>B</a:t>
            </a:r>
            <a:r>
              <a:rPr b="1" i="1" lang="ru-RU" sz="1400" spc="-1" strike="noStrike">
                <a:solidFill>
                  <a:srgbClr val="0000cc"/>
                </a:solidFill>
                <a:latin typeface="Arial"/>
              </a:rPr>
              <a:t>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00" y="40464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азличают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тадии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3840" y="1627200"/>
            <a:ext cx="9020160" cy="825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038099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ловая скорость звена приведения меняется о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ω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ω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max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 в среднем рав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ω</a:t>
            </a:r>
            <a:r>
              <a:rPr b="1" i="1" lang="ru-RU" sz="1600" spc="-1" strike="noStrike">
                <a:solidFill>
                  <a:srgbClr val="0000cc"/>
                </a:solidFill>
                <a:latin typeface="Arial"/>
              </a:rPr>
              <a:t>ср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47120" y="5271120"/>
            <a:ext cx="1003320" cy="6480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ε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103720" y="5230800"/>
                <a:ext cx="79236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</m:num>
                      <m:den>
                        <m:r>
                          <m:t xml:space="preserve">dϕ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5821200" y="5340960"/>
            <a:ext cx="1944720" cy="5256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38099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Т</a:t>
            </a:r>
            <a:r>
              <a:rPr b="1" i="1" lang="en-US" sz="24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д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- Т</a:t>
            </a:r>
            <a:r>
              <a:rPr b="1" i="1" lang="en-US" sz="24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п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0680" y="529992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0380996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и  установившегося дв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720" y="4941720"/>
            <a:ext cx="25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Для периода разг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5960" y="5804640"/>
            <a:ext cx="64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0380996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Для периода торможения с выключенным двигате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51840" y="6140160"/>
            <a:ext cx="1660320" cy="6688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1" i="1" lang="ru-RU" sz="3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635280" y="6153120"/>
                <a:ext cx="12240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</m:num>
                      <m:den>
                        <m:r>
                          <m:t xml:space="preserve">dϕ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4807080" y="6256440"/>
            <a:ext cx="1796400" cy="5763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038099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-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Т</a:t>
            </a:r>
            <a:r>
              <a:rPr b="1" i="1" lang="en-US" sz="24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пс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–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Т</a:t>
            </a:r>
            <a:r>
              <a:rPr b="1" i="1" lang="en-US" sz="20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2574" t="0" r="7721" b="0"/>
          <a:stretch/>
        </p:blipFill>
        <p:spPr>
          <a:xfrm>
            <a:off x="1258920" y="2565360"/>
            <a:ext cx="7020000" cy="2286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133440" y="407664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Ад &gt;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04000" y="400536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Адв  =  Ас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36720" y="4076640"/>
            <a:ext cx="11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Ад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&lt; 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684360" y="476280"/>
          <a:ext cx="316836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76280"/>
                    <a:ext cx="316836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5076720" y="549360"/>
          <a:ext cx="3024360" cy="22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549360"/>
                    <a:ext cx="30243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692360" y="3429000"/>
          <a:ext cx="5761080" cy="295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3429000"/>
                    <a:ext cx="57610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195640" y="-108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а),б) – неустановившиеся режи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32000" y="285264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а)    разг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003640" y="2637000"/>
            <a:ext cx="31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б)  торможение (выбег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33400" y="623736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) – установившийся реж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rcRect l="0" t="0" r="19554" b="0"/>
          <a:stretch/>
        </p:blipFill>
        <p:spPr>
          <a:xfrm>
            <a:off x="1692360" y="0"/>
            <a:ext cx="5040360" cy="2808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2831040"/>
            <a:ext cx="9144000" cy="7038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380996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Степень неравномерности хода машины за цик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установившегося движения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определяется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коэф. неравномерности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rcRect l="6750" t="0" r="6750" b="10741"/>
          <a:stretch/>
        </p:blipFill>
        <p:spPr>
          <a:xfrm>
            <a:off x="5132520" y="3357720"/>
            <a:ext cx="2554200" cy="828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35280" y="4435920"/>
            <a:ext cx="8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380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700360" y="4292640"/>
            <a:ext cx="2592360" cy="8031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5091840"/>
            <a:ext cx="9144000" cy="8863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Допустимая наибольшая велич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зависит от типа машин. Например, для поршневых двигателей внутреннего сгор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4284720" y="6021360"/>
            <a:ext cx="312840" cy="4762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082160" y="6020640"/>
            <a:ext cx="3234600" cy="3988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03809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оршневых насос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5219640" y="5589720"/>
            <a:ext cx="343080" cy="404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656600" y="6092280"/>
            <a:ext cx="2145240" cy="3682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038099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1/20...1/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35720" y="558972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1/80... 1/2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-108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3809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Кривая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изме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80996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угловой скор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33200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9900"/>
                </a:solidFill>
                <a:latin typeface="Arial"/>
              </a:rPr>
              <a:t>Лекция заверше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82960"/>
            <a:ext cx="9144000" cy="63554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0380996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Задачи динамического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3809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03809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динамике  изучается движение механизмов с учетом действующих си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03809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03809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ожный многозвенный механизм заменяю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т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намической моделью, в качестве которой принимают  </a:t>
            </a:r>
            <a:r>
              <a:rPr b="1" i="1" lang="en-US" sz="2400" spc="-1" strike="noStrike">
                <a:solidFill>
                  <a:srgbClr val="a50021"/>
                </a:solidFill>
                <a:latin typeface="Arial"/>
              </a:rPr>
              <a:t>условное звено</a:t>
            </a:r>
            <a:r>
              <a:rPr b="0" i="1" lang="en-US" sz="24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03809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01600" algn="ctr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10380996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Закон движения условного звена должен полностью совпадать с законом движения начального зв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1600" algn="ctr">
              <a:lnSpc>
                <a:spcPct val="110000"/>
              </a:lnSpc>
              <a:buClr>
                <a:srgbClr val="0066cc"/>
              </a:buClr>
              <a:buFont typeface="Arial"/>
              <a:buChar char="•"/>
              <a:tabLst>
                <a:tab algn="l" pos="10380996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Угловые скорости начального и условного звеньев должны быть     рав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1600" algn="ctr">
              <a:lnSpc>
                <a:spcPct val="110000"/>
              </a:lnSpc>
              <a:buClr>
                <a:srgbClr val="0066cc"/>
              </a:buClr>
              <a:buFont typeface="Arial"/>
              <a:buChar char="•"/>
              <a:tabLst>
                <a:tab algn="l" pos="10380996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Все силы и моменты, действующие на звенья механизма должны быть приведены к одному звену, называемому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приведенным.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01600" algn="ctr">
              <a:lnSpc>
                <a:spcPct val="110000"/>
              </a:lnSpc>
              <a:buClr>
                <a:srgbClr val="0066cc"/>
              </a:buClr>
              <a:buFont typeface="Arial"/>
              <a:buChar char="•"/>
              <a:tabLst>
                <a:tab algn="l" pos="10380996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Массы  звеньев приводят к этому звену и заменяют суммарным прив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0380996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денным моментом инерции, эквивалентным всей инерции механиз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03809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1038099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Можно иметь 2 вида одномассовых динамических моде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75240"/>
            <a:ext cx="79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Звено приведения совершает вращательное движ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0" y="476280"/>
            <a:ext cx="3960720" cy="2376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4000" y="611640"/>
            <a:ext cx="370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Уравнение движения можно записать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иде изменения кинетической энерги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692360" y="1989000"/>
                <a:ext cx="15112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Т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Т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ач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566640" y="2492280"/>
                <a:ext cx="31132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Р</m:t>
                            </m:r>
                          </m:sub>
                          <m:sup/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м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Т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ач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М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НАЧ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М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КОН</m:t>
                            </m:r>
                          </m:sub>
                        </m:sSub>
                      </m:sup>
                      <m:e>
                        <m:sSubSup>
                          <m:e>
                            <m:r>
                              <m:t xml:space="preserve">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Р</m:t>
                            </m:r>
                          </m:sub>
                          <m:sup/>
                        </m:sSubSup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м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0" y="3504240"/>
            <a:ext cx="79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Звено приведения совершает поступательное дви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84720" y="3860640"/>
            <a:ext cx="4427640" cy="1368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851280" y="5300640"/>
                <a:ext cx="35290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Р</m:t>
                            </m:r>
                          </m:sub>
                          <m:sup/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м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Т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нач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ПР</m:t>
                            </m:r>
                          </m:sub>
                          <m:sup/>
                        </m:sSubSup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м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249480" y="4941720"/>
            <a:ext cx="26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Уравнение 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1480" y="5373720"/>
            <a:ext cx="290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виде из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инетической энерг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34921" r="5589" b="0"/>
          <a:stretch/>
        </p:blipFill>
        <p:spPr>
          <a:xfrm>
            <a:off x="0" y="5373720"/>
            <a:ext cx="4284720" cy="861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61494" t="0" r="5589" b="69905"/>
          <a:stretch/>
        </p:blipFill>
        <p:spPr>
          <a:xfrm>
            <a:off x="1501920" y="4508640"/>
            <a:ext cx="2278080" cy="609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0" y="660240"/>
            <a:ext cx="9144000" cy="28375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38099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ведение сил и моментов си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04840">
              <a:buClr>
                <a:srgbClr val="0000cc"/>
              </a:buClr>
              <a:buFont typeface="Wingdings" charset="2"/>
              <a:buChar char=""/>
              <a:tabLst>
                <a:tab algn="l" pos="10380996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Силы и моменты сил  можно привести к одному звену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которое называ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звеном приведе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это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должно соблюдаться равенств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щностей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л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элементарных рабо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80996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Сформулированное усло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80996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для мощности в обще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80996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имеет вид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4005360"/>
          <a:ext cx="4716000" cy="944640"/>
        </p:xfrm>
        <a:graphic>
          <a:graphicData uri="http://schemas.openxmlformats.org/drawingml/2006/table">
            <a:tbl>
              <a:tblPr/>
              <a:tblGrid>
                <a:gridCol w="471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1038099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При приведении к силе име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-4305240" y="27054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511200" y="34534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4305240" y="44964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214320"/>
            <a:ext cx="9144000" cy="8305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3809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B 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ость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ла;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α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гол;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момент силы;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ω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угловая скор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979640" y="3141720"/>
            <a:ext cx="1584360" cy="8967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rcRect l="0" t="0" r="70087" b="23620"/>
          <a:stretch/>
        </p:blipFill>
        <p:spPr>
          <a:xfrm>
            <a:off x="4695840" y="2349360"/>
            <a:ext cx="4448160" cy="3306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0440" y="103320"/>
            <a:ext cx="76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Определение параметров динамической мод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-244440"/>
            <a:ext cx="4211640" cy="10688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380996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Откуда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приведенная сила равна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Arial"/>
                <a:ea typeface="Times New Roman"/>
              </a:rPr>
              <a:t>   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47640" y="920160"/>
            <a:ext cx="1481400" cy="5205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059280" y="907920"/>
                <a:ext cx="720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-309600" y="12398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780000" y="620640"/>
                <a:ext cx="4791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-309600" y="17352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284720" y="907920"/>
                <a:ext cx="7207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5003640" y="797760"/>
            <a:ext cx="935280" cy="5972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1" i="1" lang="ru-RU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940360" y="836640"/>
                <a:ext cx="863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-309600" y="25606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804000" y="620640"/>
                <a:ext cx="44604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0" y="1429560"/>
            <a:ext cx="9144000" cy="2948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38099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Аналогично определяем приведенный момент с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38099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1" i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П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М</a:t>
            </a:r>
            <a:r>
              <a:rPr b="1" i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ω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8099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8099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С учетом записанных выше уравнений  получим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8099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8099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М</a:t>
            </a:r>
            <a:r>
              <a:rPr b="1" i="1" lang="ru-RU" sz="24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П</a:t>
            </a:r>
            <a:r>
              <a:rPr b="1" i="1" lang="ru-RU" sz="18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=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843280" y="3645000"/>
                <a:ext cx="7920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-309600" y="43768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635280" y="3573360"/>
                <a:ext cx="4939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-309600" y="48718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211640" y="3789360"/>
                <a:ext cx="7207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4859280" y="3600360"/>
            <a:ext cx="1008000" cy="6688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1" i="1" lang="ru-RU" sz="3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012000" y="3716280"/>
                <a:ext cx="863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-309600" y="5697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877080" y="3500280"/>
                <a:ext cx="3808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4392000"/>
            <a:ext cx="9144000" cy="213192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380996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Кинетическая энергия мех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809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тоящего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из 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  <a:ea typeface="Times New Roman"/>
              </a:rPr>
              <a:t>n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звеньев, участвующих в поступательном и вращательном движе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определяется соотношени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8099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80996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T</a:t>
            </a:r>
            <a:r>
              <a:rPr b="1" i="1" lang="en-US" sz="32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=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916360" y="5805360"/>
                <a:ext cx="20872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-309600" y="75056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7280" y="2818440"/>
            <a:ext cx="963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659640" y="2637000"/>
                <a:ext cx="50940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Р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4188240" y="37184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32000" y="2133720"/>
            <a:ext cx="2376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-1800"/>
            <a:ext cx="9144000" cy="11912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038099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Приведение масс и моментов инер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3809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80996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Должно соблюдаться 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0" r="0" b="19768"/>
          <a:stretch/>
        </p:blipFill>
        <p:spPr>
          <a:xfrm>
            <a:off x="4356000" y="1268280"/>
            <a:ext cx="4788000" cy="2613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1236960"/>
            <a:ext cx="761760" cy="5763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</a:t>
            </a:r>
            <a:r>
              <a:rPr b="1" i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042920" y="1268280"/>
                <a:ext cx="7207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Т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0" y="33228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0" y="2852640"/>
                <a:ext cx="7905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57080" y="3141000"/>
            <a:ext cx="435240" cy="3682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87280" y="2924280"/>
                <a:ext cx="22305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0" y="45734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435200"/>
            <a:ext cx="34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38099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уда найде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8099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ссу звен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вед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2200" y="4741200"/>
            <a:ext cx="1024920" cy="5972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m</a:t>
            </a:r>
            <a:r>
              <a:rPr b="1" i="1" lang="ru-RU" sz="20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П</a:t>
            </a:r>
            <a:r>
              <a:rPr b="1" i="1" lang="ru-RU" sz="28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=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643280" y="4581360"/>
                <a:ext cx="27352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П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П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4070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9900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03809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менная приведенная масса является условной величи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3809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для упрощения динамических расчет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4320" y="1963800"/>
            <a:ext cx="43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звено приведения соверш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поступательное дви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-1440"/>
            <a:ext cx="8172360" cy="825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380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звено приведения совершает вращательное движ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258920" y="907920"/>
                <a:ext cx="43488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-2268360" y="39322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24000" y="75600"/>
            <a:ext cx="7020000" cy="198864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3809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инетическая энергия звена приве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8099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моментом инерции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J</a:t>
            </a:r>
            <a:r>
              <a:rPr b="0" i="1" lang="en-US" sz="24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n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должна равня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38099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сумме кинетических энергий звеньев мех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627280" y="1916280"/>
            <a:ext cx="3527280" cy="923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3079800"/>
            <a:ext cx="9144000" cy="235440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и определяются только положение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енье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зма, 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являются функциями  положения звена приве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звено приведения совершает поступательное движение, т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  вращательное,   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276720" y="4797360"/>
            <a:ext cx="1800000" cy="401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5409000"/>
            <a:ext cx="9144000" cy="75816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3809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большого класса механизмов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являются постоянными величина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2360" y="105264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=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8820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УРАВНЕНИЕ ДВИЖЕНИЯ МЕХ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125360"/>
            <a:ext cx="79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С  учетом сил сопротивления движению приведенный момен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ил рав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132000" y="1628640"/>
            <a:ext cx="2448000" cy="439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2205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уравнение движения имеет ви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32000" y="3573360"/>
            <a:ext cx="5904000" cy="984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484360" y="4941720"/>
            <a:ext cx="16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067280" y="4869000"/>
                <a:ext cx="12348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dϕ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П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900880" y="3691440"/>
            <a:ext cx="28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7600" y="66096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  к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79640" y="620640"/>
            <a:ext cx="2158920" cy="560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1125720"/>
            <a:ext cx="7667640" cy="825480"/>
          </a:xfrm>
          <a:prstGeom prst="rect">
            <a:avLst/>
          </a:prstGeom>
          <a:solidFill>
            <a:srgbClr val="def6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380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ифференцируем  как функцию двух  независимых  переменны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340000" y="1628640"/>
            <a:ext cx="504720" cy="3844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76720" y="1518480"/>
            <a:ext cx="7920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i="1" lang="ru-RU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0" lang="ru-RU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24760" y="739800"/>
            <a:ext cx="30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 уравнение движ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124000" y="2170080"/>
            <a:ext cx="4753080" cy="1165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3361680"/>
            <a:ext cx="83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3809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сюд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диф.уравнение движения вращающегося зв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809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8099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ведения принимает 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2987640" y="5084640"/>
            <a:ext cx="4032360" cy="970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11:55:45Z</dcterms:created>
  <dc:creator>Рябчук</dc:creator>
  <dc:description/>
  <dc:language>en-US</dc:language>
  <cp:lastModifiedBy>Рябчук</cp:lastModifiedBy>
  <dcterms:modified xsi:type="dcterms:W3CDTF">2006-09-08T06:35:31Z</dcterms:modified>
  <cp:revision>13</cp:revision>
  <dc:subject/>
  <dc:title>ДИНАМИЧЕСКИЙ АНАЛИЗ  МЕХАНИЗМОВ</dc:title>
</cp:coreProperties>
</file>