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F87B-B580-4BDA-8EAD-96F57219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04B6-30ED-4E9F-AB75-406557BE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9E2C-DC7F-470E-9F6F-573CB967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768-D1C6-4639-9D65-7A3E5908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C25-B950-4291-A25F-B89C4569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F3B-EA96-4A56-BCA9-8D065242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54E-0202-49B4-8553-77B93228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185-E936-4459-8E14-017C0782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473-1280-4A64-AD61-C4348143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BEA-6B06-423B-81EF-D72CF917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8D2-CA12-4386-BC58-285724D1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9B5-1633-4BA4-9CFD-62C98B47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879D-4E26-42C8-B287-0D989310A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2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Технические  измерения.</a:t>
            </a:r>
            <a:br>
              <a:rPr sz="4400"/>
            </a:b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Допуски и посад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Основы проектирования деталей и уз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76720" y="6021360"/>
            <a:ext cx="1368360" cy="490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2120760"/>
            <a:ext cx="8137440" cy="3492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4302000" y="15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440" y="-8604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 е р е х о д н ы е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посад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—могут быть как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 зазо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так и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натяг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х применяют для центрирования сопрягаемых дета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 дополнительным креплением шпон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ви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штиф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1412280"/>
            <a:ext cx="309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оля допу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реходных поса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240" y="40611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443640" y="6021360"/>
            <a:ext cx="2700360" cy="465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704920" y="646020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   д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16572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более  часто   употребляют   пос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-137520"/>
            <a:ext cx="9144000" cy="32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истемы образования посадок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истема отверстия и система вал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истемы отверст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змеры отверстия называют основными. Различные посадки создаются путем изменения предельных отклонений размеров в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ижнее отклонение размера отверстия равно нулю, и поле допуска располагается «в тело» охватывающей детали (в тело втул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адки в обозначаются написанием номинального диаметра соединения и полей допусков сначала отверстия,   а  затем  вала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3529080" cy="72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62320" y="31406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0" t="0" r="0" b="12180"/>
          <a:stretch/>
        </p:blipFill>
        <p:spPr>
          <a:xfrm>
            <a:off x="6227640" y="3213000"/>
            <a:ext cx="1513080" cy="669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3858840"/>
            <a:ext cx="9144000" cy="19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системе в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размер  вала принимают за основной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 - основная деталь в этой системе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Различные посадки получают за счет изменения предельных отклонений отверс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значение посадок на чертежах в системе вал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0Р7/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40Р7-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948360" y="5373720"/>
            <a:ext cx="1227240" cy="671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 rot="10800000">
            <a:off x="539280" y="6091920"/>
            <a:ext cx="81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истема отверстия более распространена в машиностро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3816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чность геометрической формы детал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ами установлены виды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тклонений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т прямолинейности, плоскостности, кругл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положения поверхносте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дета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отклонения от параллельности, перпендикулярности, наклона, соос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п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уммарные отклонения фор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и расположени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радиальное и торцовое би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редельные отклонения фор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расположения поверхност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зываютс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чертежах в виде знаков, символов (условных обозначений) и текстовых запис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754680" cy="3265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14400" y="3189960"/>
            <a:ext cx="914400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бозначение на чертежах предельных отклонений фор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прямолинейности;  б — круглости  и прямолинейности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параллельности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плоскостности;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пересечения о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лонения записывают в выносной  прямоугольной  рамке, разделенной на две или три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вой (слева) части записыва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нак отклон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о второй —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исловое зна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в третьей —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означение баз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з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означают прописной буквой или зачерненным треугольн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ение отклонений указывается отрезком линии со стрел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-1375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рхности деталей машин характеризуются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олнистостью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шероховатостью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метрами оценки шероховатости являются высот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z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овностей профиля по десяти точкам и среднее арифметическое отклонение профил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базовой длине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вые значения параметров шероховатости указывают на чертежах знак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  вместо рам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писывают параметр  шероховат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8064360" cy="2376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flipV="1" rot="10800000">
            <a:off x="-360" y="4584600"/>
            <a:ext cx="91486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Обозначение шероховатости поверх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место рам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ывают (при необходимости) вид обработки поверхн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вместо  рамок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ветственно базовую длин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условное обозначение направления неровност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сновы проектирования деталей , узлов и мех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Виды  издел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-3600"/>
            <a:ext cx="9144000" cy="68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АДИИ РАЗРАБОТКИ МА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нструирование маши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творчески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особенности этого процесса -многовариантности реш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и согласования принимаемых решений с требованиями, предъявляемыми к конструкциям и с требованиями ГО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али, узлы, машины изготовляют по чертежам, выполненным на основе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роектов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совокупности расчетов, графических материалов и пояснений к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собо ответственных конструкций проект дополняют макетом или действующей модел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дии разработки конструкторской документации (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) и этапы работ установлены стандар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Первая стад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работка технического за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— документ, содержащий наименование, основное назначение, технические требования, показатели качества, экономичности и специальные требования заказчика к издел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-92160"/>
            <a:ext cx="9144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Вторая стад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зработка технического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редложени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П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вокупность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обосновывающих  целесообразность разработки изделия на основе предложений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рассмотрения вариантов возможных решений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 учетом достижений науки и техники, возможностей машиностроительных заводов отрасли и смежных отрасл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тверждается заказчиком и генеральным подрядч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Третья стад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зработка эскизного проект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Э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окуп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содержащих принципиальные  конструкторские  решения и разработки общих видов чертежей, дающих представление об устройстве изделия, принципе его действия, габаритах и основных параметр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юда входит пояснительная записка с необходимыми расче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42069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Пятая стад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зработка рабочей документаци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Д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окупности документов, содержащих чертежи общих видов, узлов и деталей, оформленных так, чтобы по ним можно было изготовлять изделия и контролировать их производство и эксплуат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7650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Четвертая стад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зработка технического проекта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окуп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содержащих окончательное решение и дающих полное представление об устройстве издел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тежи проекта включают общие ви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сборочные чертежи уз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258920" y="3068280"/>
            <a:ext cx="6562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Лекционный кур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заверше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13428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заимозаменяемость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тандартизация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заимозаменяем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беспечивает правильную сборку и замену при ремонте независим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готовле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ых деталей и узлов без дополнительной их обработк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заменяемость может быть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олной и неполн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частично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обеспечения взаимозаменяемости и упорядочения производст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уществуют стандар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рият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а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ударствен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дународ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еометрические параметры деталей количественно оценивают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ер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Раз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числовое значение линейных величин  в выбранных единицах измерения. Размеры, проставляемые на чертежах, называю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оминальным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ятые номинальные размеры округляют до значений по ГОСТ 6636—69 «Нормальные линейные размер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Стандартом предусмотрены четыре ряда разме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Р5,  Р10,  Р20  и  Р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в порядке убывающей предпочт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-60840" y="50457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24360" y="2852640"/>
            <a:ext cx="649440" cy="292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-172440"/>
            <a:ext cx="913932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зготовлении деталей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действительный раз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может не совпадать с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номинальным разме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так как технологические погрешности вызывают неизбежное рассеяние размеров дет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обеспечения правильной сборки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льн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боты допускают некоторое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рассеяние разме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ет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Максимальный и минимальный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разме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жду которыми находится действительный размер детали, называют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едельными размерам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минальные предельные диаметры обознач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72360" y="2491200"/>
            <a:ext cx="3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659640" y="2852640"/>
            <a:ext cx="576360" cy="297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8680" y="27514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отверст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647640" cy="43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132000" y="2820960"/>
            <a:ext cx="36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635280" y="3284640"/>
            <a:ext cx="649440" cy="355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283200"/>
            <a:ext cx="91440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ва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Алгебраическую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раз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между измеренным размером (действительным ) и соответствующим номинальным размером называют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действительным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отклонение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зность между предельным и номинальным размерами называют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редельным отклонение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                      верхнее                   и нижнее откло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4815360"/>
            <a:ext cx="187164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отверстия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вал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6248520"/>
            <a:ext cx="641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763640" y="6381720"/>
            <a:ext cx="411120" cy="47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2297160" y="6429240"/>
          <a:ext cx="3132000" cy="501840"/>
        </p:xfrm>
        <a:graphic>
          <a:graphicData uri="http://schemas.openxmlformats.org/drawingml/2006/table">
            <a:tbl>
              <a:tblPr/>
              <a:tblGrid>
                <a:gridCol w="3132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—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инальный диамет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-4411800" y="65030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rcRect l="67826" t="0" r="0" b="0"/>
          <a:stretch/>
        </p:blipFill>
        <p:spPr>
          <a:xfrm>
            <a:off x="5594400" y="5877000"/>
            <a:ext cx="1251000" cy="425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36720" y="32835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7"/>
          <a:srcRect l="16461" t="0" r="47346" b="0"/>
          <a:stretch/>
        </p:blipFill>
        <p:spPr>
          <a:xfrm>
            <a:off x="3203640" y="5300640"/>
            <a:ext cx="1328760" cy="3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rcRect l="67922" t="0" r="0" b="0"/>
          <a:stretch/>
        </p:blipFill>
        <p:spPr>
          <a:xfrm>
            <a:off x="5580000" y="5300640"/>
            <a:ext cx="1177920" cy="358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rcRect l="17498" t="0" r="47047" b="0"/>
          <a:stretch/>
        </p:blipFill>
        <p:spPr>
          <a:xfrm>
            <a:off x="3203640" y="5805360"/>
            <a:ext cx="137772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480360" cy="4321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13080" y="6165000"/>
            <a:ext cx="79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Предельные размеры отверстия и вала, определяющие поля допу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2840" y="14400"/>
          <a:ext cx="9144000" cy="16142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Величины отклонени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огут быть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оложительным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отрицательными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 схематическом  изображении положительные отклонения откладываются вверх относительно номинальных размеров, а отрицательные — вниз от нулевой лини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1198440" y="39916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1080" t="0" r="34965" b="0"/>
          <a:stretch/>
        </p:blipFill>
        <p:spPr>
          <a:xfrm>
            <a:off x="5045040" y="2924280"/>
            <a:ext cx="1540080" cy="450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33870" t="0" r="31753" b="0"/>
          <a:stretch/>
        </p:blipFill>
        <p:spPr>
          <a:xfrm>
            <a:off x="5195880" y="2133720"/>
            <a:ext cx="1509840" cy="406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2124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кономически целесообразные отклонения размеров деталей определяю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диной системой допусков и посад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установленной СТ СЭВ 144—7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58920" y="2852640"/>
          <a:ext cx="3384360" cy="50508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уск размера отверс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-4316400" y="208476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980280"/>
            <a:ext cx="91440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Разность между наибольшим и наименьшим предельными размерами называю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опуском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47640" y="2204280"/>
            <a:ext cx="32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ера в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918240"/>
            <a:ext cx="914400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оле  допус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определяется числовым значением допуска и его положением относительно номинального разм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значается буквой (или двумя буквами) латинского алфавита —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ис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ля отверстия 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ч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ля вал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059280" y="6093000"/>
            <a:ext cx="3168360" cy="531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400" y="568836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480" y="-44748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При увеличении допуска на размер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требования к точности снижаются и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производство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детали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упрощается и удешевляется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авном допуске деталь большего размера изготовить сложн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ер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опуска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азначают в зависимости от диам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663560"/>
            <a:ext cx="9144000" cy="55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ависимости от числа единиц допуска в допуске стандартом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установлено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19 квалите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тепеней точ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— ступеней градации значений допус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01; 0; 1; 2; 3; 4; 5; ...; 1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и в квалитетах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01, ...,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назначены для концевых мер длин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либров, измерительных инструмент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др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литеты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, ..., 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дают допуски для сопрягаемых размеров детал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остальных квалитетах даются допуски для несопрягае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свободных)  разме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54000" y="-15840"/>
            <a:ext cx="914400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Величины предельных отклонений указываются на чертежах тремя способ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204840" algn="ctr">
              <a:buClr>
                <a:srgbClr val="ff0000"/>
              </a:buClr>
              <a:buFont typeface="Arial"/>
              <a:buAutoNum type="arabicParenR"/>
              <a:tabLst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мелкими  цифрами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( в мм)   за  номинальным  размер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ения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ые нулю, не проставл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ения могут иметь одинаковые или разные знаки,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4608360" cy="792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33602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условным  обозначением  поля  допу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 состоящим  из  буквы  и  цифры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значающей квалит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8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132000" y="4076640"/>
            <a:ext cx="1079640" cy="574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304880" y="28803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1513080" cy="565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4867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0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3)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одновременным указанием поля допуска  и  цифровых  значений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отклон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в скобка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,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979640" y="5734080"/>
            <a:ext cx="1297080" cy="868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03640" y="6058440"/>
            <a:ext cx="288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rcRect l="8052" t="0" r="70451" b="0"/>
          <a:stretch/>
        </p:blipFill>
        <p:spPr>
          <a:xfrm>
            <a:off x="3276720" y="5805360"/>
            <a:ext cx="936360" cy="739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95640" y="5205960"/>
            <a:ext cx="31932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4716360" y="5805360"/>
            <a:ext cx="2735280" cy="750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591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4480" y="5845320"/>
                <a:ext cx="1234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455720" y="61488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313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76720" y="6093000"/>
            <a:ext cx="4680000" cy="488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3774" t="12114" r="52830" b="3028"/>
          <a:stretch/>
        </p:blipFill>
        <p:spPr>
          <a:xfrm>
            <a:off x="1403280" y="2798640"/>
            <a:ext cx="4442040" cy="3151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-1800"/>
            <a:ext cx="91440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Характер сопря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—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осад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ух соосных цилиндрических деталей (охватываемой — вала и охватывающей — отверстия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зависит от их действительных разме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иаметр отверстия больше диаметра вала, то между ними буд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з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если размер отверстия меньше размера вала, в соединении образуетс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тя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посадки разделяют на три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 зазором,   с натягом    и    переходны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2957760"/>
            <a:ext cx="3168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Посадка с заз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вижная посад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2956320" y="4502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956720" y="6060960"/>
            <a:ext cx="1187280" cy="490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227640" y="3923280"/>
            <a:ext cx="24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1280" y="623736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отребляются пос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3958920" cy="463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52830" t="12114" r="0" b="0"/>
          <a:stretch/>
        </p:blipFill>
        <p:spPr>
          <a:xfrm>
            <a:off x="1979640" y="2133720"/>
            <a:ext cx="4464000" cy="3671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724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7160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Посадка с натяг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одвижная посад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— применяются для неподвижного соединения деталей без дополнительного кре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более часто назначают посад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623628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хема образования натяга в сопря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7:38:58Z</dcterms:created>
  <dc:creator>Рябчук</dc:creator>
  <dc:description/>
  <dc:language>en-US</dc:language>
  <cp:lastModifiedBy>Рябчук</cp:lastModifiedBy>
  <dcterms:modified xsi:type="dcterms:W3CDTF">2006-11-13T09:16:15Z</dcterms:modified>
  <cp:revision>43</cp:revision>
  <dc:subject/>
  <dc:title>Техническиеизмерения. Допуски и посадки</dc:title>
</cp:coreProperties>
</file>