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897-506A-478D-B346-6F6EFFC8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0E42-B36A-4461-9118-2D8B3BD7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8F7-C38B-42D8-ABA0-2DF07857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4A96-A8A4-4352-82E5-F7EC3528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D62-6889-4229-9137-9E6FA274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264-AAF6-4FE2-8588-7DF53D1A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830-0448-405B-AC66-CCF7101E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D15-2B88-4379-9CDE-3DD163E1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6DB-CD12-42EF-9AE4-BD4A9DEA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41C-C426-472C-9DF5-6178A460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037-A7E9-4FE0-B0AC-7441DE93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8C1-EB88-41E9-AB30-DC14BA7F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1D8C-6E29-429B-951E-6FC1A0D8A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0.png"/><Relationship Id="rId4" Type="http://schemas.openxmlformats.org/officeDocument/2006/relationships/image" Target="../media/image32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ПРУЖИНЫ . УПРУГИЕ ЭЛЕМЕНТЫ.</a:t>
            </a:r>
            <a:br>
              <a:rPr sz="4000"/>
            </a:b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Корпусные дет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Часть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5883120" y="44640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637000"/>
            <a:ext cx="91440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41000" rIns="1301400" tIns="-455760" bIns="-9126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РЕЗИНОВЫЕ УПРУГИЕ ЭЛЕ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Резиновые упругие элементы применяют в конструкциях упругих муфт, вибро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и шумоизолирующих опорах и других устройствах для получения больших перемещ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ие элементы обычно передают нагрузку через металлические детали (пластины и трубки и т.  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Преимущест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изолирующая способность; способность (рассеяние энергии в резине достигает 30...80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окая демпфирующая способность аккумулировать большее количество энергии на единицу массы, чем пружинная сталь (до 10 ра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Материал элемен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техническая резина     с     пределом    пр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53826" b="0"/>
          <a:stretch/>
        </p:blipFill>
        <p:spPr>
          <a:xfrm>
            <a:off x="2411280" y="5661000"/>
            <a:ext cx="381240" cy="453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-5783400" y="44640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771640" y="5734080"/>
            <a:ext cx="648000" cy="338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51160" y="5660280"/>
            <a:ext cx="5004000" cy="398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Па; модуль сдвиг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 500...900 М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4300" t="34400" r="76693" b="2293"/>
          <a:stretch/>
        </p:blipFill>
        <p:spPr>
          <a:xfrm>
            <a:off x="0" y="0"/>
            <a:ext cx="226692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1413" t="25491" r="73467" b="33988"/>
          <a:stretch/>
        </p:blipFill>
        <p:spPr>
          <a:xfrm>
            <a:off x="4427640" y="1773360"/>
            <a:ext cx="2544840" cy="3535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rcRect l="28668" t="36693" r="51609" b="38998"/>
          <a:stretch/>
        </p:blipFill>
        <p:spPr>
          <a:xfrm>
            <a:off x="2195640" y="620640"/>
            <a:ext cx="1933560" cy="2232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28963" t="30589" r="58639" b="38236"/>
          <a:stretch/>
        </p:blipFill>
        <p:spPr>
          <a:xfrm>
            <a:off x="6948360" y="1820880"/>
            <a:ext cx="1986120" cy="3489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rcRect l="5651" t="70533" r="76300" b="6798"/>
          <a:stretch/>
        </p:blipFill>
        <p:spPr>
          <a:xfrm>
            <a:off x="0" y="4221000"/>
            <a:ext cx="2266920" cy="244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rcRect l="29669" t="75631" r="61458" b="16994"/>
          <a:stretch/>
        </p:blipFill>
        <p:spPr>
          <a:xfrm>
            <a:off x="2276640" y="4941720"/>
            <a:ext cx="141264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800"/>
            <a:ext cx="9144000" cy="67460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Детали корпусов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Являются наиболее металлоемкими и трудоемкими. Их рациональное проектирование дает значительные эффекты (экономические, эксплуатационные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Конструкции и материа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рпус редуктора (вместе с крышкой) имеет сложную форму и подвержен действию пространственных нагрузок. Расчет деталей корпуса на прочность и жесткость возможен лишь методами теории упруг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Конструкции деталей корпусов сложны и разнообраз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На практике их конструируют по прототип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высокая нагруженность корпуса редуктора позволяет изготавливать его тонкостенным, а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жесткость обеспечивать с помощью ребер и соответствующих утолщений. Для облегчения изготовления корпуса выполняют с разъемом по плоскости, проходящей через оси вал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кономически целесообразный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пособ изготовл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лить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, а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материа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серый чугун марок СЧ10 или СЧ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Корпуса могут отливатьс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сталей, алюминиевых и магниевых сплав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при  единичном производстве сваривают из сталей марок Ст2, Ст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36760" y="0"/>
            <a:ext cx="4179960" cy="3790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17800" y="2852280"/>
            <a:ext cx="3675240" cy="916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Корпус червячного редукт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667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ыковые поверхности корпуса и отверстия под подшипники обрабатывают на стан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щиты от корроз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и в декоративных целях детали корпусов покрывают красками и др. покрыт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789360"/>
            <a:ext cx="9144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Толщину ребер жесткост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д гнездами подшипников назначают не более 0,8 толщины стенки, к которой примыкает ребр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Ширину фланце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основания и разъема назначают несколько большей размера гаек соединений корпуса с крышкой и редуктора с основанием (рамо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0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ПЛОТНЕНИЯ И УСТРОЙСТВА ДЛЯ УПЛОТ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еспечивают нормальную работу машин, приборов и аппаратов, предотвращая утечки рабочей среды (масла, газов) и защищая их от окружающей сред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Уплотнения и уплотняющие устройства,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можно подразделить на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уплотнения для неподвижных соединений (деталей)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уплотнения и устройства для уплотнения подвижных дета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у эффективности уплотнения (герметичности) производят визуально, течеискателями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плотнения неподвижных соедин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числу соединений, подлежащих уплотнению, относятся болт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005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единения корпусов различных аппаратов высокого и низкого давления, крышек редукторов, двигателей и многих других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уплотнение достигае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за сче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жатия прокладок, колец и друг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плотняющи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лементов, при затяжке бол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кладки и кольца имеют различное поперечное сечение и форму в плане, соответствующую форме сты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Их изготовляю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з листовых материалов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ртона, паронита, асбеста, резины, алюминия, меди, ст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др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9160" y="2133720"/>
            <a:ext cx="2320920" cy="3166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184560" y="2133720"/>
            <a:ext cx="2587680" cy="3166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372360" y="2205000"/>
            <a:ext cx="2698560" cy="295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-1850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В некоторых случая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при монтаже подшипников и т. д.)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прокладки используют одновременно и в качестве регулирово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Для повышения гермети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ногда прокладку (стык) перед постановкой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промазывают краской, пастой или герметизирующей масти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5300640"/>
            <a:ext cx="41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У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т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я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ф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л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ц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640" y="6093000"/>
            <a:ext cx="26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лоской прокладк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60720" y="6093000"/>
            <a:ext cx="27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линзовой прокладко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5960" y="609300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резающимся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ь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3480" y="2492280"/>
            <a:ext cx="9037440" cy="3241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577620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учили распространени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плотнения по торцовым поверхностям (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в)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Для уплотн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выходных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хвостовиков вал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окружная скорость до 6 м/с) применяют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упругие стальные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шайбы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(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толщиной 0,3...0,5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плотнение подвижных детале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бходимо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ля уплотнения выступающих из корпусов вращающихся хвостовиков в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узлах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де рабочая жидкость и смазка не находятс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 давление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 окружная скорость вала не превышает 5...7 м/с,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меня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онтактны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е (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контактирующие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плотнения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 виде ман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4000" y="4680"/>
            <a:ext cx="8640720" cy="4444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есконтактные устройств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меняют для уплотнения деталей, вращающихся с большими скоростя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иболее простое уплотнение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щелевого тип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зо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щелевого уплотн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 крышкой и валом заполняют пластичным смазочным материалом, защищающим подшипник от попадания извне влаги и пы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спространение получи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лабиринтные уплотнен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торых уплотняющий эффект достигается за счет длинной щели из чередующихся радиальных и осевых заз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нструкциях используют и другие типы уплотнений с принципом действия на основе использования центробежных сил,   а также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мбинированные  уплотнения  (,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, г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8360" y="4430880"/>
            <a:ext cx="842472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-158760"/>
            <a:ext cx="9144000" cy="7003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АЗОЧНЫЕ МАТЕРИАЛЫ И 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мазывание трущихся деталей машин (винтов, зубчатых колес, подшипников и др.) производят жидкими минеральными или синтетическими маслами, пластичными (консистентными) и твердыми смаз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ачестве жидких масел используют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минеральные масл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индустриальное, турбинное, трансформаторное, цилиндровое и др.), сохраняющие свои свойства до температуры 120 °С при длительно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Кальциевые смаз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солидолы) применяют при длительной работе деталей до температуры 60 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Натриевые смаз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консталины) более тугоплавки, их допустимо использовать при темпера­турах до 100... 120 °С. Литиевые смазки могут работать при температу­рах от 60 до 150...200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Твердые смаз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коллоидальный графит, дисульфит молибдена, фтористые соединения и т. п.) используют для деталей, работающих в вакууме, в условиях очень низких температур («­100 °С) или весьма высоких температур (»300 °С), при работе в агрессивных средах, не допускающих присутствия какого-либо количества масла или даже п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няют различные способы подачи смазочных материалов к деталям и узла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2044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Разовое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или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периодическое закладывание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или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намазывани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ют для смазывания шарниров, резьбовых соединений, цепей передач, низкооборотных подшипников скольжения, подшипников качения при окружной скорости вала не свыше 10...15 м/с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ластичные смазки закладывают в корпуса подшипник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в объеме '/з...'/2 свободного пространства), намазывают при сборке или подают периодически через индивидуальные смазочные устройства.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30812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5246280"/>
            <a:ext cx="9144000" cy="1775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Окунанием в масляную ванну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мазывают зубчатые передачи редукторов, коробок передач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окооборотн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цепн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ередач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а также шарикоподшипник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Тихоход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еса погружают на '/з радиуса, а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быстроходны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еса - не более чем на одну или две высоты з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6560" y="2421000"/>
            <a:ext cx="113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маслен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с крыш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52720" y="1916280"/>
            <a:ext cx="117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маслен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фитиль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2492280"/>
            <a:ext cx="1511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масленка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с шари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242100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ресс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масл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60"/>
            <a:ext cx="9144000" cy="6850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ружины и упругие элементы используют в конструкциях в качестве виброизолирующих, амортизирующих, аккумулирующих, натяжных, динамометрических и других устр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Классификация пружи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о вид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оспринимаемой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нагруз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азли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ужины растяж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жат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ручени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зги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П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еометрической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фор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х назы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интовы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пиральны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рямым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от назнач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ружины быв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илов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змерительными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мортизирующи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062360"/>
            <a:ext cx="9144000" cy="5628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Подача смазки фитилями</a:t>
            </a:r>
            <a:r>
              <a:rPr b="1" i="1" lang="en-US" sz="1600" spc="-1" strike="noStrike">
                <a:solidFill>
                  <a:srgbClr val="0000cc"/>
                </a:solidFill>
                <a:latin typeface="Arial"/>
              </a:rPr>
              <a:t> или дозирующей масленкой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спользуется в основном для смазывания высокооборотных малогабаритных подшипников, а также цепных передач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Разбрызгиванием </a:t>
            </a:r>
            <a:r>
              <a:rPr b="1" i="1" lang="en-US" sz="1600" spc="-1" strike="noStrike">
                <a:solidFill>
                  <a:srgbClr val="0000cc"/>
                </a:solidFill>
                <a:latin typeface="Arial"/>
              </a:rPr>
              <a:t>масла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 общей масляной ванны смазывают червячные передачи      (при нижнем расположении червяка), а также подшипники редукторов коробок передач станков и автомоби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Разбрызгивание и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«масляный туман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здаются погруженными в масло зубчатыми колесами, маслоразбрызгивающими кольц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шипников скольжения (работа в режиме жидкостного трения) и подшипников качения мощных высокоскоростных редукторов, электроприводов, центрифуг к др. Масло с помощью насоса (шестеренчатого, плунжерного и др.) по трубопроводам доставляется к    деталям и разбрызгивается принудительно с помощь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уйных форсу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Смазку приборных устройств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изводят обычно в процессе сборки, закладывая ее в количествах, достаточных для эксплуат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течение ресур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640" y="3716280"/>
            <a:ext cx="67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Циркуляционная подача</a:t>
            </a:r>
            <a:r>
              <a:rPr b="1" i="1" lang="en-US" sz="1600" spc="-1" strike="noStrike">
                <a:solidFill>
                  <a:srgbClr val="0000cc"/>
                </a:solidFill>
                <a:latin typeface="Arial"/>
              </a:rPr>
              <a:t> масла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меняется для смазы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89000"/>
            <a:ext cx="748836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Заливку масла в корпус подшипника 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производят до центра тела                    качения, занимающего в подшипнике нижнее положе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76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Лекция  заверш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!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4508640"/>
            <a:ext cx="7999560" cy="1982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1125360"/>
            <a:ext cx="7488360" cy="2238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-1080"/>
            <a:ext cx="9144000" cy="10087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шиностроении наиболее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распространен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винтовые цилиндрические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пружины растяжения 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жатия  и кручени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, а также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фасонные пружины сжати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5240" y="6490440"/>
            <a:ext cx="921204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тарельчатая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ьцевая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спиральная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стержневая; д —  ресс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00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е применяют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пециальные пруж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арельчатые и кольцевые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-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сжати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(спиральные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 стержневые);  кручения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;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стовые (рессоры)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-153360"/>
            <a:ext cx="9144000" cy="13136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Пружины растяжен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вивают без просветов между витками с начальным надавливанием витков, компенсирующим частично внешнюю нагруз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4140360" cy="330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606200"/>
            <a:ext cx="9144000" cy="18680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Пружины сжат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вивают с просветом между витками, на 10...20 % превышающим осевые перемещения   витка при наибольшей нагруз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Пружины кручен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вивают с малым углом подъема и небольшими зазорами между витками (0,5 м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197000"/>
            <a:ext cx="45720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передачи внешней нагрузки пружины (диаметра до 3…4 мм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набжают зацепами в форме отогнутых последних ви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ответственных пружин диаметром свыше 4 мм часто применяют закладные зацепы, но они менее технологич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-110160"/>
            <a:ext cx="8064360" cy="30556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Основные параметры витых пруж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ужины характеризуютс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d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иаметром проволоки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                                         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D</a:t>
            </a:r>
            <a:r>
              <a:rPr b="1" i="1" lang="en-US" sz="2000" spc="-1" strike="noStrike" baseline="-30000">
                <a:solidFill>
                  <a:srgbClr val="0000cc"/>
                </a:solidFill>
                <a:latin typeface="Arial"/>
                <a:ea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им диаметром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ндексом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                                       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n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м рабочих витков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ой рабочей части -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H</a:t>
            </a:r>
            <a:r>
              <a:rPr b="1" i="1" lang="ru-RU" sz="2000" spc="-1" strike="noStrike" baseline="-30000">
                <a:solidFill>
                  <a:srgbClr val="0000cc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агом витко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t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H</a:t>
            </a:r>
            <a:r>
              <a:rPr b="1" i="1" lang="en-US" sz="2000" spc="-1" strike="noStrike" baseline="-30000">
                <a:solidFill>
                  <a:srgbClr val="0000cc"/>
                </a:solidFill>
                <a:latin typeface="Arial"/>
                <a:ea typeface="Times New Roman"/>
              </a:rPr>
              <a:t>o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углом  подъе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вит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708360" y="2781360"/>
            <a:ext cx="647640" cy="331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4398840" y="2325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24902" t="0" r="0" b="0"/>
          <a:stretch/>
        </p:blipFill>
        <p:spPr>
          <a:xfrm>
            <a:off x="4284720" y="2781360"/>
            <a:ext cx="1944720" cy="374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3140640"/>
            <a:ext cx="8964720" cy="398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ндекс пружины характеризует кривизну   витка.   Пружины   с   индек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499200"/>
            <a:ext cx="8964720" cy="7646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нять не рекомендуется из-за высокой концентр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ряжений в витка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326120"/>
            <a:ext cx="9144000" cy="25333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Основными материал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ужин являются:     высокопрочная специальная             пружинная проволо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лассов диаметром 0,2...5 мм, высокоуглеродисты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тали 65, 7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марганцовистая стал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5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кремнистая стал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60С2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хромованадиевая стал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50ХФ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боты в агрессивной среде пружины изготовля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 цветных спла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защиты от окисления пружины покрывают лаком, оксидируют, наносят цинковое или кадмиевое покры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5763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3600"/>
            <a:ext cx="9144000" cy="23799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СЧЕТ ВИТЫХ ЦИЛИНДРИЧЕСКИХ ПРУЖ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 действием осевой растягивающей силы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оперечном сечении пружи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 действовать поперечная сила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момент 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М</a:t>
            </a:r>
            <a:r>
              <a:rPr b="1" i="1" lang="en-US" sz="1200" spc="-1" strike="noStrike">
                <a:solidFill>
                  <a:srgbClr val="0000cc"/>
                </a:solidFill>
                <a:latin typeface="Arial"/>
              </a:rPr>
              <a:t>z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F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i="1" lang="en-US" sz="12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/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 которого совпадает с плоскостью пары сил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ru-RU" sz="1800" spc="-1" strike="noStrike">
                <a:solidFill>
                  <a:srgbClr val="def6f1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еречное сечение витка наклонено к плоскости момента на угол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ции силы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мент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103640" cy="4581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3600720" cy="401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64000" y="3645000"/>
            <a:ext cx="274176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54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219640" y="4437000"/>
            <a:ext cx="3311640" cy="442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235760" y="558900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гол подъема витков мал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7380360" y="5661000"/>
            <a:ext cx="1439640" cy="30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46440" y="6021000"/>
            <a:ext cx="45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этому можно считать, что се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ужины работает лишь на круч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6760" y="104040"/>
            <a:ext cx="48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Условие прочностной надежности пруж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43600" y="106200"/>
            <a:ext cx="1616040" cy="452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0" y="306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03640" y="620640"/>
            <a:ext cx="1800000" cy="447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788000" y="1125360"/>
            <a:ext cx="2232000" cy="695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0" y="177228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коэффициент, учитывающий кривизны витков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138760"/>
            <a:ext cx="485136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оволоки круглого поперечного сече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292720" y="2276640"/>
            <a:ext cx="1871640" cy="385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3059280" y="2779560"/>
            <a:ext cx="2736720" cy="785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0" y="3420000"/>
            <a:ext cx="36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Осевое перемещение пружи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924360" y="3956040"/>
            <a:ext cx="1655640" cy="557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-15120" y="486828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684360" y="4815000"/>
            <a:ext cx="4248000" cy="515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932360" y="4803840"/>
            <a:ext cx="374508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осевая податливость пружин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826920" y="5661000"/>
            <a:ext cx="3313440" cy="88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040280" y="5804640"/>
            <a:ext cx="432612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осевая податливость одного витка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14800" y="1198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гда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382920" y="60480"/>
            <a:ext cx="2484360" cy="43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0" y="476280"/>
          <a:ext cx="3095640" cy="36504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— модуль сдвиг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-260280" y="293076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68360" y="836640"/>
            <a:ext cx="1656000" cy="592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62080" y="413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632040" y="876240"/>
            <a:ext cx="1295640" cy="392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175200" y="500760"/>
            <a:ext cx="49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модуль упругости материала пруж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308520" y="1334520"/>
            <a:ext cx="84056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Диаметр провол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обеспечивающий необходимую про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ь пруж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 заданным индекс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843280" y="1773360"/>
            <a:ext cx="2879640" cy="614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9720" y="2420280"/>
            <a:ext cx="65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ужин из сталей 60С2, 60С2Н2А и 50ХФА приним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2643480"/>
            <a:ext cx="5977080" cy="642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750 МПа для пружин     неответственного назна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3168000"/>
            <a:ext cx="8317080" cy="1008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400 МПа — для ответственных динамически нагруженных пружи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Необходимое число рабочих вит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ют по заданному упругому перемещению  пруж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708360" y="3860640"/>
            <a:ext cx="379440" cy="409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611280" y="2781360"/>
            <a:ext cx="576000" cy="358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611280" y="3213000"/>
            <a:ext cx="576000" cy="358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3203640" y="4319640"/>
            <a:ext cx="2448000" cy="91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5278680"/>
            <a:ext cx="8604360" cy="6915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ависимости от назначения пружины усил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арительной затя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(0,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,5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31760" y="5949360"/>
            <a:ext cx="46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Число витков округляю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до полувитка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4643280" y="6021360"/>
            <a:ext cx="792360" cy="2811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1280" y="6293520"/>
            <a:ext cx="4825800" cy="398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до одного витка 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111600"/>
            <a:ext cx="7127640" cy="6915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Полное число витк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(1,5...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,5...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итка идут на создание опорных поверхностей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955080"/>
            <a:ext cx="914400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больших нагрузках и ограниченных габаритах используют составные пружины сжатия , навивку соседних пружин выполняют в противоположных направлениях (левом и прав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Для предотвра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пучивания пружин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потери устойчивости при больших значениях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ужину следует ставить на оправках или монтировать в гильз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Распространены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многожильные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пружи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оторых вместо проволоки используется трос, свитый из двух - шести проволок  диаметра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,8...2,0 м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высокой демпфирующей способности (за счет трения между жилами) и податливости, многожильные пружины хорошо работают в амортизаторах и других подобных устройств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нструкциях, работающих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в условиях вибраций и ударных нагрузок, применяют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асонные пруж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09:29:09Z</dcterms:created>
  <dc:creator>Рябчук</dc:creator>
  <dc:description/>
  <dc:language>en-US</dc:language>
  <cp:lastModifiedBy>Рябчук</cp:lastModifiedBy>
  <dcterms:modified xsi:type="dcterms:W3CDTF">2006-11-13T09:00:07Z</dcterms:modified>
  <cp:revision>9</cp:revision>
  <dc:subject/>
  <dc:title>ПРУЖИНЫ . УПРУГИЕ ЭЛЕМЕНТЫ. Корпусные детали</dc:title>
</cp:coreProperties>
</file>