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B30-EA8B-4E47-9484-FAA42791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D7F-CF50-4A06-A67A-F80472ED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C3E6-FE3E-4C37-9B4C-45C60D8C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124-5C38-4FF6-84B8-F0BD8221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ACE-C025-4D09-B6FF-AC2E7B52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C79-F2CB-4FF5-826C-5062A1A0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EC0E-6B35-4C1D-A2E0-691E8DED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0E8-3021-444B-9EE2-018B154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744-3051-4300-A23B-8A423B44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CA4-6B7A-4BA5-A7A4-32AC8D37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B73-59B4-4BDF-825F-18C7007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561-5987-4571-975D-A99D7C97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2488-FCEA-4490-B1C2-C67288BAB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2133360"/>
            <a:ext cx="3743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Структурный анализ                                         механизмов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49360"/>
            <a:ext cx="7561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ОБЩИЕ СВЕДЕНИЯ О МАШИНАХ И МЕХАНИЗМАХ</a:t>
            </a:r>
            <a:r>
              <a:rPr b="0" i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2720" y="595008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65300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Лекции по П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             </a:t>
            </a:r>
            <a:r>
              <a:rPr b="0" i="1" lang="en-US" sz="3200" spc="-1" strike="noStrike">
                <a:solidFill>
                  <a:srgbClr val="0000cc"/>
                </a:solidFill>
                <a:latin typeface="Arial"/>
              </a:rPr>
              <a:t>Рябчук С.А</a:t>
            </a: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66920" y="765000"/>
            <a:ext cx="7777080" cy="2016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7632720" cy="1943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347120" y="14040"/>
            <a:ext cx="11533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71160" rIns="1334520" tIns="46800" bIns="45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Пример образования плоского шестизвенного мех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Схемы групп различного поря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5786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Порядок структурной групп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числом свободных кинематичкских па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Класс контур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к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оличест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инематических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па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003000"/>
            <a:ext cx="9144000" cy="8560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Класс и поря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механизма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определяются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й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группе, которая имеет наивысший класс и входит в состав 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151200"/>
            <a:ext cx="861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ОСНОВНЫЕ ВИДЫ МЕХАНИЗМОВ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: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рычаж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     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кулачков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фрикционны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зубчатые и д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8836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0" y="4966200"/>
            <a:ext cx="9144000" cy="1892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Рычажные механизм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плоск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простран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ибольшее распространение получили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кривошипно-шатунные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кулисные мех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3600"/>
            <a:ext cx="86040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000" spc="-1" strike="noStrike">
                <a:solidFill>
                  <a:srgbClr val="cc0000"/>
                </a:solidFill>
                <a:latin typeface="Tahoma"/>
              </a:rPr>
              <a:t>Структурные схемы простейших рычажных механизмо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16120" y="322956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16120" y="3229560"/>
            <a:ext cx="31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1880" y="25750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82360" y="2620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82360" y="2620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580000" cy="266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788000" cy="321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2952" r="0" b="2952"/>
          <a:stretch/>
        </p:blipFill>
        <p:spPr>
          <a:xfrm>
            <a:off x="5796000" y="765000"/>
            <a:ext cx="3348000" cy="417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41440" y="2781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Кривошипно-ползу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11600" y="649116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Четырехшарни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2880" y="414972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Кули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70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Кулачковые механизм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24000" y="3212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Фрикционные механизм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7993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37200"/>
            <a:ext cx="33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Зубчатые механизмы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5688000" cy="3645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4941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Волновые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987640" y="3860640"/>
            <a:ext cx="5759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50760" y="619560"/>
            <a:ext cx="371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Крестови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(мальтийский) механизм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3887640" cy="2751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650320"/>
            <a:ext cx="26272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Гидравличе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пневма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меха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374920" y="2924280"/>
            <a:ext cx="67690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Рекомендуемая 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оселевич Г.Б.,Строганов Г.Б.,Маслов Г.С.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кладная  механика.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9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Теория механизмов и маш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Уч. для ВУЗов.(Фролов К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ванов М. Н.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Детали маш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.Высшая школа.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едосьев В.И.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противление матери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. Наука.197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тоболевский И.И.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еория механизмов и маш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М..19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ковский Е.Я., Дружинин Ю.А. и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р.Расчет и конструирование механизмов приборов и вычислительных систе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,Высшая школа.1983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515772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Лекция    заверш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137160"/>
            <a:ext cx="9144000" cy="2989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лассификация маш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Энергетические   ма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Технологические   или    рабоч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Информационные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ависимости от спос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личают маш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1628640"/>
            <a:ext cx="4392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.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ручного упр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-полуавтоматического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-.автоматического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dc6ff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М а ш и н ы-а в т о м а т 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19360"/>
            <a:ext cx="9144000" cy="3477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Механизмы и их назначение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Механиз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— часть машины, в которой рабочий процесс реализу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ыполнения определенных механических дв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Механизм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--совокуп­ность (система) взаимосвязанных тел, предназначенных для преобразования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ahoma"/>
              </a:rPr>
              <a:t>Механизм осуществляе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передачу энергии (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240"/>
            <a:ext cx="9144000" cy="2654280"/>
          </a:xfrm>
          <a:prstGeom prst="rect">
            <a:avLst/>
          </a:prstGeom>
          <a:solidFill>
            <a:srgbClr val="def6f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Основны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ха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РАКТЕРИСТИКИ МАШИНАМ И  МЕХАНИЗМ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Производительность ма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К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Масса и габаритные разм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ные характеристики машин указывают в их техническом паспор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67920"/>
            <a:ext cx="9144000" cy="3386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Tahoma"/>
              </a:rPr>
              <a:t>Основные</a:t>
            </a:r>
            <a:r>
              <a:rPr b="1" lang="en-US" sz="2000" spc="-1" strike="noStrike">
                <a:solidFill>
                  <a:srgbClr val="0066cc"/>
                </a:solidFill>
                <a:latin typeface="Tahoma"/>
              </a:rPr>
              <a:t> ТРЕБОВАНИЯ  К МАШИНАМ И  МЕХАНИЗМ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ahoma"/>
              </a:rPr>
              <a:t>Работоспособ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ahoma"/>
              </a:rPr>
              <a:t>Надежност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i="1" lang="en-US" sz="2000" spc="-1" strike="noStrike">
                <a:solidFill>
                  <a:srgbClr val="3333ff"/>
                </a:solidFill>
                <a:latin typeface="Tahoma"/>
              </a:rPr>
              <a:t>Технолог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ahoma"/>
              </a:rPr>
              <a:t>Эконом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Эргономи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-200880"/>
            <a:ext cx="9144000" cy="7043400"/>
          </a:xfrm>
          <a:prstGeom prst="rect">
            <a:avLst/>
          </a:prstGeom>
          <a:solidFill>
            <a:srgbClr val="def6f1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СТРУКТУРНЫЕ ЭЛЕМЕНТЫ МЕХ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Механиз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- связанная система тел (частей ), движущихся как единое целое. Каждое такое тело называют </a:t>
            </a:r>
            <a:r>
              <a:rPr b="1" i="1" lang="ru-RU" sz="1800" spc="-1" strike="noStrike">
                <a:solidFill>
                  <a:srgbClr val="ff0066"/>
                </a:solidFill>
                <a:latin typeface="Tahoma"/>
              </a:rPr>
              <a:t>звеном</a:t>
            </a:r>
            <a:r>
              <a:rPr b="0" i="1" lang="ru-RU" sz="1800" spc="-1" strike="noStrike">
                <a:solidFill>
                  <a:srgbClr val="ff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о может быть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росты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сложным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(составны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16000" algn="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ено и элементы сложного звена называют </a:t>
            </a: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дет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Звенья различ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о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конструктивным признакам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зубчатое колесо, поршень,ва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о деформативност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жесткое и гибкое звен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по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характеру их движения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ривоши,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коромысло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лзун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т. 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Формирование механиз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существляется с помощью </a:t>
            </a: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инематических пар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подвижного соединения частей звеньев</a:t>
            </a: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Силовой поток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т одного звена к другому передается за 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геометрического замыкан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 помощью дополнительной детали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силового замыкан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прижатия детале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ff"/>
                </a:solidFill>
                <a:latin typeface="Tahoma"/>
              </a:rPr>
              <a:t>Элементы контакта соединительных частей звеньев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точка,        линия,              поверхность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о числу наложенных условий связ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или степеней подвижности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Н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тносительные движения звеньев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инематические пар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предложению акад. И.  И. Артоболевского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ят на классы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8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41558" r="0" b="0"/>
          <a:stretch/>
        </p:blipFill>
        <p:spPr>
          <a:xfrm>
            <a:off x="4788000" y="0"/>
            <a:ext cx="4356000" cy="5575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0" b="57657"/>
          <a:stretch/>
        </p:blipFill>
        <p:spPr>
          <a:xfrm>
            <a:off x="250920" y="260280"/>
            <a:ext cx="4321080" cy="5157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68360" y="59421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ы подразделяют н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низш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звенья  контактируют по поверхн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и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высш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звенья контактируют по линиям или в точ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-113040"/>
            <a:ext cx="9144000" cy="916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кинематическая цеп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истема звеньев</a:t>
            </a:r>
            <a:r>
              <a:rPr b="0" lang="en-US" sz="1800" spc="-1" strike="noStrike">
                <a:solidFill>
                  <a:srgbClr val="0066cc"/>
                </a:solidFill>
                <a:latin typeface="Arial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единенных с  помощью кинематических п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777440" cy="237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3041280"/>
            <a:ext cx="9144000" cy="36601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простые :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а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— замкнутая и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— разомкнут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сложные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замкнутая и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г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разомкну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механизм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— 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это кинематическая цепь, в которой все    звенья движутся определенны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Зв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стойк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корпус, станина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           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Вхо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          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выхо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Кинематические цеп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но подразде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плоские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 и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пространств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простые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и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слож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71640" y="4941720"/>
            <a:ext cx="863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1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СТРУКТУРНЫЕ ФОРМУЛЫ  КИНЕМАТИЧЕСКИХ  ЦЕПЕЙ  И  МЕХАНИЗМО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18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пень подвижност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пространственной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кинематической цеп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носитель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подвиж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0" r="11750" b="1222"/>
          <a:stretch/>
        </p:blipFill>
        <p:spPr>
          <a:xfrm>
            <a:off x="1332000" y="1628640"/>
            <a:ext cx="6516720" cy="600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4278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</a:t>
            </a:r>
            <a:r>
              <a:rPr b="1" i="1" lang="en-US" sz="1800" spc="-1" strike="noStrike">
                <a:solidFill>
                  <a:srgbClr val="ff0066"/>
                </a:solidFill>
                <a:latin typeface="Arial"/>
              </a:rPr>
              <a:t>плоского</a:t>
            </a:r>
            <a:r>
              <a:rPr b="1" i="1" lang="en-US" sz="1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труктурная формула принима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8000" y="2852640"/>
            <a:ext cx="5329440" cy="55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-1468080" y="3782520"/>
            <a:ext cx="237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676908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6277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общее число связей может войти </a:t>
            </a:r>
            <a:r>
              <a:rPr b="1" i="1" lang="en-US" sz="2400" spc="-1" strike="noStrike">
                <a:solidFill>
                  <a:srgbClr val="0000cc"/>
                </a:solidFill>
                <a:latin typeface="Tahoma"/>
              </a:rPr>
              <a:t>q</a:t>
            </a:r>
            <a:r>
              <a:rPr b="0" i="1" lang="en-US" sz="24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быточных связ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69800"/>
            <a:ext cx="9144000" cy="57042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ahoma"/>
              </a:rPr>
              <a:t>Основные задачи структурного анализа механизмов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определение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числа звенье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структурных групп, числа и вида КП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б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определе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степени подвижност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в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разделение механизма на структурные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екомпозиция        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;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г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определение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числа контуров и числа  избыточных связе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ля анализа используют </a:t>
            </a: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структурную схему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— </a:t>
            </a:r>
            <a:r>
              <a:rPr b="1" lang="en-US" sz="2000" spc="-1" strike="noStrike">
                <a:solidFill>
                  <a:srgbClr val="3333ff"/>
                </a:solidFill>
                <a:latin typeface="Tahoma"/>
              </a:rPr>
              <a:t>простейшую  модель 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без указания размеров звеньев</a:t>
            </a: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На схеме звень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обозначают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цифрами, а пары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и характерные точки —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бук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Неподвижное звено показывают штрихо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4320"/>
            <a:ext cx="9144000" cy="1557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63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уктурный синтез механ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63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3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тся метод присоединения структурных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групп Ассур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3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 ведущему звену (или механизм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30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4160880" y="2603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416088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-4160880" y="3370320"/>
          <a:ext cx="182520" cy="1170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71640" y="5451840"/>
            <a:ext cx="78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число кинематических пар пятого класса в группе обязательно целое чис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2160360" cy="52236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1:43:46Z</dcterms:created>
  <dc:creator>Рябчук</dc:creator>
  <dc:description/>
  <dc:language>en-US</dc:language>
  <cp:lastModifiedBy>Рябчук</cp:lastModifiedBy>
  <dcterms:modified xsi:type="dcterms:W3CDTF">2006-08-31T15:25:57Z</dcterms:modified>
  <cp:revision>23</cp:revision>
  <dc:subject/>
  <dc:title>Слайд 1</dc:title>
</cp:coreProperties>
</file>