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AEA-2B35-4C63-9C06-2BC3CC28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BEA-4A20-4F7C-BF02-8F54ADF9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293-ED84-41DF-8659-D7412A38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4E4-BF63-4625-B02A-580D655B6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580-47B3-4EB7-ABB4-FFF1C3D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71B-0736-4A18-82CD-FA89A634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7C4-3E3F-4D9F-8025-43818FD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F9F-FE62-4083-8F02-411B0DE2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947-0A61-456C-993D-1EFE01EC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0D6-B648-4098-B441-C317CF94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4C1-7DE8-4AF5-A764-40708689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294-7474-41F8-ADA2-3CDC0FCE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60B1-239A-4E9D-972D-A9771374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27280" y="1341360"/>
            <a:ext cx="4897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Опоры </a:t>
            </a: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валов и о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57986" b="0"/>
          <a:stretch/>
        </p:blipFill>
        <p:spPr>
          <a:xfrm>
            <a:off x="1476360" y="2708280"/>
            <a:ext cx="15667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11600"/>
            <a:ext cx="9074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распредел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з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длине вкладыша на его внутренней поверхности дела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ав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емки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остоянной нагрузке и постоянном направлении вращения ограничиваются одной канавкой, при переменном вращении выполняют две канав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авки не доводят до торцов, оставляя расстоя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227640" y="2205000"/>
            <a:ext cx="1943280" cy="333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58720" y="2204280"/>
            <a:ext cx="35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ина канавк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(0,15...0,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79640" y="2997360"/>
            <a:ext cx="7164360" cy="3390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60" y="378900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одшипник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вклад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7664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распространенными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териалами вкладыш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бби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16 и Б83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ронз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р010Ф1, БрАЭЖЗЛ и др.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ун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ЛМцОС 58-2-2-2, антифрикционны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гу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Ч-2, АСЧ-3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кладыши малонагруженн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низкооборотных подшип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готовляю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локерамики, пластмас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359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адыши изготовляют из материалов с высокими антифрикционными свойствами, хорошей теплопроводностью, прирабатываемостью и смачиваемостью смазочными материалами, твердостью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ШИПНИКИ К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одшипники качения являются наиболее распространенным видом опор деталей механизмов и маш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В отличие от подшипников скольжения в них реализовано трение качения между деталями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ужным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внутренним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ьцами, телами качения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сположенными между коль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2125800"/>
            <a:ext cx="3745080" cy="3376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V="1" rot="10800000">
            <a:off x="0" y="5803200"/>
            <a:ext cx="91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едохранения тел качения от соприкосновения между собой их отделяют друг от друга сепаратором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ла качения перемещаются по беговым дорожкам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выполненным на кольц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636280"/>
            <a:ext cx="17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шипники ка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02840"/>
            <a:ext cx="9144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Классификация  подшипников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форме  тел  качения подшипники  подразделяют на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шариковые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роликов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 форме рол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с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коротким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и и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длинными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цилиндрическими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рол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с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коническим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бочкообраз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игольчатым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витыми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роликам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 направлению  воспринимаемых   сил подшипники разделяют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радиаль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оспринимающие преимущественно радиальные нагрузки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291560"/>
            <a:ext cx="9096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радиально-упорные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инимают действие радиальных и осевых нагруз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упорно-радиальные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воспринимают осевую нагрузку при незначительной    радиальной нагруз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упор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оспринимающие только осевые сил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632720" cy="2273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6624720" cy="3703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53800" y="2275920"/>
            <a:ext cx="41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сновные типы шарикоподшипни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28720" y="623664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сновные типы роликоподшипни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648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 способности  самоустанавливаться  подшипники  подразделяют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не самоустанавливающиес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самоустанавливающие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допускающие поворот оси внутреннего кольца по отношению к оси наружного ко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числу рядов тел качения различают подшипни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однорядные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,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двухрядные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  и  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четырехряд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шипники одного и того же диаметра отверс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разделяют н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ерии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габаритным размерам  наружного диаме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верхлегкую, особо легкую, легкую,  среднюю и тяжелу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в зависимости от ширины они  подразделяются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особо узкую, узкую, нормальную, широкую, особо широк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-186480"/>
            <a:ext cx="914724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татическая грузоподъемность подшип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татической грузоподъемность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шипника называют нагрузку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о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радиальную и осевую),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оторая вызывает общую остаточную деформацию наиболее нагруженного тела качения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нач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для подшипников различных типов и серий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даны в справочника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одшипник нагрузить одновременн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радиа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r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сев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илами, и принять, что осевая сила равномерно распределена между телами качения, то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можем найти величи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татической эквивалентной нагрузки по форм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76720" y="3357720"/>
            <a:ext cx="2446200" cy="439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3934800"/>
            <a:ext cx="91440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</a:t>
            </a:r>
            <a:r>
              <a:rPr b="1" i="1" lang="ru-RU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</a:t>
            </a:r>
            <a:r>
              <a:rPr b="1" i="1" lang="ru-RU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коэффициенты радиальной и осевой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я коэффициентов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Y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подшипников различных тип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едены в справочн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шипник подбирают из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16360" y="5734080"/>
            <a:ext cx="1150920" cy="423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254480" y="573336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219640" y="5708520"/>
            <a:ext cx="1081080" cy="38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48080" y="63079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76720" y="6308640"/>
            <a:ext cx="934920" cy="34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12360" y="6230160"/>
            <a:ext cx="2351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ют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сэ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72800"/>
            <a:ext cx="91440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инамическая грузоподъемность подшипников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од динамической грузоподъемностью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подшипников понимают постоянную радиальную нагруз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Н),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оторую подшипник с одним неподвижным кольцом может воспринимать в течение номинальной долговечности в один миллион оборо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 условие прочностной надежности подшип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говечность подшип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представить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492360" y="2781360"/>
            <a:ext cx="2232000" cy="458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231720"/>
            <a:ext cx="9144000" cy="34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номинальная долговечность подшип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лн. оборо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инамиче­ская грузоподъем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оказатель степен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ривой устал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шип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расчетная долговечность подшипник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лн. оборо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астота вращения кольц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расчетная долговечность подшипник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азатель степе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3 — для шарикоподшипников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3,33  — для роликоподшип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я динамических грузоподъемностей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подшип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ных типов и серий приведены в справочник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87280" y="4292640"/>
                <a:ext cx="185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275120" y="414864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-34920"/>
            <a:ext cx="9144000" cy="24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Эквивалентная нагрузка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Влияние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овместного действия осевой и радиальной сил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учитывают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эквивалентной динамической нагрузк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Э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то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остоянн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ая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радиальн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ая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нагрузк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, которая, действуя 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на подшипник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, обеспечивает такой же расчетный срок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их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службы, как и при действительных условиях нагружения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276640"/>
            <a:ext cx="2160360" cy="371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290376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Для подбора шариковых и роликовых подшипников определя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веденную нагруз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форму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56000" y="3716280"/>
            <a:ext cx="4537080" cy="465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4366800"/>
            <a:ext cx="914400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коэффициент вращения (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при вращении внутреннего кольц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V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=1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при вращении наружного кольца)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—коэффициент безопасности, учитывающий влияние на долговечность подшипников   характера внешних нагрузок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температурный коэффици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одшипника из стали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Рабочая температура подшипник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°С   менее  125   125   150   175   200   25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Коэффициент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K</a:t>
            </a:r>
            <a:r>
              <a:rPr b="0" i="1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т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............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1         1,05    1,1   1,17  1,25    1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026440" y="9108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Значения коэффициентов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6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веденная нагрузка для подшипников с короткими цилиндрическими рол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87640" y="6093000"/>
            <a:ext cx="1513080" cy="363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081160" y="6433560"/>
            <a:ext cx="320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для упорных подшип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46640" y="6481800"/>
            <a:ext cx="1224000" cy="318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25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0480" y="809640"/>
            <a:ext cx="90136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69960"/>
            <a:ext cx="9144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Общие сведения о подшипниках сколь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Подшипник скольж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является парой вра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стоит из опорного участка вала (цапфы) и собственно подшипника 2, в котором скользит цапф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используют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честве опор валов и осе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лучаях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когда применение подшипников качения затруднено или невозможно по ряду прич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виду трения скольжения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различают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подшипники сухого тр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работают на твердых смазках или без смаз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подшипники граничного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(полужидко­стного)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тре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подшипники жидкостного тре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</a:rPr>
              <a:t>подшипники с газовой смазкой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-360"/>
            <a:ext cx="91440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бор и определение ресурса работы подшипнико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Выбор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подшипн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ачения производят по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веденной нагрузк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расчетному ресурс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(в млн. оборотов)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40360" y="1052640"/>
            <a:ext cx="1441440" cy="46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255320"/>
            <a:ext cx="9144000" cy="17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3 — для шарикоподшипников,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3,33 — для роликоподшип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ьзу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ученное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четное значени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динамической грузоподъемност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</a:t>
            </a:r>
            <a:r>
              <a:rPr b="1" i="1" lang="ru-RU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р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о справочнику или каталогу выбирают подшипник, при этом должно удовлетворяться услов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067280" y="2637000"/>
            <a:ext cx="863640" cy="349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2923920"/>
            <a:ext cx="9144000" cy="11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ес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ческая грузоподъемность подшипника по катал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Если подшипник принят по конструктивным соображениям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, то расчетом проверяют его ресурс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в час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987640" y="3860640"/>
            <a:ext cx="244800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480" y="4813200"/>
            <a:ext cx="90835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 этих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форму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нимаю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веденную нагруз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 постоянном режиме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эквивалентную нагруз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 переменном режиме рабо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частота в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дних и тех же условий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а нагрузок, частоты вращ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могут быть использованы подшипники различных тип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Лекция  заверш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24720" cy="2519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638800"/>
            <a:ext cx="9144000" cy="40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у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оспринимаемой нагруз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дшипники подразделяют 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адиальн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воспринимают радиальную нагруз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порные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воспринимают осевые силы 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радиально-упор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воспринимают радиальные и осевые нагру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ычно их функции выполняют упорные подшипники, совмещенные с радиаль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Цапф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ередающую радиальную нагрузку,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называют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шипом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при расположении ее в конце вала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шейко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если она находится в середине вала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апф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передающую осевую нагрузку, называют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ятой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а подшипник —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подпятником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чая поверхность подшипников и цапф может бы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цилиндрической, конической и шаровой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форм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ические и шаровые подшипники скольжения применяются ред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4280"/>
            <a:ext cx="914400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собенности работы подшипников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скольжения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ия работы подшипников скольжения опреде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метрами режима работы (удельной нагрузкой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угловой скор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4284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апфы),                       наличием и типом смазочного матери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истиками поверхностей конт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Для однотипных подшипников потери на трение пропорциональны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коэффициенту т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564000" y="2637000"/>
            <a:ext cx="1942920" cy="502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28440" y="3408480"/>
            <a:ext cx="9144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T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f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момент трения в подшипнике;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F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радиальная сила (опорная реакц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В подшипниках сухого тр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коэффициент трения обыч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лишком значительно меняется в зависимости от параметров режима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В подшипниках граничного тр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лияние параметров режима работы  весьма существен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 граничного трения может достигать значений 0,2...0,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чное трение сопровождается износом контактирующих поверх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писанные условия работы типичны для низкоскоростных подшип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01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 увеличени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коэффициент тр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зко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уменьш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связи с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ереходом трения в полужидкостн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ичием одновременно граничной и жидкостной смазк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оэффициент полужидкостного трения ниж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чного т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ако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еж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характериз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нестабильны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словия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маз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абота подшипника с высокой угловой скоростью в режиме полужидкостного трения опас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иная с угловой скор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51280" y="2637000"/>
            <a:ext cx="1584360" cy="49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 rot="10800000">
            <a:off x="25560" y="3077280"/>
            <a:ext cx="91548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которой коэффициент трения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f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=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f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mi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ал отходит от подшипника («всплывает») и смещается в направлении вращ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ледующее увеличение             приводит к увеличению коэффициента т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вал удерживается на «масляном клине» - осуществля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ежим жидкостного трения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торый определяется  законами гидр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Коэффициент жидкостного т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превышает 0,005, износ практически отсутствует. Условия смазывания носят устойчивый харак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465280" y="96840"/>
            <a:ext cx="474840" cy="39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03640" y="4437000"/>
            <a:ext cx="47448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74880"/>
            <a:ext cx="914400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ЧЕТ   ПОДШИПНИКОВ   СКОЛЬ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рузочная способность подшипников сухого и граничного (полужидкостного) трения зависит о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щнос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расходуемой   на  трение.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Для  радиального подшип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76720" y="1263600"/>
            <a:ext cx="2590560" cy="466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9040" y="18442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92400" y="1844640"/>
            <a:ext cx="396720" cy="43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64200" y="1799280"/>
            <a:ext cx="627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окружная скорость цапф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длина и диаметр цапф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rcRect l="0" t="0" r="0" b="21552"/>
          <a:stretch/>
        </p:blipFill>
        <p:spPr>
          <a:xfrm>
            <a:off x="958680" y="2255760"/>
            <a:ext cx="1516320" cy="346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189880"/>
            <a:ext cx="91440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удельная нагрузка на подшипни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F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cc"/>
                </a:solidFill>
                <a:latin typeface="Arial"/>
                <a:ea typeface="Times New Roman"/>
              </a:rPr>
              <a:t>радиальная си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Для упрощенной оце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зносостойкости подшипников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используют произ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451640" y="2852640"/>
            <a:ext cx="432000" cy="292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3428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условие триботехнической надеж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обретает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635280" y="3789360"/>
            <a:ext cx="1657440" cy="492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436640"/>
            <a:ext cx="88646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небольших скоростях сколь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ие триботехнической надежности упрощ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ним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дельную нагрузку на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924360" y="5445000"/>
            <a:ext cx="1265040" cy="463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rcRect l="0" t="0" r="47259" b="0"/>
          <a:stretch/>
        </p:blipFill>
        <p:spPr>
          <a:xfrm>
            <a:off x="3635280" y="6000840"/>
            <a:ext cx="230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342720"/>
            <a:ext cx="586728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боты подшипника в режиме жидкостного трения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меняю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два способа создания  «</a:t>
            </a:r>
            <a:r>
              <a:rPr b="0" i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поддерживающего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» д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ический (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идростатически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идродинам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оответствии с этим различ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идростатический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гидродинамический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подшип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гидростатических подшипни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ление смазочного материала создают насос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ющим масло в зазор между цапфой и подшипни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3673440" cy="2078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079160"/>
            <a:ext cx="914400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и подшипники требуют для нормальной работы сложной гидро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Гидродинамические подшипн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учили большее распространение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 них смазочный матери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ают только в зону низкого давления откуда вращающейся цапфой он увлекается вниз,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образуя клиновой поддерживающий с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ельная нагрузка на подшипник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0" t="21482" r="46875" b="32223"/>
          <a:stretch/>
        </p:blipFill>
        <p:spPr>
          <a:xfrm>
            <a:off x="3995640" y="5661000"/>
            <a:ext cx="2305080" cy="671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4564440" y="51127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6360" y="43200"/>
            <a:ext cx="907920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КОНСТРУКЦИИ ПОДШИПНИКОВ СКОЛЬЖЕНИЯ И МАТЕРИАЛЫ ДЕТА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одшипники скольжения состоя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з двух основных частей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корпу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подшипниковой втулки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вкладыш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 Применение вкладышей позволяет изготовлять детали корпусов из дешевых материалов и облегчает ремо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алогабаритных и неответственных подшипниках вкладыши иногда отсутствуют, их назначение в этом случае выполняют корпу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264360" cy="2517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870080"/>
            <a:ext cx="914400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остранены опоры с неподвижной и с подвижной ос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еханизмах используют опоры на центрах и опоры на кер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ерны изготовляют в форме цилиндрических осей диаметром 0,25...2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26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Опоры механизмов и маши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словно можно подразделить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автономные и встроенны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Автономные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опо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зготовляют по стандартам 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ъемном и   неразъемн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н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шипники с неразъемным корпусом сравнительно просты и дешевы, но сложны при монтаже. Это ограничивает область их использовани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ъемные подшипники широко применяются в различных конструк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52741" b="31255"/>
          <a:stretch/>
        </p:blipFill>
        <p:spPr>
          <a:xfrm>
            <a:off x="395280" y="2708280"/>
            <a:ext cx="3276720" cy="212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99000" y="5013360"/>
            <a:ext cx="368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номный разъемный подшип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rcRect l="0" t="0" r="32763" b="36232"/>
          <a:stretch/>
        </p:blipFill>
        <p:spPr>
          <a:xfrm>
            <a:off x="4356000" y="2924280"/>
            <a:ext cx="4281480" cy="1841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05840" y="4869000"/>
            <a:ext cx="396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номный неразъемный подшип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же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17:17:07Z</dcterms:created>
  <dc:creator>Рябчук</dc:creator>
  <dc:description/>
  <dc:language>en-US</dc:language>
  <cp:lastModifiedBy>Рябчук</cp:lastModifiedBy>
  <dcterms:modified xsi:type="dcterms:W3CDTF">2006-10-24T16:06:39Z</dcterms:modified>
  <cp:revision>31</cp:revision>
  <dc:subject/>
  <dc:title>Опоры валов и осей</dc:title>
</cp:coreProperties>
</file>