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94B-4277-4D06-9261-7463B003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585-C80A-4046-9B54-EC093FB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79C-BF9B-4DBC-8573-90B7D3A7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A2E-7740-4932-8FA0-8DF3B087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3F9-37BD-48B1-8197-6F797F5F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B53-7F78-4163-B313-B71739E6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36E-6421-4F06-8FFD-9D36938D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7BC-97D6-45FF-83B5-830D8497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812-DB17-4039-98EB-F7443BD2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D477-09FB-41B7-A041-2AE0D35C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551-BCDE-46AF-82E7-884F5D57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9FA-594A-446A-9D62-BE9ECEB3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6A06-F5B8-4824-B7B4-C09B224C2D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9640"/>
            <a:ext cx="889308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Резьбовыми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ют соединения деталей помощью резьб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али  имеют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наруж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внутренню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зь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ьба может бы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цилиндричес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—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конической.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ьба может быть выполнена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однозаходной или 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многозаходн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ны стандарты на осно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ы резь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12000" y="1341360"/>
            <a:ext cx="2869920" cy="309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990240"/>
            <a:ext cx="9144000" cy="3146760"/>
          </a:xfrm>
          <a:prstGeom prst="rect">
            <a:avLst/>
          </a:prstGeom>
          <a:solidFill>
            <a:srgbClr val="def6f1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ьбы различают по форме профил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треугольную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(метрическую, трубную),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прямоугольную, круглую, трапециевидную и упорную рез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направлению винтовой лин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правую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лев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з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еометрические параметры цилиндрических резьб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наруж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сред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нутренни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метры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а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зьбы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угол профи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число заход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8120" y="65160"/>
            <a:ext cx="4377960" cy="368280"/>
          </a:xfrm>
          <a:prstGeom prst="rect">
            <a:avLst/>
          </a:prstGeom>
          <a:noFill/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СЧЕТ РЕЗЬБОВЫХ СОЕД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531-14B9-4AC8-81CF-C2490F5CE6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203640" cy="633240"/>
          </a:xfrm>
          <a:prstGeom prst="rect">
            <a:avLst/>
          </a:prstGeom>
          <a:ln w="9360">
            <a:solidFill>
              <a:srgbClr val="def6f1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-98280" y="181080"/>
            <a:ext cx="36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Рас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соединяемых дета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83920"/>
            <a:ext cx="3311640" cy="916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Условие прочности деталей,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ослабленных отверстиями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на разрыв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50760"/>
            <a:ext cx="3419640" cy="1550520"/>
          </a:xfrm>
          <a:prstGeom prst="rect">
            <a:avLst/>
          </a:prstGeom>
          <a:solidFill>
            <a:srgbClr val="def6f1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нет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лощадь детали в опасном сечении с уче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лабления ее отверстия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0" t="0" r="0" b="-26685"/>
          <a:stretch/>
        </p:blipFill>
        <p:spPr>
          <a:xfrm>
            <a:off x="5003640" y="4365720"/>
            <a:ext cx="1872000" cy="493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34920" y="4674600"/>
            <a:ext cx="3314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Условие прочности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с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3280" y="5950080"/>
            <a:ext cx="576360" cy="393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758840" y="4941000"/>
            <a:ext cx="219672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деталей (лис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348000" y="5315040"/>
            <a:ext cx="2519280" cy="674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594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— 0,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—длина опасного сече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-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пускаемое напряж . среза дета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Если заклепка изготовлена из менее прочного материала, чем соединяемые детали, то возможно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Times New Roman"/>
              </a:rPr>
              <a:t>смятие заклеп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4941720"/>
            <a:ext cx="17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для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rcRect l="0" t="5790" r="0" b="0"/>
          <a:stretch/>
        </p:blipFill>
        <p:spPr>
          <a:xfrm>
            <a:off x="3708360" y="0"/>
            <a:ext cx="4033800" cy="4292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812000" y="1197000"/>
            <a:ext cx="133200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щина          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рина    лист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аметр отвер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 заклеп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920" y="4365720"/>
            <a:ext cx="46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требуемая площадь сечения дет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A06-BB95-4838-B952-9CBA7789BD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621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ые типы резьб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треугольная метрическая; б — упорная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трубная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прямоугольная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трапецеид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CA4-A7B1-4172-A654-BA50037EAD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03280"/>
                <a:tab algn="l" pos="152100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репежные        детали        и     типы         соедине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03280"/>
                <a:tab algn="l" pos="152100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аибольшее распространение получ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болты, винты, шпильки, гайк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3280"/>
                <a:tab algn="l" pos="152100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их  помощью образуют разъемные соеди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болтом; винтом; шпилькой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0" b="15187"/>
          <a:stretch/>
        </p:blipFill>
        <p:spPr>
          <a:xfrm>
            <a:off x="0" y="1484280"/>
            <a:ext cx="5724360" cy="489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42245" t="0" r="0" b="5537"/>
          <a:stretch/>
        </p:blipFill>
        <p:spPr>
          <a:xfrm>
            <a:off x="5651640" y="4365720"/>
            <a:ext cx="3492360" cy="249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0" r="62171" b="7383"/>
          <a:stretch/>
        </p:blipFill>
        <p:spPr>
          <a:xfrm>
            <a:off x="6300720" y="1413000"/>
            <a:ext cx="2422440" cy="29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0A0-270D-4769-845E-0E173E3126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68360" y="-10800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Усилия а затянутом соединен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Момент затяж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вращающий момент на ключе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728640"/>
            <a:ext cx="1657080" cy="42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7800" y="580680"/>
            <a:ext cx="2484720" cy="1613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j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длина ключ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илие затяж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к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771640" y="1268280"/>
                <a:ext cx="4302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Л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КЛ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927160" y="1267920"/>
            <a:ext cx="64933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тягивает болт  и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нормальные напряжения в бол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и затяжке рав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2060640"/>
            <a:ext cx="5689440" cy="552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680" y="2679840"/>
            <a:ext cx="911232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Л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эффици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  зависящий от состояния поверх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вида покрытия) болта, гайки и шай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Момент сопротивл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резьбе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скручивает стержен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болта,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вызыв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асательные на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43280" y="4076640"/>
            <a:ext cx="417672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840" y="5069520"/>
            <a:ext cx="38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Эквивалентные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1476360" y="5805360"/>
            <a:ext cx="5327640" cy="6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E38-88DC-481E-B595-FD7309E7F9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34656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32903" b="0"/>
          <a:stretch/>
        </p:blipFill>
        <p:spPr>
          <a:xfrm>
            <a:off x="5113440" y="836640"/>
            <a:ext cx="4030560" cy="2595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9280" y="187920"/>
            <a:ext cx="26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РАСЧ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РЕЗЬБ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СОЕДИ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-122760"/>
            <a:ext cx="6948360" cy="977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а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).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Болт (шпилька) установлен в отверстие деталей с зазором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и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соединение нагружено продольной силой 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F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164520" y="2851920"/>
            <a:ext cx="354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ие прочности бол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203640" y="2924280"/>
            <a:ext cx="1801800" cy="528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223560" y="3572640"/>
            <a:ext cx="536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а внутренний диаметр резьбы бол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2592360" cy="5716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971640" y="4124880"/>
            <a:ext cx="8172360" cy="10389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б)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.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Болт установлен в отверстие соединяемых деталей без зазор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и соединение нагружено поперечной сило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500720" y="5373720"/>
            <a:ext cx="2447640" cy="519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0920" y="6021000"/>
            <a:ext cx="55584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971640" y="5950080"/>
            <a:ext cx="492120" cy="339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5933880"/>
            <a:ext cx="122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(0,2...0,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556000" y="5950080"/>
            <a:ext cx="468360" cy="288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39120" y="5949720"/>
            <a:ext cx="439488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допускаемое напряжение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зе, МП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3851280" y="6308640"/>
            <a:ext cx="360360" cy="279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8760" y="6308280"/>
            <a:ext cx="4008960" cy="337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едел текучести материала болт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8428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ечении болта по внутреннему диаметру резьбы возникают напряжения растя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1000" y="5084640"/>
            <a:ext cx="604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олт рассчитывают как заклепку, диаметр стержня бол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994-5CB7-461C-B536-297A1BBAF5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-306000"/>
            <a:ext cx="9144000" cy="52779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.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Болт установлен в отверстие соединяемых деталей с зазором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оединение нагружено поперечной сил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одвижность соединения может быть обеспечена силами трения на сты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словие взаимной неподви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еталей соединения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≤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сила трения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сила затяжки соединения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оэ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ициент трения на стыке деталей,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или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зывает в сечении болта диаметром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напряжения растяжения и кр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словие прочности бол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допускаемым напряжениям прим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779480" y="90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673440" y="4649760"/>
            <a:ext cx="316872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-1779480" y="27986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-1778040" y="33159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5589720"/>
          <a:ext cx="5543280" cy="395280"/>
        </p:xfrm>
        <a:graphic>
          <a:graphicData uri="http://schemas.openxmlformats.org/drawingml/2006/table">
            <a:tbl>
              <a:tblPr/>
              <a:tblGrid>
                <a:gridCol w="5543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уда  внутренний диаметр резьбы  бол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-1668240" y="48546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10160" y="6113520"/>
            <a:ext cx="3816000" cy="65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1779480" y="5948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rcRect l="65814" t="0" r="0" b="12473"/>
          <a:stretch/>
        </p:blipFill>
        <p:spPr>
          <a:xfrm>
            <a:off x="6156360" y="1125360"/>
            <a:ext cx="2279520" cy="25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0F9-59C4-4963-B839-484D0CC414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4920"/>
            <a:ext cx="9144000" cy="3753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ЗАКЛЕПОЧНЫЕ 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Это - неразъемное соединение деталей (обычно листовых) с помощью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заклепки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единения применяют в конструкциях летательных аппаратов, металлоконструкциях и других изделиях, в которых нагрузки параллельны плоскости стыка, а применение сварки, пайки и склеивания затруднено или невозможно (несвариваемые материалы, недопустимость нагрева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ы (детали) соединяют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внахлестку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встык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наклад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епки располагают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простыми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или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шахматными рядами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епки изготовляют из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пластичных  ста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714840"/>
            <a:ext cx="9144000" cy="2838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алюминиевых и титановых сплавов, латуни.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Виды повреждений и критерии работоспособ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Обрыв головок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и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разрушение стержней, смяти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стенок отверстий и стержней заклепок,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разрушение соединяемых листов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лабленных отверст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критерии работоспособности соедин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чность заклепок и листов соед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C69-50D7-4522-A728-40B091450A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0" r="0" b="80525"/>
          <a:stretch/>
        </p:blipFill>
        <p:spPr>
          <a:xfrm>
            <a:off x="611280" y="361800"/>
            <a:ext cx="7632720" cy="23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67913" r="0" b="5336"/>
          <a:stretch/>
        </p:blipFill>
        <p:spPr>
          <a:xfrm>
            <a:off x="539640" y="3220920"/>
            <a:ext cx="7561440" cy="313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98E-D86C-4FC5-BF2E-3B037EC8BB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89480" y="619920"/>
            <a:ext cx="49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Условие прочностности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заклепки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на сре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59280" y="1152360"/>
            <a:ext cx="3528720" cy="80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9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суммарная площадь поперечного с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число поверхностей сре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Отк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540160"/>
            <a:ext cx="3384720" cy="649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90560" y="3357000"/>
            <a:ext cx="58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Условие прочности на смятие стержня заклеп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87640" y="3789360"/>
            <a:ext cx="3529080" cy="646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47480" y="42202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50920" y="4724280"/>
            <a:ext cx="863640" cy="559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06560" y="4797000"/>
            <a:ext cx="8137440" cy="916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емое напряжение смятия для материала заклепки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толщи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а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число заклеп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  этого   условия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йд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диаметр заклеп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203640" y="5913360"/>
            <a:ext cx="3240000" cy="698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800" y="-73080"/>
            <a:ext cx="255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Расчет стерж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заклеп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047A-9DA7-4104-B4F8-A3256AB33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5:10:06Z</dcterms:created>
  <dc:creator>Рябчук</dc:creator>
  <dc:description/>
  <dc:language>en-US</dc:language>
  <cp:lastModifiedBy>Рябчук</cp:lastModifiedBy>
  <dcterms:modified xsi:type="dcterms:W3CDTF">2006-10-31T11:49:31Z</dcterms:modified>
  <cp:revision>14</cp:revision>
  <dc:subject/>
  <dc:title>РЕЗЬБОВЫЕ СОЕДИНЕНИЯ</dc:title>
</cp:coreProperties>
</file>