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3.png" ContentType="image/png"/>
  <Override PartName="/ppt/media/image96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7B7-B6BC-4A35-A7B7-8C5D5D7A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B556-2002-4528-B120-D027A85B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417-2111-4D8E-A079-3F21D3AC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C56-4344-473A-976E-134976D3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C6D-0818-4060-A60F-4F10CEB0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CC06-069D-4240-AAD4-B6F02FAA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1911-3D7E-43C1-9CDA-73692993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95E-636A-44FC-84D8-FB1B116B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7B8D-81ED-40E4-817D-9E7CAF38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144-1791-422B-B429-74985D99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837-49F9-4399-B7F5-50F1DE13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17BC-2597-4DBA-A2FB-3958369E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C76A-984F-41E6-99A2-42A6F2B88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51.png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image" Target="../media/image69.png"/><Relationship Id="rId9" Type="http://schemas.openxmlformats.org/officeDocument/2006/relationships/image" Target="../media/image70.png"/><Relationship Id="rId10" Type="http://schemas.openxmlformats.org/officeDocument/2006/relationships/image" Target="../media/image71.png"/><Relationship Id="rId11" Type="http://schemas.openxmlformats.org/officeDocument/2006/relationships/image" Target="../media/image72.png"/><Relationship Id="rId12" Type="http://schemas.openxmlformats.org/officeDocument/2006/relationships/image" Target="../media/image73.png"/><Relationship Id="rId13" Type="http://schemas.openxmlformats.org/officeDocument/2006/relationships/image" Target="../media/image74.png"/><Relationship Id="rId14" Type="http://schemas.openxmlformats.org/officeDocument/2006/relationships/image" Target="../media/image74.pn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image" Target="../media/image81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image" Target="../media/image8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image" Target="../media/image94.png"/><Relationship Id="rId8" Type="http://schemas.openxmlformats.org/officeDocument/2006/relationships/image" Target="../media/image95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100.png"/><Relationship Id="rId6" Type="http://schemas.openxmlformats.org/officeDocument/2006/relationships/image" Target="../media/image101.png"/><Relationship Id="rId7" Type="http://schemas.openxmlformats.org/officeDocument/2006/relationships/image" Target="../media/image102.png"/><Relationship Id="rId8" Type="http://schemas.openxmlformats.org/officeDocument/2006/relationships/image" Target="../media/image103.png"/><Relationship Id="rId9" Type="http://schemas.openxmlformats.org/officeDocument/2006/relationships/image" Target="../media/image104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107.png"/><Relationship Id="rId3" Type="http://schemas.openxmlformats.org/officeDocument/2006/relationships/image" Target="../media/image108.png"/><Relationship Id="rId4" Type="http://schemas.openxmlformats.org/officeDocument/2006/relationships/image" Target="../media/image109.png"/><Relationship Id="rId5" Type="http://schemas.openxmlformats.org/officeDocument/2006/relationships/image" Target="../media/image110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Механические передачи зацеплен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Зубчатые пере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692360" y="2637000"/>
            <a:ext cx="4257720" cy="3628440"/>
            <a:chOff x="1692360" y="2637000"/>
            <a:chExt cx="4257720" cy="3628440"/>
          </a:xfrm>
        </p:grpSpPr>
        <p:sp>
          <p:nvSpPr>
            <p:cNvPr id="44" name="Gear"/>
            <p:cNvSpPr/>
            <p:nvPr/>
          </p:nvSpPr>
          <p:spPr>
            <a:xfrm>
              <a:off x="4052880" y="2637000"/>
              <a:ext cx="1897200" cy="16635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92360" y="3322440"/>
              <a:ext cx="2268360" cy="19890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163680" y="4056120"/>
              <a:ext cx="2521080" cy="22093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-61560"/>
            <a:ext cx="9144000" cy="13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Зацепление эвольвентных проф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мотрим передачу вращательного движения между параллельными осям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1" i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i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; межосевым расстоянием  </a:t>
            </a: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аточным отношением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33440" cy="328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11280" y="1196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244440" cy="34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300320" y="1124640"/>
            <a:ext cx="63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яют положение полюса зацеплени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отрез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380360" y="1197000"/>
            <a:ext cx="1439640" cy="322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-3205080" y="180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3203640" y="1773360"/>
            <a:ext cx="2448000" cy="9856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79280" y="278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ки контакта колес, двигаясь по линии зацепления со скор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3059280" y="3146400"/>
            <a:ext cx="3097080" cy="533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3578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аются в относительном движении неравномерно по профилям зубьев, т. е.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сопряженные профили будут перекатываться один по другому со скольж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-3608280" y="91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2556000" y="5595840"/>
            <a:ext cx="4103640" cy="9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-3608280" y="4694400"/>
          <a:ext cx="18252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0" y="422856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На каждом колесе имеется по одной соосной поверхности у которых вектор относительной скорости в точке касания  равен нул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Эти поверхности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называют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начальным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а  окруж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принадлежащие им,—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начальными окружностям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Диаметры начальных окру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589720"/>
            <a:ext cx="71280" cy="93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3311640" cy="438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376360" cy="3888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-1981080" y="4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-169920"/>
            <a:ext cx="8964720" cy="15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Он связан с диаметром основной окружности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форму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Межосевое расстоя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ередачи </a:t>
            </a:r>
            <a:r>
              <a:rPr b="1" i="1" lang="ru-RU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а</a:t>
            </a:r>
            <a:r>
              <a:rPr b="1" i="1" lang="en-US" sz="2400" spc="-1" strike="noStrike" baseline="-30000">
                <a:solidFill>
                  <a:srgbClr val="cc0000"/>
                </a:solidFill>
                <a:latin typeface="Arial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разим через диаметры основ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уж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160200" y="155664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м в расмотрение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ш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987640" y="1557360"/>
            <a:ext cx="50328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1628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по основной окружност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расстояние между соседними эквидистантными профилями по дуге основной окруж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Нормальное зацепление пары зубьев возможено при условии раве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rcRect l="0" t="0" r="49640" b="0"/>
          <a:stretch/>
        </p:blipFill>
        <p:spPr>
          <a:xfrm>
            <a:off x="3851280" y="2492280"/>
            <a:ext cx="1728720" cy="463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2570400"/>
            <a:ext cx="4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611280" y="2708280"/>
            <a:ext cx="576000" cy="477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18200" y="2780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2340000" y="2708280"/>
            <a:ext cx="461880" cy="511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2878920"/>
            <a:ext cx="914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шаги по основной окружности коле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Отюда следует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ара эвольвентных профилей с диаметрам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4788000" y="3716280"/>
            <a:ext cx="504720" cy="379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V="1">
            <a:off x="5219640" y="3696840"/>
            <a:ext cx="56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5867280" y="3716280"/>
            <a:ext cx="505080" cy="363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4507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может зацепляться при различных межосевых расстоя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9"/>
          <a:stretch/>
        </p:blipFill>
        <p:spPr>
          <a:xfrm>
            <a:off x="7596360" y="4508640"/>
            <a:ext cx="720720" cy="396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0" y="506772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эвольвентные колеса с любыми числа­ми зубьев могут сцепляться друг с другом, если шаги их рав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эвольвентные колеса могут сопрягаться с рейкой, имеющей произвольный угол            профиля, если их основные шаги рав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720"/>
            <a:ext cx="9144000" cy="27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5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Изготовление кол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Зубчатые колеса изготовляю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на станках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убья нарезают методом копирования либо методом обкатки(огиб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унификации изготовления зубчатых колес  и  обеспечения  сопряженности  их профилей нарезание зубьев производят инструментами на основе так называемого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исходного контур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ГОСТ 13755—8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-3751200" y="122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7158"/>
          <a:stretch/>
        </p:blipFill>
        <p:spPr>
          <a:xfrm>
            <a:off x="0" y="2708280"/>
            <a:ext cx="9144000" cy="348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-3751200" y="2928960"/>
          <a:ext cx="182520" cy="18842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8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2016720" y="6236640"/>
            <a:ext cx="50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уры рейки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(Д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делительная пряма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107280"/>
            <a:ext cx="914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Инструмент имеет форму рейк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им из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основных параметр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нтура является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моду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140360" y="836640"/>
            <a:ext cx="1223640" cy="3096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1135440"/>
            <a:ext cx="91440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р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шаг зубьев,  расстояние между одноименными профилями соседних зубьев рейки по делительной или другой, параллельной ей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итель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ывают прямую, на которой теоретическая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толщина з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равна ширине впад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Моду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является  нормированным шагом зацеп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ндартом предусмотрен широкий набор модул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модулей свыше 1 мм исходный контур является прямобочным и име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фильный уго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556000" y="350028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988720" y="349956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0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2771640" y="3933720"/>
            <a:ext cx="1295640" cy="3762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46040" y="42919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зде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1619280" y="4365720"/>
            <a:ext cx="360360" cy="323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4115520"/>
            <a:ext cx="914400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эффициент высоты головки зуб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лщина зуб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 делительной прямо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0,5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иальный заз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 = с*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здес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* =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0,2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— коэффициент радиального зазора)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иус закругления у корня з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3564000" y="5950080"/>
            <a:ext cx="388800" cy="4269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995640" y="6020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,384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3933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убина   за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 flipV="1" rot="10800000">
            <a:off x="0" y="763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чальная окружность в процессе нарезания зубьев на колесе катится по начальной прямой рейки, и шаг рейки умещаетсяся на 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732720" y="1125360"/>
            <a:ext cx="360360" cy="360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020000" y="105156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503280" cy="403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08400" y="1772280"/>
            <a:ext cx="54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нарезаемых зубьев на колесе), т.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084720" y="1773360"/>
            <a:ext cx="1513080" cy="3762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22755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Диаметр делительной окружност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ен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5076720" y="2276640"/>
            <a:ext cx="1368360" cy="474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0" y="350856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литель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ужность и прям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могу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ть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относительное смещени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Смещени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условно присваиваю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к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делительная прямая не пересекает и не касается делительной окружности, смещение считают положительным; если пересекает — отрицатель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99736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Делительная окружность является параметром зацепления при изготовлении колес методом обка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-2768760" y="17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697800" cy="3789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122840" y="37886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убья коле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580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лагодаря смещению инструмента удается снизить минимально допустимое число зубьев на колесе без утонения (подрезания)  их у ос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378864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езанных   с   различным   смещением инструмен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43657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Смещение изменяет форму 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ожительное смещение приводит к утолщению зу­ба у основания и уменьшению кривизны профи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Такие изменения формы способствуют повышению его про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-14400"/>
            <a:ext cx="91440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ГЕОМЕТРИЧЕСКИЙ РАСЧЕТ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ЭВОЛЬВЕНТНЫХ    ПРЯМОЗУБЫХ ПЕРЕД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Times New Roman"/>
              </a:rPr>
              <a:t>Основные размеры кол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Диаметр делительной  окружности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равен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508720" y="1125360"/>
            <a:ext cx="1008000" cy="352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440" y="387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15480" y="1685160"/>
            <a:ext cx="52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Диаметр 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основной окружности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колеса</a:t>
            </a:r>
            <a:r>
              <a:rPr b="1" lang="en-US" sz="14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292720" y="1773360"/>
            <a:ext cx="1512720" cy="2570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773520" y="3902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4000" y="2189880"/>
            <a:ext cx="45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Шаг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 по основной окруж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788000" y="2276640"/>
            <a:ext cx="2592360" cy="2919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12400" y="2766240"/>
            <a:ext cx="40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Диаметр окружности впад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4788000" y="2852640"/>
            <a:ext cx="3457440" cy="363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148920" y="3702960"/>
            <a:ext cx="26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41388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Диаметр окружности верши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для со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еоретического радиального зазо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5796000" y="3500280"/>
            <a:ext cx="2376360" cy="64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0" y="344484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406152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Толщина зуб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 делительной окружности ра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ширине впадины рейки по начальной прям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5651640" y="4437000"/>
            <a:ext cx="2663640" cy="3621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68560" y="4926600"/>
            <a:ext cx="31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Высота зуба</a:t>
            </a:r>
            <a:r>
              <a:rPr b="1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                    </a:t>
            </a:r>
            <a:r>
              <a:rPr b="0" lang="en-US" sz="1200" spc="-1" strike="noStrike">
                <a:solidFill>
                  <a:srgbClr val="3333ff"/>
                </a:solidFill>
                <a:latin typeface="Arial"/>
                <a:ea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3132000" y="4941720"/>
            <a:ext cx="2016360" cy="354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95480" y="5213880"/>
            <a:ext cx="38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Высота головк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уб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8"/>
          <a:stretch/>
        </p:blipFill>
        <p:spPr>
          <a:xfrm>
            <a:off x="3276720" y="5445000"/>
            <a:ext cx="2232000" cy="3603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04840" y="6006240"/>
            <a:ext cx="36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3333ff"/>
                </a:solidFill>
                <a:latin typeface="Arial"/>
                <a:ea typeface="Times New Roman"/>
              </a:rPr>
              <a:t>Высота  ножк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уб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276720" y="6093000"/>
            <a:ext cx="2447640" cy="325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0"/>
          <a:srcRect l="0" t="0" r="69822" b="0"/>
          <a:stretch/>
        </p:blipFill>
        <p:spPr>
          <a:xfrm>
            <a:off x="4457880" y="5373720"/>
            <a:ext cx="399960" cy="455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1"/>
          <a:srcRect l="0" t="0" r="69822" b="0"/>
          <a:stretch/>
        </p:blipFill>
        <p:spPr>
          <a:xfrm>
            <a:off x="5148360" y="6021360"/>
            <a:ext cx="39996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6568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Зацепление  эвольвентной  цилиндрической передачи с нулевыми колес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-720"/>
            <a:ext cx="914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Особенности зацепления пары эвольвентных колес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ередачи без смещ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708360" y="620640"/>
            <a:ext cx="1368360" cy="328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-61560" y="980280"/>
            <a:ext cx="40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таких передачах угол зацеп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851280" y="1052640"/>
            <a:ext cx="431640" cy="2887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98064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енно равен углу профи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сходного конту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2340000" y="1268280"/>
            <a:ext cx="504720" cy="3556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874960" y="126756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ежосевое рас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2195640" y="1628640"/>
            <a:ext cx="3458880" cy="4194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53480" y="4341240"/>
            <a:ext cx="26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014920"/>
            <a:ext cx="845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  <a:ea typeface="Times New Roman"/>
              </a:rPr>
              <a:t>а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—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  <a:ea typeface="Times New Roman"/>
              </a:rPr>
              <a:t>делительное межосе­вое расстояние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таких передачах начальные окружности совпадают с делитель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5"/>
          <a:stretch/>
        </p:blipFill>
        <p:spPr>
          <a:xfrm>
            <a:off x="2124000" y="2708280"/>
            <a:ext cx="3419640" cy="4460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385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174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ередачи со смещение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уются из колес, нарезанных со смещением. Если коэффициенты смещения коле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3348000" y="3429000"/>
            <a:ext cx="433440" cy="365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708360" y="34282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4500720" y="3500280"/>
            <a:ext cx="431640" cy="331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3499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ы   по   величине,   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тивоположны  по знакам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492360" y="3789360"/>
            <a:ext cx="1386000" cy="358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920" y="330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4932360" y="3789360"/>
            <a:ext cx="934920" cy="3268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0" y="4011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ая передача называется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равносмещенно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для нее, как и в передаче без сме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0"/>
          <a:stretch/>
        </p:blipFill>
        <p:spPr>
          <a:xfrm>
            <a:off x="2556000" y="4508640"/>
            <a:ext cx="3887640" cy="3632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299880" y="494100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1"/>
          <a:stretch/>
        </p:blipFill>
        <p:spPr>
          <a:xfrm>
            <a:off x="1042920" y="4941720"/>
            <a:ext cx="1008000" cy="357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9" name=""/>
          <p:cNvSpPr/>
          <p:nvPr/>
        </p:nvSpPr>
        <p:spPr>
          <a:xfrm>
            <a:off x="1937160" y="4941000"/>
            <a:ext cx="42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 в такой  передаче угол заце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2"/>
          <a:stretch/>
        </p:blipFill>
        <p:spPr>
          <a:xfrm>
            <a:off x="6012000" y="4941720"/>
            <a:ext cx="1152360" cy="349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91" name=""/>
          <p:cNvSpPr/>
          <p:nvPr/>
        </p:nvSpPr>
        <p:spPr>
          <a:xfrm>
            <a:off x="44280" y="5299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межосевое рас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3"/>
          <a:srcRect l="0" t="0" r="9472" b="57197"/>
          <a:stretch/>
        </p:blipFill>
        <p:spPr>
          <a:xfrm>
            <a:off x="1332000" y="5661000"/>
            <a:ext cx="3456000" cy="804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4"/>
          <a:srcRect l="4736" t="57197" r="0" b="0"/>
          <a:stretch/>
        </p:blipFill>
        <p:spPr>
          <a:xfrm>
            <a:off x="4788000" y="5661000"/>
            <a:ext cx="3457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-254520" y="188280"/>
            <a:ext cx="63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Эвольвентный уго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соответствующий углу зацеп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853240" y="68400"/>
            <a:ext cx="3276360" cy="612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-77040" y="54864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я инволю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504720" cy="316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921320" y="619920"/>
            <a:ext cx="68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таблице эвольвентных углов можно найти угол зацеп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8494560" y="620640"/>
            <a:ext cx="649440" cy="3650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12680" y="395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77004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счетах зубчатых передач по традиции вместо передаточного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8172360" y="9079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-271800" y="1253160"/>
            <a:ext cx="44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ется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ередаточн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5"/>
          <a:srcRect l="20619" t="0" r="0" b="0"/>
          <a:stretch/>
        </p:blipFill>
        <p:spPr>
          <a:xfrm>
            <a:off x="4286160" y="1268280"/>
            <a:ext cx="1119240" cy="36828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338560" y="162792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онижающих пере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6"/>
          <a:stretch/>
        </p:blipFill>
        <p:spPr>
          <a:xfrm>
            <a:off x="5292720" y="1619280"/>
            <a:ext cx="1224000" cy="3967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480" y="41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14000" y="2059920"/>
            <a:ext cx="63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Межосевые расстояния редукторов стандарт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7"/>
          <a:stretch/>
        </p:blipFill>
        <p:spPr>
          <a:xfrm>
            <a:off x="179280" y="2421000"/>
            <a:ext cx="576360" cy="3636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0" y="235512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40; 50; 63; 80; 100; 125; 160; 180; 200; 225; 250; 280; 315; 355; 400; 450; 500 мм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нестандартных передач можно не придерживаться этих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еометрическому расче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ередачи обычно предшествует кинематический расч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4916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Определение передаточного числа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и  числа зубьев шестер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405540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задаться целью изготовить колесо с                   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8"/>
          <a:stretch/>
        </p:blipFill>
        <p:spPr>
          <a:xfrm>
            <a:off x="4211640" y="4076640"/>
            <a:ext cx="936720" cy="3906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19600" y="4436280"/>
            <a:ext cx="77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нарезании зубьев без смещения можно изготовить колесо лишь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9"/>
          <a:stretch/>
        </p:blipFill>
        <p:spPr>
          <a:xfrm>
            <a:off x="2771640" y="4797360"/>
            <a:ext cx="1152720" cy="3524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65400" y="5299920"/>
            <a:ext cx="73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водя положительное смещение инструмен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можно полу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0"/>
          <a:stretch/>
        </p:blipFill>
        <p:spPr>
          <a:xfrm>
            <a:off x="4284720" y="5734080"/>
            <a:ext cx="647640" cy="3366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905360" y="570168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2 и ме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25800" y="1197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21308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37960" y="478152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-131760"/>
            <a:ext cx="914400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ОБЩИЕ С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Зубчатыми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называют механизмы, в которых движение между звеньями передается последовательным зацеплением  зубье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Достоинств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передача мощностей 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50 тыс. кВ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и скоростей 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00 м/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КП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переда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0,97...0,98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; простота технического обслуживания и компакт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Недостатки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ельн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ысокая трудоемкость изготовления колес, появление шума в процессе работы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 зубчатого колес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условно различают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тело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и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зубчатый венец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46486" b="44740"/>
          <a:stretch/>
        </p:blipFill>
        <p:spPr>
          <a:xfrm>
            <a:off x="1403280" y="2349360"/>
            <a:ext cx="2502000" cy="338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5808" t="62649" r="0" b="2557"/>
          <a:stretch/>
        </p:blipFill>
        <p:spPr>
          <a:xfrm>
            <a:off x="4211640" y="2781360"/>
            <a:ext cx="4068720" cy="264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021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 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Прямозубые   пере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есо, радиус которого равен беско­нечности, называют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зубчатой рейкой</a:t>
            </a: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-90360"/>
            <a:ext cx="9144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Кинематика пере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ой кинематической характеристикой зубчатой передачи является      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передаточное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отношение</a:t>
            </a:r>
            <a:r>
              <a:rPr b="0" i="1" lang="en-U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i="1" lang="en-US" sz="12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1083" t="23641" r="0" b="0"/>
          <a:stretch/>
        </p:blipFill>
        <p:spPr>
          <a:xfrm>
            <a:off x="5981760" y="692280"/>
            <a:ext cx="1781280" cy="312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-138240" y="90720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ложно убедить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ч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3033720" y="900000"/>
            <a:ext cx="2475000" cy="4460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1267920"/>
            <a:ext cx="9144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Отношение числа зубьев большего колеса к числу зубьев меньшего колеса (шестерни) называют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передаточным числом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и обозначают буквой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и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.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аточное число либо равно передаточному отношению, либо является его обратной величиной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50920" y="2421000"/>
            <a:ext cx="4537080" cy="37036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5435640" y="3295080"/>
            <a:ext cx="3256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нематическая сх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ухступенчатой   зубчат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6125040"/>
            <a:ext cx="91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о зубьев у колеса от 10 - 13  до 100 -  130 . При этом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убчатой пары будет лежать в пределах от 10 до 0,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-275040"/>
            <a:ext cx="9144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u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ходит за эти пределы, применяют   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ряд зубчатых колес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олаг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жду валами промежуточные валы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закрепляя на них колеса с числом зубь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700360" y="620640"/>
            <a:ext cx="2951280" cy="3970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41400" y="1051920"/>
            <a:ext cx="58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им передачу, состоящую из двух ступен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651640" y="1052640"/>
            <a:ext cx="863640" cy="40464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6516720" y="889200"/>
            <a:ext cx="3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7020000" y="1052640"/>
            <a:ext cx="1008000" cy="3571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-183240" y="162792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угловая скорость вала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290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140360" y="1628640"/>
            <a:ext cx="576000" cy="4111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255600" y="19882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 угловая скорость вал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5"/>
          <a:srcRect l="0" t="19685" r="0" b="15748"/>
          <a:stretch/>
        </p:blipFill>
        <p:spPr>
          <a:xfrm>
            <a:off x="3505320" y="2001960"/>
            <a:ext cx="3457440" cy="344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32000" y="242028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гловая скор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ал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6"/>
          <a:srcRect l="0" t="35907" r="0" b="17953"/>
          <a:stretch/>
        </p:blipFill>
        <p:spPr>
          <a:xfrm>
            <a:off x="3462480" y="2467080"/>
            <a:ext cx="3456000" cy="271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618480" y="2996640"/>
            <a:ext cx="39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учетом этих равенств получ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7"/>
          <a:stretch/>
        </p:blipFill>
        <p:spPr>
          <a:xfrm>
            <a:off x="4500720" y="3176640"/>
            <a:ext cx="2158920" cy="9493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0" y="419616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Таким образом, угловая скорость ведомого вала ряда равна угловой скорости ведущего вала, умноженной на дробь, в числителе которой стоит произведение числа зубьев ведущих колес ступеней, а в знаменателе — произведение чисел зубьев ведомых кол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Общее передаточное отношение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ря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8"/>
          <a:srcRect l="8342" t="0" r="16683" b="0"/>
          <a:stretch/>
        </p:blipFill>
        <p:spPr>
          <a:xfrm>
            <a:off x="2700360" y="6093000"/>
            <a:ext cx="4681440" cy="522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-4208400" y="39045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24720" y="6020640"/>
            <a:ext cx="54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748320" cy="5300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971640" y="-196200"/>
            <a:ext cx="6480000" cy="12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Усилия в прямозубых  передачах (статика передач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Нормальная сил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между парой контактирующих зубьев   </a:t>
            </a:r>
            <a:r>
              <a:rPr b="1" i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F</a:t>
            </a:r>
            <a:r>
              <a:rPr b="1" lang="en-US" sz="1600" spc="-1" strike="noStrike" baseline="-30000">
                <a:solidFill>
                  <a:srgbClr val="cc0000"/>
                </a:solidFill>
                <a:latin typeface="Arial"/>
                <a:ea typeface="Times New Roman"/>
              </a:rPr>
              <a:t>n</a:t>
            </a:r>
            <a:r>
              <a:rPr b="0" lang="en-US" sz="1600" spc="-1" strike="noStrike" baseline="-30000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7236000" y="333360"/>
                <a:ext cx="863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1464120" y="80604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952640" y="793800"/>
            <a:ext cx="504720" cy="3650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411280" y="662760"/>
            <a:ext cx="6048360" cy="6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актное напряжение;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1" i="1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лощадь поверхности конта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067280" y="1055160"/>
            <a:ext cx="50767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Эта сила направлена по линии зацепл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как по общей нормали к рабочим поверхностям зубьев) так, что момент этого усилия относительно оси колеса уравновешивает вращающий мо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7812000" y="1989000"/>
            <a:ext cx="432000" cy="384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-2217600" y="3564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360" y="2107080"/>
            <a:ext cx="521964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ормальная сила </a:t>
            </a:r>
            <a:r>
              <a:rPr b="1" i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F</a:t>
            </a:r>
            <a:r>
              <a:rPr b="1" i="1" lang="en-US" sz="1600" spc="-1" strike="noStrike" baseline="-30000">
                <a:solidFill>
                  <a:srgbClr val="cc0000"/>
                </a:solidFill>
                <a:latin typeface="Arial"/>
                <a:ea typeface="Times New Roman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ется для расчета вал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поддерживающих валы опор.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Для упрощения принимают, что она ириложена в полюсе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П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зацепле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Си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4"/>
          <a:stretch/>
        </p:blipFill>
        <p:spPr>
          <a:xfrm>
            <a:off x="4716360" y="3213000"/>
            <a:ext cx="378000" cy="35568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5148360" y="3121560"/>
            <a:ext cx="29527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раскладывают на окружну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5"/>
          <a:stretch/>
        </p:blipFill>
        <p:spPr>
          <a:xfrm>
            <a:off x="7956720" y="3213000"/>
            <a:ext cx="431640" cy="3859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924360" y="349992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и радиальну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6"/>
          <a:stretch/>
        </p:blipFill>
        <p:spPr>
          <a:xfrm>
            <a:off x="5508720" y="3500280"/>
            <a:ext cx="360360" cy="3366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5867280" y="3408840"/>
            <a:ext cx="16560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яющие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7"/>
          <a:stretch/>
        </p:blipFill>
        <p:spPr>
          <a:xfrm>
            <a:off x="4427640" y="3789360"/>
            <a:ext cx="4032000" cy="863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755640" y="4398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8"/>
          <a:stretch/>
        </p:blipFill>
        <p:spPr>
          <a:xfrm>
            <a:off x="3924360" y="4581360"/>
            <a:ext cx="511200" cy="4035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708360" y="4459320"/>
            <a:ext cx="543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гол зацепления;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- вращающий момент на колесе (шестерне) диаметром делительной окружност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427640" y="5066640"/>
            <a:ext cx="42847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572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счетах на прочность можно принима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'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9"/>
          <a:stretch/>
        </p:blipFill>
        <p:spPr>
          <a:xfrm>
            <a:off x="5796000" y="5445000"/>
            <a:ext cx="1584360" cy="3384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238560" y="5724000"/>
            <a:ext cx="590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Направление действия окружной силы для колеса совпадает 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направлением его вра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Вектор радиальной силы у коле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с внешним зацеплением направлен к цент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394200"/>
            <a:ext cx="914400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КОНСТРУКЦИИ ЗУБЧАТЫХ КО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леса небольших диаметров (менее 100...150 мм) изготовляют цельны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штампованных заготовок без углуб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леса большего диаметра (до 400...500 мм) выполня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для уменьше­ния массы)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 углублениями и отверсти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единичном и мелко-серийном производств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отовки таких колес получают из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сортового проката или поков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лученных свободной ковкой, 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крупносерийном и массовом производст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штамповко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олеса больших диаметров (свыше 400...500 мм) изготовля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варными или лит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убчатый венец делается за одно целое с вал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вал-шестерня),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если толщ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б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месте, ослабленном шпоночным пазом, будет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еньше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2,5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акже при высоких требованиях к точности центрирования колеса на ва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Валы-шестерни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ыполняют обычно из кованых заготов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rcRect l="0" t="0" r="0" b="4349"/>
          <a:stretch/>
        </p:blipFill>
        <p:spPr>
          <a:xfrm>
            <a:off x="611280" y="457200"/>
            <a:ext cx="8064360" cy="6400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10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19280" y="-72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Консрукции зубчатых ко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4320"/>
            <a:ext cx="9144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Редукт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Редуктором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называют агрегат с передачами зацепл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торый предназначен для повышения вращающего момента и уменьшения угловой скорости приводного двига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Используются в качестве передаточного механизма привод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укторы общего применения в приводах комплектуютс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етырехполюсными электродвигателями. Для обеспечения п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бностей народного хозяйства промышленность выпускает редукторы и мотор-редукторы в широком диапазоне передаточных отношений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059280" y="3357720"/>
            <a:ext cx="1008000" cy="3441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4155480" y="3357000"/>
            <a:ext cx="5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1366920" cy="3160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-292320" y="3862440"/>
            <a:ext cx="968148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828720"/>
                <a:tab algn="l" pos="170028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Около 75 % редукторов изготав­ливается в двухступенчатом исполнении при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= 8...4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828720"/>
                <a:tab algn="l" pos="170028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Зубчатые редукторы выпускают серийно в одно-, двух-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и трехступенчатом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  исполн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828720"/>
                <a:tab algn="l" pos="170028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Ряд </a:t>
            </a:r>
            <a:r>
              <a:rPr b="0" i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одноступенчатых редукторов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цилиндрическ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типа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Ц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спечивает передач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ращающих моментов на тихоходном валу о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50 до 4000 Н-м 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6948360" y="5084640"/>
            <a:ext cx="1368720" cy="3556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108720" y="5444280"/>
            <a:ext cx="83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28720"/>
                <a:tab algn="l" pos="1700280"/>
                <a:tab algn="l" pos="226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яд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двухступенчатых редукторов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цилиндричес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типа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Ц2У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диапазон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1908000" y="5877000"/>
            <a:ext cx="1152720" cy="3110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2986920" y="587628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ен  передать мо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5"/>
          <a:srcRect l="0" t="0" r="39381" b="0"/>
          <a:stretch/>
        </p:blipFill>
        <p:spPr>
          <a:xfrm>
            <a:off x="6443640" y="5805360"/>
            <a:ext cx="433440" cy="4176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0" y="565704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250...4000 Н-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мышленность выпуска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редукторы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Ц2У-Н и Ц2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 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плением Новикова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172440"/>
            <a:ext cx="914400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Распространены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соосные редукторы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ые имеют меньшие габариты по дли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улучшения условий работы наи­более нагруженной тихоходной ступени изготовляют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редукторы с раздвоенной быстроходной ступенью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виде двух косозубых пар для обеспечения равномерного распред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грузки между н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ие редукторы имеют на 20 % меньше массу, чем редукторы с развернутой схемой колес, но более трудоемки в изготовл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Трехступенчатые редукторы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типа Ц3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др. имеют развернутую схему расположения колес .Используются также трехступенчатые редукторы с раздвоенной второй ступе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Промышленность серийно выпуска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мотор-редукторы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агрегаты, в которых .конструктивно объединены электродвигатель и редук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тор-редукторы цилиндрические двухступенчатые соосные типа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МЦ2С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тор-редукторы планетарные зубчатые двухступенчатые типа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МПз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тор-редукторы волновые гори­зонтальные типа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МВ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Получили распростран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весные редукторы и мотор-редуктор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х выходной вал выполняется полым со шлицевым отверстием или канавкой под шпонку. Такой вал соединяется непосредственно с входным ва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одимой маш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7126200" cy="5833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2477160" y="6150600"/>
            <a:ext cx="47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Кинематические схемы редуктор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128880"/>
            <a:ext cx="91440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Комбинированный при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Приводом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называют устройство, приводящее в движение машину или механиз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н включает в себя обыч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точник энергии —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двигатель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ередаточный механиз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е механических передач, согласующий скорости и момент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вигате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рабочего органа машины (механизм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ппаратуру  управл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лучая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огда угловые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скорости валов совпадают,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именяют непосредственное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их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соединение муфтой (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вентиляторы, насосы и т.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вод реализуется применением  передач разных типов (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например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ременной и зубчатой, ременной, зубчатой и цепной и  т.д.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 также  многоступенчатых однотипных передач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дач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разных типо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но располага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кинематической цеп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льной последова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гружен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ередач,  габариты и ресур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висят от полож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инематической цепи и разбивки передаточного отношения при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В понижающем приводе по мере удаления от двигателя частота вращения колес, шкивов и звездочек снижается, а нагруженность соответственно возраста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этому в качестве низкооборотных ступеней целесообразно использовать передачи с более высокой нагрузочной способностью. Например, привод из ременной и зубчатой передач будет иметь меньшие габари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48402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835640" y="-1080"/>
            <a:ext cx="57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хемы комбинированных привод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480" y="5876280"/>
            <a:ext cx="84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электродвигатель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ременная передача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зубчатый редукт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цепная пе­редача;      5 — конвей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-195480"/>
            <a:ext cx="91440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Передачи классифицируют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По расположению осей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: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цилиндрические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;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конические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;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червячные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        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винтовые; гипоидные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гиперболоид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  <a:ea typeface="Times New Roman"/>
              </a:rPr>
              <a:t>По виду зацепления зубье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      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внешнего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и  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внутреннего зацепления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.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  <a:ea typeface="Times New Roman"/>
              </a:rPr>
              <a:t>По характеру движения осе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  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обычные передачи, планетарные переда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  <a:ea typeface="Times New Roman"/>
              </a:rPr>
              <a:t>По направлению зубьев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ередачи с прямым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и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криволинейным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зубьям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  <a:ea typeface="Times New Roman"/>
              </a:rPr>
              <a:t>По профилям зубьев кол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: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ередачи с эвольвентным зацеплением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;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ередачи с циклоидальным зацеплением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;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ередачи с зацеплением Нови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6877080" cy="2809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5362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По исполнени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открытые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(тихоходные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ередачи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закрытые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(быстроходные)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ередачи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чаю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илов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есилов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ередач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убчатые передачи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понижающие </a:t>
            </a: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частоту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вращени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едомого вал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редуктор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           </a:t>
            </a:r>
            <a:r>
              <a:rPr b="1" i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повышающие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  <a:ea typeface="Times New Roman"/>
              </a:rPr>
              <a:t> частоту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  <a:ea typeface="Times New Roman"/>
              </a:rPr>
              <a:t>вращения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ал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мультипликато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2874960"/>
            <a:ext cx="21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коническая;   б—червячная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винтовая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г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— цилиндричес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я с внутренним зацепл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54764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Лекция  заверше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431640" cy="287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235400" y="519120"/>
            <a:ext cx="4726080" cy="6237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44720"/>
            <a:ext cx="91440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ЭЛЕМЕНТЫ  ТЕОРИИ  ЗАЦЕПЛЕНИЯ  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ва звена , действуя друг на друга в точк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акта, вращаются в противополож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роны  с угловыми  скорост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141264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63640" y="1484280"/>
            <a:ext cx="504720" cy="274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64200"/>
            <a:ext cx="43624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Окружные (линейные) скорост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точки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ждом зве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79280" y="2349360"/>
            <a:ext cx="3745080" cy="427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2853000"/>
            <a:ext cx="435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дем через точку </a:t>
            </a:r>
            <a:r>
              <a:rPr b="1" lang="en-US" sz="1600" spc="-1" strike="noStrike">
                <a:solidFill>
                  <a:srgbClr val="a50021"/>
                </a:solidFill>
                <a:latin typeface="Arial"/>
                <a:ea typeface="Times New Roman"/>
              </a:rPr>
              <a:t>С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нормал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касательную</a:t>
            </a:r>
            <a:r>
              <a:rPr b="0" lang="en-US" sz="1600" spc="-1" strike="noStrike">
                <a:solidFill>
                  <a:srgbClr val="3333ff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547640" y="3357720"/>
            <a:ext cx="648000" cy="242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357300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 профилям  звенье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-25200"/>
            <a:ext cx="91440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разложим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  скор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с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10548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на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норм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62064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81800" y="11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340000" y="1197000"/>
                <a:ext cx="2379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2628720" y="11242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203640" y="1197000"/>
                <a:ext cx="2761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599280" y="1091160"/>
            <a:ext cx="3073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80720" y="54900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411280" y="620640"/>
                <a:ext cx="20016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2627640" y="549000"/>
            <a:ext cx="705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276720" y="620640"/>
                <a:ext cx="1998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527280" y="513360"/>
            <a:ext cx="306036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o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i="1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i="1" lang="ru-RU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i="1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42920" y="1916280"/>
          <a:ext cx="2195640" cy="639720"/>
        </p:xfrm>
        <a:graphic>
          <a:graphicData uri="http://schemas.openxmlformats.org/drawingml/2006/table">
            <a:tbl>
              <a:tblPr/>
              <a:tblGrid>
                <a:gridCol w="219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и 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касательные</a:t>
                      </a:r>
                      <a:r>
                        <a:rPr b="0" lang="en-US" sz="1800" spc="-1" strike="noStrike">
                          <a:solidFill>
                            <a:srgbClr val="a50021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составляющ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3519360" y="33516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4520" y="33822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335700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уго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между  абсолютной  скоростью точки контакта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859040" y="2808360"/>
            <a:ext cx="95040" cy="104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38599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нормалью к профилю в этой же точке, численно равен углу между радиус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028000" y="3848040"/>
            <a:ext cx="50472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4390200"/>
            <a:ext cx="88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 перпендикуляр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195640" y="4437000"/>
            <a:ext cx="576000" cy="3142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89840" y="4436280"/>
            <a:ext cx="58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ушенным из центра вращения   звена на   норм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244000" y="4446720"/>
            <a:ext cx="900000" cy="287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515120"/>
            <a:ext cx="686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Times New Roman"/>
              </a:rPr>
              <a:t>Условие контак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звеньев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будет обеспечено при равенств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206064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4160" y="256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492360" y="2511360"/>
                <a:ext cx="2383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τ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781440" y="25642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356000" y="2637000"/>
                <a:ext cx="27648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3133080" y="198864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564000" y="2073240"/>
                <a:ext cx="19980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3780360" y="1988640"/>
            <a:ext cx="705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429080" y="2060640"/>
                <a:ext cx="2001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4658040" y="1953000"/>
            <a:ext cx="159948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i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i="1" lang="ru-RU" sz="2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4480" y="18136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398160" y="-519840"/>
            <a:ext cx="3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2348280"/>
            <a:ext cx="13683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7800" y="3213000"/>
            <a:ext cx="6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1080" y="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99000" y="19080"/>
                <a:ext cx="2300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771640" y="6021360"/>
            <a:ext cx="3683160" cy="601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54560" y="616572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 получи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4880" y="537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093080" y="5373720"/>
                <a:ext cx="2379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5652720" y="530028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012000" y="5373720"/>
                <a:ext cx="1998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302520" y="5300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79640" y="17640"/>
            <a:ext cx="53276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0880" y="6199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единим цент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11280" y="620640"/>
            <a:ext cx="360360" cy="344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700360" y="6199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348000" y="620640"/>
            <a:ext cx="504720" cy="430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9280" y="560160"/>
            <a:ext cx="833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ямой и обозначим буквой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сечения этой прямой с нормал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427640" y="1052640"/>
            <a:ext cx="1224000" cy="287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2600" y="42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14835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гда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из полученных треуголь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995640" y="1484280"/>
            <a:ext cx="863640" cy="330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075640" y="14835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5580000" y="1484280"/>
            <a:ext cx="887400" cy="357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544800" y="14835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771640" y="1916280"/>
            <a:ext cx="3337200" cy="460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3059640"/>
            <a:ext cx="8937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Основной закон зацепл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нормаль к профилям в точке контакта делит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межцентровое расстояние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на отрезки, обратно пропорциональные угловым скоростям звень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4324320" y="2451240"/>
            <a:ext cx="936720" cy="368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20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угловых скоростей звенье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при передаче движения от звена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 звену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ывают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передаточным отношение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и обозначают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7020000" y="2781360"/>
            <a:ext cx="504720" cy="379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611280" y="4581360"/>
            <a:ext cx="1368360" cy="301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4544640"/>
            <a:ext cx="91440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зафиксированных центр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точка 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занимает на линии центров неизменное положение и называется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полюс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фили зубьев, обеспечивающих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      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=</a:t>
            </a:r>
            <a:r>
              <a:rPr b="1" i="1" lang="en-US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const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называют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cc0000"/>
                </a:solidFill>
                <a:latin typeface="Arial"/>
              </a:rPr>
              <a:t>сопряженным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3635280" y="5157720"/>
            <a:ext cx="719280" cy="398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5483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Наиболее технологичным явля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cc0000"/>
                </a:solidFill>
                <a:latin typeface="Arial"/>
                <a:ea typeface="Times New Roman"/>
              </a:rPr>
              <a:t>эвольвент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фил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уществуют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гие виды зацепле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циклоидальное, цевочное, часов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Широкое распространение получил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цепление Новик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0" y="45813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21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2030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ЭВОЛЬВЕНТНОЕ ЗАЦЕП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783000"/>
            <a:ext cx="917244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Эвольвентой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лат. слов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olve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называют плоскую кривую, являющуюся разверткой другой плоской кривой, называемой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эволютой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разования зубьев колес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 качестве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эволюты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используют окружность диаметр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зываем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0000"/>
                </a:solidFill>
                <a:latin typeface="Arial"/>
              </a:rPr>
              <a:t>основной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вольвенту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й окружности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описывать любая точка пря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ли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производящей прямой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ерекатываемой по ней бе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сколь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2307" r="2721" b="9227"/>
          <a:stretch/>
        </p:blipFill>
        <p:spPr>
          <a:xfrm>
            <a:off x="4699080" y="1989000"/>
            <a:ext cx="4444920" cy="4497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179280" y="4581720"/>
            <a:ext cx="446400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ьная точ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вольвенты ле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ной окруж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134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глы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 развернутости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профил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эвольвент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угол 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Ө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932360" y="1773360"/>
            <a:ext cx="936720" cy="398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808240" y="1772640"/>
            <a:ext cx="186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инволю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667640" y="1700280"/>
            <a:ext cx="431640" cy="412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548640"/>
            <a:ext cx="72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зуемые радиальными прямым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М,   О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связаны между собой зависимость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3640" y="98748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1" i="1" lang="en-US" sz="36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Ө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3924360" y="1268280"/>
            <a:ext cx="2120760" cy="420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13440" y="2275920"/>
            <a:ext cx="329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у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вна отрез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2707560"/>
            <a:ext cx="17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N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000" y="2636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2556000" y="3573360"/>
            <a:ext cx="2971800" cy="381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-105480" y="4149000"/>
            <a:ext cx="33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иус основной окруж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4960" y="4149000"/>
            <a:ext cx="56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яется единственным параметром эвольвенты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4868280"/>
            <a:ext cx="9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r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78280" y="48222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/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os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133200" y="494100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иус-вектор эвольв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24240" y="173160"/>
                <a:ext cx="3394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046320" y="2828880"/>
                <a:ext cx="2952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4014720" y="92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8280" y="4602240"/>
            <a:ext cx="4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4720" y="4005360"/>
            <a:ext cx="4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95640" y="177264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205992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˘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76720" y="20599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63680" y="256464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95640" y="2564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˘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4:02:00Z</dcterms:created>
  <dc:creator>Рябчук</dc:creator>
  <dc:description/>
  <dc:language>en-US</dc:language>
  <cp:lastModifiedBy>Рябчук</cp:lastModifiedBy>
  <dcterms:modified xsi:type="dcterms:W3CDTF">2006-10-03T08:01:16Z</dcterms:modified>
  <cp:revision>37</cp:revision>
  <dc:subject/>
  <dc:title>Лекции по прикладной механике</dc:title>
</cp:coreProperties>
</file>