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AFF-D6B8-4B8E-90DA-3CB3CBB7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65B-4CE4-4968-8864-A4AC8F49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AB5-CEBA-423D-BEF1-A33CBB46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191E-52E6-46E4-B502-08C3EE52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9CC-E44A-45C8-AE36-DB294BBE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F64-A968-40D1-81C3-1816814E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7FD-CF02-468E-9813-F250C6BA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AF5-E1DE-41C2-A370-51670AF0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4AC-42F6-410F-A8D5-CD8E156B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9524-671D-4B0F-A5F3-263628FC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A70-70FA-4684-A1CF-76E65E9F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9F1-8084-4853-9C3F-E7E97070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7699-6B9D-44A2-96C5-5F041993F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ДИНАМИЧЕСКИЙ АНАЛИЗ  МЕХА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-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аналоги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иф.уравнение поступательно движущего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звена приве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18629" b="0"/>
          <a:stretch/>
        </p:blipFill>
        <p:spPr>
          <a:xfrm>
            <a:off x="3708360" y="549360"/>
            <a:ext cx="4321080" cy="104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0" y="2102400"/>
            <a:ext cx="4284720" cy="891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риведенная сил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015360"/>
            <a:ext cx="9144000" cy="14626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 скорость звена приведения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риведенная м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е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огда 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J</a:t>
            </a:r>
            <a:r>
              <a:rPr b="1" i="1" lang="ru-RU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уравнения движения примут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46276" b="0"/>
          <a:stretch/>
        </p:blipFill>
        <p:spPr>
          <a:xfrm>
            <a:off x="5651640" y="4859280"/>
            <a:ext cx="2665440" cy="1190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343080" y="457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rcRect l="0" t="0" r="63357" b="0"/>
          <a:stretch/>
        </p:blipFill>
        <p:spPr>
          <a:xfrm>
            <a:off x="1979640" y="4965840"/>
            <a:ext cx="2160720" cy="11523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6476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-45000"/>
            <a:ext cx="9144000" cy="1739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жимы движения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гон до установившейся скорости за время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Р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8360" algn="r">
              <a:buClr>
                <a:srgbClr val="0000cc"/>
              </a:buClr>
              <a:buFont typeface="Arial"/>
              <a:buChar char="•"/>
              <a:tabLst>
                <a:tab algn="l" pos="10380996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тановившееся движение в течении времени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8360" algn="r">
              <a:buClr>
                <a:srgbClr val="0000cc"/>
              </a:buClr>
              <a:buFont typeface="Wingdings" charset="2"/>
              <a:buChar char=""/>
              <a:tabLst>
                <a:tab algn="l" pos="10380996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ыбег (торможение до остановки) за время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i="1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00" y="4046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личают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тади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3840" y="1627200"/>
            <a:ext cx="9020160" cy="825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овая скорость звена приведения меняется 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ω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ω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ma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в среднем ра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ω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ср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47120" y="5271120"/>
            <a:ext cx="1003320" cy="648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103720" y="5230800"/>
                <a:ext cx="792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r>
                          <m:t xml:space="preserve">dϕ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821200" y="5340960"/>
            <a:ext cx="1944720" cy="525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д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- Т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0680" y="52999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и  установившегося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720" y="494172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Для периода раз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960" y="580464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Для периода торможения с выключенным двиг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51840" y="6140160"/>
            <a:ext cx="1660320" cy="66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35280" y="6153120"/>
                <a:ext cx="1224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r>
                          <m:t xml:space="preserve">dϕ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807080" y="6256440"/>
            <a:ext cx="1796400" cy="576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Т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пс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Т</a:t>
            </a:r>
            <a:r>
              <a:rPr b="1" i="1" lang="en-US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2574" t="0" r="7721" b="0"/>
          <a:stretch/>
        </p:blipFill>
        <p:spPr>
          <a:xfrm>
            <a:off x="1258920" y="2565360"/>
            <a:ext cx="702000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33440" y="40766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д &gt;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4000" y="40053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Адв  =  А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720" y="407664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д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&lt;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4360" y="476280"/>
          <a:ext cx="3168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3168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076720" y="549360"/>
          <a:ext cx="30243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549360"/>
                    <a:ext cx="3024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692360" y="3429000"/>
          <a:ext cx="5761080" cy="295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429000"/>
                    <a:ext cx="57610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195640" y="-1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а),б) – неустановившиеся реж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2852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а)    раз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263700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б)  торможение (выбе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33400" y="623736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) – установившийся 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0" t="0" r="19554" b="0"/>
          <a:stretch/>
        </p:blipFill>
        <p:spPr>
          <a:xfrm>
            <a:off x="1692360" y="0"/>
            <a:ext cx="5040360" cy="2808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2831040"/>
            <a:ext cx="914400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тепень неравномерности хода машины за 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становившегося движен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пределяетс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оэф. неравномерност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6750" t="0" r="6750" b="10741"/>
          <a:stretch/>
        </p:blipFill>
        <p:spPr>
          <a:xfrm>
            <a:off x="5132520" y="3357720"/>
            <a:ext cx="2554200" cy="828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35280" y="443592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700360" y="4292640"/>
            <a:ext cx="2592360" cy="80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5091840"/>
            <a:ext cx="9144000" cy="886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опустимая наибольшая велич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висит от типа машин. Например, для поршневых двигателей внутреннего сго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284720" y="6021360"/>
            <a:ext cx="312840" cy="476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082160" y="6020640"/>
            <a:ext cx="3234600" cy="39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оршневых насос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219640" y="5589720"/>
            <a:ext cx="343080" cy="404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56600" y="6092280"/>
            <a:ext cx="21452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1/20...1/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35720" y="558972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/80... 1/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-10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рива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изме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гловой скор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00"/>
                </a:solidFill>
                <a:latin typeface="Arial"/>
              </a:rPr>
              <a:t>Лекция заверше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82960"/>
            <a:ext cx="9144000" cy="6355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Задачи динамического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инамике  изучается движение механизмов с учетом действующих с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ный многозвенный механизм заменя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мической моделью, в качестве которой принимают 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условное звено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1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38099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Закон движения условного звена должен полностью совпадать с законом движения начального зв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1600" algn="ctr">
              <a:lnSpc>
                <a:spcPct val="110000"/>
              </a:lnSpc>
              <a:buClr>
                <a:srgbClr val="0066cc"/>
              </a:buClr>
              <a:buFont typeface="Arial"/>
              <a:buChar char="•"/>
              <a:tabLst>
                <a:tab algn="l" pos="1038099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Угловые скорости начального и условного звеньев должны быть    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1600" algn="ctr">
              <a:lnSpc>
                <a:spcPct val="110000"/>
              </a:lnSpc>
              <a:buClr>
                <a:srgbClr val="0066cc"/>
              </a:buClr>
              <a:buFont typeface="Arial"/>
              <a:buChar char="•"/>
              <a:tabLst>
                <a:tab algn="l" pos="1038099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Все силы и моменты, действующие на звенья механизма должны быть приведены к одному звену, называемому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иведенным.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1600" algn="ctr">
              <a:lnSpc>
                <a:spcPct val="110000"/>
              </a:lnSpc>
              <a:buClr>
                <a:srgbClr val="0066cc"/>
              </a:buClr>
              <a:buFont typeface="Arial"/>
              <a:buChar char="•"/>
              <a:tabLst>
                <a:tab algn="l" pos="1038099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Массы  звеньев приводят к этому звену и заменяют суммарным прив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денным моментом инерции, эквивалентным всей инерции механиз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ожно иметь 2 вида одномассовых динамических мод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75240"/>
            <a:ext cx="79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Звено приведения совершает вращательное 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3960720" cy="237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611640"/>
            <a:ext cx="37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Уравнение движения можно записат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иде изменения кинетической энерг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92360" y="1989000"/>
                <a:ext cx="1511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ч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66640" y="2492280"/>
                <a:ext cx="3113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  <m:sup/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ч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М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НАЧ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М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ОН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  <m:sup/>
                        </m:sSubSup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3504240"/>
            <a:ext cx="79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Звено приведения совершает поступательн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3860640"/>
            <a:ext cx="4427640" cy="136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851280" y="5300640"/>
                <a:ext cx="35290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  <m:sup/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ч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  <m:sup/>
                        </m:sSubSup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49480" y="494172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равнение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1480" y="5373720"/>
            <a:ext cx="29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виде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инетической энерг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4921" r="5589" b="0"/>
          <a:stretch/>
        </p:blipFill>
        <p:spPr>
          <a:xfrm>
            <a:off x="0" y="5373720"/>
            <a:ext cx="4284720" cy="86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61494" t="0" r="5589" b="69905"/>
          <a:stretch/>
        </p:blipFill>
        <p:spPr>
          <a:xfrm>
            <a:off x="1501920" y="4508640"/>
            <a:ext cx="2278080" cy="609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660240"/>
            <a:ext cx="9144000" cy="2837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ведение сил и моментов си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4840">
              <a:buClr>
                <a:srgbClr val="0000cc"/>
              </a:buClr>
              <a:buFont typeface="Wingdings" charset="2"/>
              <a:buChar char=""/>
              <a:tabLst>
                <a:tab algn="l" pos="10380996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илы и моменты сил  можно привести к одному звену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торое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звеном привед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жно соблюдаться равенств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щносте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элементарных раб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формулированное усло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ля мощности в обще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имеет вид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4005360"/>
          <a:ext cx="4716000" cy="944640"/>
        </p:xfrm>
        <a:graphic>
          <a:graphicData uri="http://schemas.openxmlformats.org/drawingml/2006/table">
            <a:tbl>
              <a:tblPr/>
              <a:tblGrid>
                <a:gridCol w="471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80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ри приведении к силе име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-4305240" y="27054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511200" y="3453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4305240" y="4496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14320"/>
            <a:ext cx="9144000" cy="830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ость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а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α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;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мент силы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ω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гловая скор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979640" y="3141720"/>
            <a:ext cx="1584360" cy="896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rcRect l="0" t="0" r="70087" b="23620"/>
          <a:stretch/>
        </p:blipFill>
        <p:spPr>
          <a:xfrm>
            <a:off x="4695840" y="2349360"/>
            <a:ext cx="4448160" cy="3306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0440" y="10332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Определение параметров динамической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244440"/>
            <a:ext cx="4211640" cy="10688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ткуда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иведенная сила равна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920160"/>
            <a:ext cx="1481400" cy="520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59280" y="907920"/>
                <a:ext cx="720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-309600" y="1239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780000" y="620640"/>
                <a:ext cx="479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-309600" y="1735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84720" y="907920"/>
                <a:ext cx="720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003640" y="797760"/>
            <a:ext cx="935280" cy="597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940360" y="836640"/>
                <a:ext cx="86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-309600" y="2560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04000" y="620640"/>
                <a:ext cx="4460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1429560"/>
            <a:ext cx="9144000" cy="2948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Аналогично определяем приведенный момент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М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ω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 учетом записанных выше уравнений  получим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М</a:t>
            </a:r>
            <a:r>
              <a:rPr b="1" i="1" lang="ru-RU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1" i="1" lang="ru-RU" sz="1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43280" y="3645000"/>
                <a:ext cx="792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-309600" y="4376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35280" y="3573360"/>
                <a:ext cx="4939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-309600" y="4871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11640" y="3789360"/>
                <a:ext cx="720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859280" y="3600360"/>
            <a:ext cx="1008000" cy="66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i="1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12000" y="3716280"/>
                <a:ext cx="86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-309600" y="5697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77080" y="3500280"/>
                <a:ext cx="380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4392000"/>
            <a:ext cx="9144000" cy="2131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Кинетическая энергия мех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оящег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из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n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звеньев, участвующих в поступательном и вращательном движ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определяется соотнош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916360" y="5805360"/>
                <a:ext cx="2087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-309600" y="7505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2818440"/>
            <a:ext cx="963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659640" y="2637000"/>
                <a:ext cx="5094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188240" y="3718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2133720"/>
            <a:ext cx="2376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-1800"/>
            <a:ext cx="914400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иведение масс и моментов инер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олжно соблюдаться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19768"/>
          <a:stretch/>
        </p:blipFill>
        <p:spPr>
          <a:xfrm>
            <a:off x="4356000" y="1268280"/>
            <a:ext cx="4788000" cy="2613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236960"/>
            <a:ext cx="761760" cy="576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42920" y="1268280"/>
                <a:ext cx="720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0" y="2852640"/>
                <a:ext cx="790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57080" y="3141000"/>
            <a:ext cx="4352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87280" y="2924280"/>
                <a:ext cx="2230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45734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3520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найде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ссу зве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ве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2200" y="4741200"/>
            <a:ext cx="1024920" cy="597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m</a:t>
            </a:r>
            <a:r>
              <a:rPr b="1" i="1" lang="ru-RU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1" i="1" lang="ru-RU" sz="2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643280" y="4581360"/>
                <a:ext cx="2735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П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П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4070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90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менная приведенная масса является условной величи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ля упрощения динамических расчет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320" y="1963800"/>
            <a:ext cx="43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звено приведения совер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оступательн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-1440"/>
            <a:ext cx="8172360" cy="825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звено приведения совершает вращательное дви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58920" y="907920"/>
                <a:ext cx="4348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-2268360" y="3932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75600"/>
            <a:ext cx="7020000" cy="19886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нетическая энергия звена при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моментом инерции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J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жна равн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умме кинетических энергий звеньев мех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527280" cy="923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079800"/>
            <a:ext cx="9144000" cy="2354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и определяются только полож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нь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а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тся функциями  положения звена при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звено приведения совершает поступательное движение, 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  вращательное,   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1800000" cy="401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409000"/>
            <a:ext cx="9144000" cy="7581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большого класса механизмо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тся постоянными величин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2360" y="105264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820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УРАВНЕНИЕ ДВИЖЕНИЯ МЕХ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25360"/>
            <a:ext cx="79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  учетом сил сопротивления движению приведенный мо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ил ра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2448000" cy="439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220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равнение движения имеет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5904000" cy="984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484360" y="494172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067280" y="4869000"/>
                <a:ext cx="12348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ϕ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00880" y="3691440"/>
            <a:ext cx="28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7600" y="6609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 к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2158920" cy="560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125720"/>
            <a:ext cx="7667640" cy="825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уем  как функцию двух  независимых  переменны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504720" cy="38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1518480"/>
            <a:ext cx="792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4760" y="73980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 уравнение дви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124000" y="2170080"/>
            <a:ext cx="4753080" cy="1165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336168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сюд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иф.уравнение движения вращающегося зв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ведения принимает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987640" y="5084640"/>
            <a:ext cx="4032360" cy="97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1:55:45Z</dcterms:created>
  <dc:creator>Рябчук</dc:creator>
  <dc:description/>
  <dc:language>en-US</dc:language>
  <cp:lastModifiedBy>Рябчук</cp:lastModifiedBy>
  <dcterms:modified xsi:type="dcterms:W3CDTF">2006-09-08T06:35:31Z</dcterms:modified>
  <cp:revision>13</cp:revision>
  <dc:subject/>
  <dc:title>ДИНАМИЧЕСКИЙ АНАЛИЗ  МЕХАНИЗМОВ</dc:title>
</cp:coreProperties>
</file>