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426-5B5D-4CE9-A03C-542078A8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729-06D1-4405-9834-7EE0A0BE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45C5-37F8-44AD-9E3A-F32C38D9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AD49-EFA9-4A51-9C6A-52EE29E3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4040-8D0E-4F93-B28A-9307B8C9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A22E-AE25-4230-BA63-BA44931D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3F5F-2B8A-40CA-A0AB-AB59F61E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E473-9588-4F4F-86C2-369A6D7C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E070-7220-47E4-AD9B-84E0CEE9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E069-777B-4600-BFD8-AE06A844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8D31-3346-4319-85EA-D8B46B83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BDD-A09F-4AE1-8D55-3C4EBA0B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1687-0DE4-4C0C-AFE3-F64F52F2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80ED-7D83-4986-B724-5E3178E7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57D1-E199-4FA9-AF38-2AC73871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F370-8E1A-4339-82A5-71490EB8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6C43-D8FD-4260-A97F-5EF3130E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876-545C-4529-BA48-7A339D7D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3BF-8224-4194-90FD-E2151E67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859-271E-4312-936E-12898E1D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1AB-6B4B-41A6-A91B-4114C592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AB2-BF8E-4796-A2D7-B6D6D4FF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C111-2DBD-4049-B754-4B96D7DA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B7E-DB60-454B-8EF9-B6AAB5F0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EEE4-51A5-4B95-BF7B-C5D98630823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A1F3-7D7A-4393-A75C-0EB89D7C503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3141720"/>
            <a:ext cx="8964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Проблемы механизации и автоматизации современного управления документами </a:t>
            </a:r>
            <a:br>
              <a:rPr sz="48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(на примере ЗАО «РОСТЭК-Алтай»)</a:t>
            </a: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блема взаимоотношений между службами ИТ и ДОУ проявляется в следующих обстоятельствах. Прежде всего – это проблема статуса. ИТ-специалисты стоят на более высокой ступени социальной лестницы, пользуются большим влиянием на руководств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т должного воздействия между специалистами ИТ и ДОУ, что просматривается в должностных инструкциях (см. приложения А, Б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да в том, что сотрудники ИТ не знают основ документооборота, необходимых для внедрения и поддержания СЭД, таких ка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нятие жизненного цикла документо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начение сроков хранения документов, исходя из законодательных, нормативных и юридических требований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сутствует важнейший организационно-правовой документ – положение об отделе ДОУ, в котором должно быть обозначено взаимодействие отдел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и недостатки есть и у сотрудников ДОУ, и главный из них - незнание современных технолог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решения проблемы механизации и автоматизации современного управления документами в ЗАО «РОСТЭК-Алтай» необходимо выработать ряд рекомендаций, таких, как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Необходимо тесное сотрудничество специалистов ИТ, ДОУ. На уровне организационно-правовых актов разрешить разногласия между отделами ИТ и ДОУ. Разработать положение об отделах, внести изменения в должностные инструкции. Или, в перспективе, одним из разумных решений может быть создание единого подразделения, управляющего всеми информационными ресурсами в организа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) Внедрение электронных систем требует обучения всего персонала фирмы, причем не только методам работы в СЭД, но и основам делопроизвод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жесточение законодательства и нормативных требований к работе внутреннего контроля также требует усиления деловых подразделений специалистами, умеющими грамотно работать с документ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готовка специалистов ДОУ современного уровня, владеющих, кроме знания традиционного документооборота, основами информационных технологий, экономических и юридических знаний  – задача трудная. Поэтому необходимо хотя бы раз в год отправлять специалистов по таможенному оформлению на различные семинары, повышающие квалификацию специалиста в сфере ДО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Разработать схему документооборота в ЗАО «РОСТЭК-Алтай» с учетом нормативных требований к порядку ведения делопроизводства, с другой стороны, необходимо автоматизировать все возможные процессы ДОУ. Это позволит добиться повышения производительности и качества труда сотрудников предприятия за счет правильной организации работы с документами и автоматизации рутинных и требующих больших временных издержек операций, например, создание и пересылка документов. Кроме того, автоматизация уменьшает количество документов в организации, что косвенно также повышает производительность тру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менение программного комплекса «ГТД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 в качестве основного инструмента для работы с документами дало следующие возмож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ие информированности руководства и специалистов за счет увеличения объемов информационного хранения, централизованной обработки информации, уменьшения времени поиска документов и, соответственно, подготовки отчет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кращение времени поиска бумажных оригиналов документов в архивном хранении за счет получения точной адресации в электронном виде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здание качественно новой информационной базы для последующего совершенствования процессов документационного обеспечения управления и технологии работы с документ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ледствие всего этого отдел специалистов по таможенному оформлению ЗАО «РОСТЭК – Алтай» получил возможность обрабатывать большее количество грузовых  таможенных деклараций, документов таможенной стоимости, описей и других документов, требующихся для внешнеэкономической деятельности. За счет этого повысилось качество обслуживания участников внешнеэкономической деятельности, включающее в себя таможенное оформление товаров и транспортных средств и подготовку документов, необходимых для таможенного оформления товаров. ЗАО «РОСТЭК-Алтай» еще более интенсивно решает проблемы по таможенному оформлению грузов и выполняет другие посреднические функции в области таможенного дела от имени клиента и по его поручени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а работы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ктуальн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связи с недостаточной проработкой проблемы документационного обеспечения управления в организация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бъектом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следования при подготовке данной работы явилась организация информационно- документационного обеспечения деятельности управления в ЗАО «РОСТЭК-Алтай». Предмет исследования - особенности, основные тенденции и проблемы развития автоматизированной системы документационного обеспечения управ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Целью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данной работы является проведение анализа уровня развития системы ДОУ в ЗАО «РОСТЭК-Алтай» и подготовка рекомендаций по повышению ее эффективности на основе внедрения современных технологий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 написании дипломной работы были поставлены следующие задач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накомление с организационной структурой предприят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ение функций, задач, основных видов деятельности предприят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мотрение значения документационного обеспечения в деятельности ЗАО «РОСТЭК-Алтай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снование выбора системы автоматизации ДОУ из предлагаемых на рынке программных продукт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е опыта внедрения системы автоматизации ДОУ на предприят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вление ключевых проблем, связанных с широким использованием автоматизированной системы управления документооборотом в организации и способов их реш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46716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О «РОСТЭК-Алтай» является одним из дочерних предприятий ФГУП «РОСТЭК». Его главная задача - содействовать развитию максимально комфортных условий для работы таможенной службы и участников внешнеэкономической деятельност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ТЭК-Алтай - это организация, которая предоставляет интересы компании клиентов в таможенных органах и решает их проблемы по таможенному оформлению грузов и выполняет другие посреднические функции в области таможенного дела от имени клиента и по его поручению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167360" y="1413000"/>
            <a:ext cx="497664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ализ уровня использования ИТ в деятельност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приятия, позволил выявить ряд негативных факторов. Наиболее важным является то, что на предприяти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сутствует сервер для обмена данных с таможн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аботе используется разнородное программное обеспечение , между которым не предполагается никакого взаимодейств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жество операций, выполняется с использованием традиционной («бумажной»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хнологии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оме того, значительный объем информации, накопленной на предприятии, рассредоточен по рабочим станциям  «бумажным» документам, находящимся у различных специалистов, что создает значительные трудности при ее поиске, и, как следствие – потерю рабочего време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ыми шагами на пути дальнейшего развития ДОУ стали анализ рынка программных продуктов автоматизации документооборота и выбор оптимальной системы. В ходе анализа наиболее подходящей системой был назван программный комплекс «ГТД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»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нение его в качестве основного инструмента для работы с документами дало следующие возмож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ение информированности руководства и специалистов за счет увеличения объемов информационного хранения и уменьшения времени поиска докум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кращение времени поиска бумажных оригиналов документов в архивном хранении за счет получения точной адресации в электронном виде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9280" y="197280"/>
            <a:ext cx="8713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осле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недрен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ия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истемы электронного декларирования фирмы Альта, применяется технологическая схема оформления, в которой средства автоматизации взаимодействуют следующим образо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057720" cy="40291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79280" y="5767920"/>
            <a:ext cx="871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им образом, при установке программного комплекса следует не переустанавливать все программы заново, а только обеспечить привязку программ друг к другу и добавить несколько дополнительных модул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кже был выявлен ряд проблем, возникающих при внедрении систем электронного документооборота. Их можно разделить на проблемы, касающиеся всех предприятий, и на частные проблемы, касающиеся ЗАО «РОСТЭК-Алтай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общим проблемам относя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удности, связанные с недостаточной поддержкой государством внедрения СЭД. Пока государство и суды не признают электронные документы, бизнес может использовать СЭД только для поддержки оперативной де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шая группа проблем, возникающих из-за отсутствия нормативной базы для полноценного использования электронных докум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уровне ЗАО «РОСТЭК-Алтай», наиболее острыми проблемами являю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взаимопонимания между службой информационных технологий (ИТ) с одной стороны, и службой ДОУ, юридическим отделом и деловыми подразделениями – с друго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блемы подготовки и переподготовки персонал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рьезным препятствием для внедрения систем СЭД является плохо налаженный "бумажный" документооборо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05:30:27Z</dcterms:created>
  <dc:creator>OOU KK KKKK</dc:creator>
  <dc:description/>
  <dc:language>en-US</dc:language>
  <cp:lastModifiedBy>1</cp:lastModifiedBy>
  <dcterms:modified xsi:type="dcterms:W3CDTF">2008-02-13T02:45:13Z</dcterms:modified>
  <cp:revision>9</cp:revision>
  <dc:subject/>
  <dc:title>Проблемы механизации и автоматизации современного управления документами  (на примере ЗАО «РОСТЭК-Алтай») </dc:title>
</cp:coreProperties>
</file>