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7F15-8B4E-49C6-B1CB-B2C3248A2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F226-4DFA-4DB2-BB5D-0150E9F82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34F7-30C6-4C5C-AA68-317FB606F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E662-FBB4-4E92-8DC9-7EA9B4E78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9C6E2-09D9-4925-8BC1-1BA3C5338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0275E-1153-4BDC-909B-384B6CC7E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D0C12-D494-4D2B-BBBE-0A638F783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7026B-D4AA-4511-81F1-D5E3B7CA7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DF806-740D-411B-B6FC-F365EA2C5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A2F9B-48AC-440B-A643-643DE2C03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2BB0F-2AEE-4ECC-9E28-A4E5A165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5B0F-3353-40B2-8000-E3C8659A1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EB6D5-94DE-4EDE-AD46-6339B5850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DD7D3-ABCC-4A18-8E9E-A5CA0E19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8888A-EA00-41DA-AFD4-3CF045E46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793CE-F364-4FF1-B4A3-B8D1BD2CE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B228E-767D-4E77-AE71-CB5C27147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8C57-1EAE-4080-87C7-677121505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89D7-CF67-41FB-B8A4-9994DC55D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8643-B97A-4721-AE1D-CF69E5FAF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B3ED-C558-4C7F-B636-24998B696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22C8-E2DC-43C0-A322-BAF68CA7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F22D-FCDA-43B0-BD21-47489100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01D8-C972-4407-AEBE-AA595D67C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69370-B0FB-4AD9-A8E3-2930F610B2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A4633-FFC9-49DB-84ED-9F02B69224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Тема: «Автоматизация учета основных средств в ООО «Иркут» Шелеховского района Иркутской области»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Цель работы: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Разработка мероприятий по автоматизации учета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Тема: «Автоматизация учета основных средств в ООО «Иркут» Шелеховского района Иркутской области»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255096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Анализ основных  принципов и методов учета основных средст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пределение экономического состояния и учета основных средств в ООО «Иркут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Изучение достоинств и недостатков программных продуктов по ведению бухгалтерского уче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87280" y="177336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Задач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b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324000" y="711360"/>
          <a:ext cx="8496000" cy="5860800"/>
        </p:xfrm>
        <a:graphic>
          <a:graphicData uri="http://schemas.openxmlformats.org/drawingml/2006/table">
            <a:tbl>
              <a:tblPr/>
              <a:tblGrid>
                <a:gridCol w="3421080"/>
                <a:gridCol w="809280"/>
                <a:gridCol w="812880"/>
                <a:gridCol w="809640"/>
                <a:gridCol w="812880"/>
                <a:gridCol w="811080"/>
                <a:gridCol w="1019160"/>
              </a:tblGrid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9 г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 г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1 г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2 г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3 г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3 в % к 1999 г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щадь сельскохозяйственных угодий, г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1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4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4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4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8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годовая численность работников, чел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,1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имость основных производственных фондов, тыс.р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9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55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6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9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0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имость валовой продукции в сопоставимых ценах 1994 г., тыс.р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7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имость валовой продукции в ценах реализации, тыс.р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7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1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0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4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2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,3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едено валовой продукции в расчёте на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 100 га сельхозугодий, тыс.р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3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9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 одного среднегодового работника, тыс.р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,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 1рубль фондов, р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2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1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5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3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1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0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имость основных производственных фондов в расчёте на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 100 га сельхозугодий, тыс.р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4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5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2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5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,5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 одного среднегодового  работника, тыс.р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6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8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,2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,0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 1 рубль валовой  продукции, руб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9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7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3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9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6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,8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ыль(+), убыток(-), тыс.руб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23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7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44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59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,3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ень рентабельности, 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упаемость затрат, 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,2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,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6608880" y="115920"/>
            <a:ext cx="244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аблица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98560" y="333360"/>
            <a:ext cx="748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есурсы и основные экономические показатели работы ООО «Иркут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1949400" y="549360"/>
            <a:ext cx="5571720" cy="4879440"/>
            <a:chOff x="1949400" y="549360"/>
            <a:chExt cx="5571720" cy="4879440"/>
          </a:xfrm>
        </p:grpSpPr>
        <p:cxnSp>
          <p:nvCxnSpPr>
            <p:cNvPr id="107" name="_s14342"/>
            <p:cNvCxnSpPr>
              <a:stCxn id="108" idx="0"/>
              <a:endCxn id="109" idx="2"/>
            </p:cNvCxnSpPr>
            <p:nvPr/>
          </p:nvCxnSpPr>
          <p:spPr>
            <a:xfrm flipV="1" rot="16200000">
              <a:off x="6019200" y="2575080"/>
              <a:ext cx="584640" cy="621000"/>
            </a:xfrm>
            <a:prstGeom prst="bentConnector3">
              <a:avLst>
                <a:gd name="adj1" fmla="val -1799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0" name="_s14343"/>
            <p:cNvCxnSpPr/>
            <p:nvPr/>
          </p:nvCxnSpPr>
          <p:spPr>
            <a:xfrm flipH="1" flipV="1" rot="5400000">
              <a:off x="4584960" y="3236760"/>
              <a:ext cx="1537200" cy="180360"/>
            </a:xfrm>
            <a:prstGeom prst="bentConnector3">
              <a:avLst>
                <a:gd name="adj1" fmla="val -309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1" name="_s14344"/>
            <p:cNvCxnSpPr>
              <a:stCxn id="112" idx="1"/>
              <a:endCxn id="113" idx="2"/>
            </p:cNvCxnSpPr>
            <p:nvPr/>
          </p:nvCxnSpPr>
          <p:spPr>
            <a:xfrm rot="10800000">
              <a:off x="4491720" y="1031040"/>
              <a:ext cx="143280" cy="4130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4" name="_s14345"/>
            <p:cNvCxnSpPr>
              <a:stCxn id="115" idx="3"/>
              <a:endCxn id="113" idx="2"/>
            </p:cNvCxnSpPr>
            <p:nvPr/>
          </p:nvCxnSpPr>
          <p:spPr>
            <a:xfrm flipV="1">
              <a:off x="4120920" y="1030680"/>
              <a:ext cx="372240" cy="2977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6" name="_s14346"/>
            <p:cNvCxnSpPr>
              <a:stCxn id="117" idx="3"/>
              <a:endCxn id="113" idx="2"/>
            </p:cNvCxnSpPr>
            <p:nvPr/>
          </p:nvCxnSpPr>
          <p:spPr>
            <a:xfrm flipV="1">
              <a:off x="4117680" y="1030680"/>
              <a:ext cx="375120" cy="3606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8" name="_s14347"/>
            <p:cNvCxnSpPr>
              <a:stCxn id="119" idx="3"/>
              <a:endCxn id="113" idx="2"/>
            </p:cNvCxnSpPr>
            <p:nvPr/>
          </p:nvCxnSpPr>
          <p:spPr>
            <a:xfrm flipV="1">
              <a:off x="4120920" y="1030680"/>
              <a:ext cx="372240" cy="1880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0" name="_s14348"/>
            <p:cNvCxnSpPr>
              <a:stCxn id="121" idx="3"/>
              <a:endCxn id="113" idx="2"/>
            </p:cNvCxnSpPr>
            <p:nvPr/>
          </p:nvCxnSpPr>
          <p:spPr>
            <a:xfrm flipV="1">
              <a:off x="4120920" y="1030680"/>
              <a:ext cx="372240" cy="2435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2" name="_s14349"/>
            <p:cNvCxnSpPr>
              <a:stCxn id="123" idx="3"/>
              <a:endCxn id="113" idx="2"/>
            </p:cNvCxnSpPr>
            <p:nvPr/>
          </p:nvCxnSpPr>
          <p:spPr>
            <a:xfrm flipV="1">
              <a:off x="4120920" y="1030320"/>
              <a:ext cx="372240" cy="1324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4" name="_s14350"/>
            <p:cNvCxnSpPr>
              <a:stCxn id="109" idx="1"/>
              <a:endCxn id="113" idx="2"/>
            </p:cNvCxnSpPr>
            <p:nvPr/>
          </p:nvCxnSpPr>
          <p:spPr>
            <a:xfrm rot="10800000">
              <a:off x="4491720" y="1030320"/>
              <a:ext cx="429120" cy="1325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5" name="_s14351"/>
            <p:cNvCxnSpPr>
              <a:stCxn id="126" idx="3"/>
              <a:endCxn id="113" idx="2"/>
            </p:cNvCxnSpPr>
            <p:nvPr/>
          </p:nvCxnSpPr>
          <p:spPr>
            <a:xfrm flipV="1">
              <a:off x="4120920" y="1030320"/>
              <a:ext cx="372240" cy="782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7" name="_s14352"/>
            <p:cNvCxnSpPr>
              <a:stCxn id="128" idx="1"/>
              <a:endCxn id="113" idx="2"/>
            </p:cNvCxnSpPr>
            <p:nvPr/>
          </p:nvCxnSpPr>
          <p:spPr>
            <a:xfrm rot="10800000">
              <a:off x="4491720" y="1030320"/>
              <a:ext cx="429120" cy="786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9" name="_s14353"/>
            <p:cNvCxnSpPr>
              <a:stCxn id="130" idx="3"/>
              <a:endCxn id="113" idx="2"/>
            </p:cNvCxnSpPr>
            <p:nvPr/>
          </p:nvCxnSpPr>
          <p:spPr>
            <a:xfrm flipV="1">
              <a:off x="4109400" y="1030680"/>
              <a:ext cx="383400" cy="320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3" name="_s14354"/>
            <p:cNvSpPr/>
            <p:nvPr/>
          </p:nvSpPr>
          <p:spPr>
            <a:xfrm>
              <a:off x="3263760" y="549360"/>
              <a:ext cx="2457360" cy="481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520" rIns="65520" tIns="10440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Критерии выбора программы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_s14355"/>
            <p:cNvSpPr/>
            <p:nvPr/>
          </p:nvSpPr>
          <p:spPr>
            <a:xfrm>
              <a:off x="1949400" y="1186200"/>
              <a:ext cx="2160360" cy="330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8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Функционально наполнение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_s14356"/>
            <p:cNvSpPr/>
            <p:nvPr/>
          </p:nvSpPr>
          <p:spPr>
            <a:xfrm>
              <a:off x="4921200" y="1590480"/>
              <a:ext cx="2160360" cy="453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520" rIns="6552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Гибкость и открытость программы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_s14357"/>
            <p:cNvSpPr/>
            <p:nvPr/>
          </p:nvSpPr>
          <p:spPr>
            <a:xfrm>
              <a:off x="1960920" y="1586160"/>
              <a:ext cx="2160000" cy="453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8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Учет специфики конкретного предприяти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_s14358"/>
            <p:cNvSpPr/>
            <p:nvPr/>
          </p:nvSpPr>
          <p:spPr>
            <a:xfrm>
              <a:off x="4921200" y="2118960"/>
              <a:ext cx="2160360" cy="474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Поддержка и сопровождение программы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_s14359"/>
            <p:cNvSpPr/>
            <p:nvPr/>
          </p:nvSpPr>
          <p:spPr>
            <a:xfrm>
              <a:off x="1960920" y="2117520"/>
              <a:ext cx="2160000" cy="474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8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Высокие эргономические характеристики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_s14360"/>
            <p:cNvSpPr/>
            <p:nvPr/>
          </p:nvSpPr>
          <p:spPr>
            <a:xfrm>
              <a:off x="1960920" y="3233520"/>
              <a:ext cx="2160000" cy="464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8000" bIns="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Технические требования к комплексу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_s14361"/>
            <p:cNvSpPr/>
            <p:nvPr/>
          </p:nvSpPr>
          <p:spPr>
            <a:xfrm>
              <a:off x="1960920" y="2664360"/>
              <a:ext cx="2160000" cy="493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8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Наличие Windows-интерфейса программы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_s14362"/>
            <p:cNvSpPr/>
            <p:nvPr/>
          </p:nvSpPr>
          <p:spPr>
            <a:xfrm>
              <a:off x="1957680" y="4318560"/>
              <a:ext cx="2160000" cy="636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8000" bIns="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Возможность реализации соответствующего сетевого решени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_s14363"/>
            <p:cNvSpPr/>
            <p:nvPr/>
          </p:nvSpPr>
          <p:spPr>
            <a:xfrm>
              <a:off x="1960920" y="3780000"/>
              <a:ext cx="21600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8000" bIns="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Возможность ведения единой базы данных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_s14364"/>
            <p:cNvSpPr/>
            <p:nvPr/>
          </p:nvSpPr>
          <p:spPr>
            <a:xfrm>
              <a:off x="4635360" y="4892400"/>
              <a:ext cx="2160360" cy="536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Наличие обратной связи, линий консультаций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_s14365"/>
            <p:cNvSpPr/>
            <p:nvPr/>
          </p:nvSpPr>
          <p:spPr>
            <a:xfrm>
              <a:off x="4921200" y="4092480"/>
              <a:ext cx="1800000" cy="385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Поддержка, обучение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4366"/>
            <p:cNvSpPr/>
            <p:nvPr/>
          </p:nvSpPr>
          <p:spPr>
            <a:xfrm>
              <a:off x="5721120" y="3178080"/>
              <a:ext cx="1800000" cy="464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Периодическое обновление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2411280" y="5877000"/>
            <a:ext cx="53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ис. 1. Критерии выбора программ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8T13:21:12Z</dcterms:created>
  <dc:creator>Taylor</dc:creator>
  <dc:description/>
  <dc:language>en-US</dc:language>
  <cp:lastModifiedBy>Taylor</cp:lastModifiedBy>
  <dcterms:modified xsi:type="dcterms:W3CDTF">2004-06-28T13:49:39Z</dcterms:modified>
  <cp:revision>3</cp:revision>
  <dc:subject/>
  <dc:title>Тема: «Автоматизация учета основных средств в ООО «Иркут» Шелеховского района Иркутской области»</dc:title>
</cp:coreProperties>
</file>