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CD22-D096-49E2-9598-7ACA95B2B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347E-7999-4488-B695-C8AB0BC23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5A44-FA7A-4FCF-8296-96F044258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78CA-BB2A-4015-A9C2-564D1DBA7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0452-B799-4B36-8FEB-3B6FC32EC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CB71-CAA0-4C1A-A60E-40D3D7F15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6462-EF84-4C59-BC96-9BA4BB828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3996-BED8-4775-B994-5E8A82A1F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6C3E-7A93-4771-B2E3-55B6520AF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E4B7-F96F-4CF9-B98F-DEDD7995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AFE6-32B6-4B88-BB30-37613551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8BA2-6EDD-4076-AEE6-356A57B6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90F0D-CAB0-4601-B8AF-148D4DAEE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99308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Кредитки, пластик, банковские карт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755640" y="549000"/>
            <a:ext cx="7704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Diners Club International - компания, выпускающая пластиковые карты, ориентированные в первую очередь для оплаты путешествий и развлечений. Основана 28 января 1950 года. После своего образования (под названием Diners Club) стала первой в мире независимой кредитной компанией, которая начала работать с кредитными карт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5690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SO-7810 «Идентификационные карты — физические характеристики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SO-7811 «Идентификационные карты — методы записи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SO-7812 «Идентификационные карты — система нумерации и процедура регистрации идентификаторов эмитентов» (5 частей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SO-7813 «Идентификационные карты — карты для финансовых транзакций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SO-4909 «Банковские карты — содержание третьей дорожки магнитной полосы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SO-7816 «Идентификационные карты — карты с микросхемой с контактами» (6 частей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539280" y="1125000"/>
            <a:ext cx="842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дентификационные карты (карты доступ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рты лояльности (клубные карт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рты связ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оплаченные кар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анковские платёжные кар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ИДЫ ПЕРСОНАЛИЗАЦИИ ПЛАСТИКОВЫХ КА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4920" y="1125000"/>
            <a:ext cx="84978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Штрих-код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етод персонализации, при котором информация кодируется с помощью цифр и специальной графической информации - последовательности чёрных и белых полос, либо других геометрических фигур , размещенных на карте и предназначенных для считывания специальным сканером штрих-кодов с дальнейшей компьютерной обработкой дан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агнитная полос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ип персонализации применяется для идентификации держателя карты в банковских структурах, системах оплаты и дисконт-системах. Обычно магнитная полоса имеет 3 дорожки, на которые записываются данные для идентифик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март-карты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акие карты содержат информацию, размещенную в специальный микрочип, позволяющий хранить данных в несколько раз больше, чем магнитная поло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23640" y="333000"/>
            <a:ext cx="85690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мбоссирование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 карту механическим путем (выдавливанием) наносится символьная информация (в виде рельефных символов), содержащая персональные данные о ее владель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ндент печать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пособ, при котором на готовой пластиковой карточке выдавливаются различные символы. Отличительной особенностью данной технологии от эмбоссирования является то, что выдавленные символы на карте не имеют рельефа, символы получаются как бы выгравированными и не выступают над поверхностью кар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ычно после этих операции выдавленные символы покрываются фольгой для лучшей читабельности. Такая операция называется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топпирова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кретч-метод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нанесение на карту специальной защитной полоски (скретч-панели). Эта полоса не просвечивается, скрывая секретные данные карты. Под скретч-панелью обычно печатают номер, пароль или PIN-код (чаще используют для предоплаченных карт). Удалить полосу достаточно легко твердым острым предме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лоса для подписи владельца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пособ персонализации, позволяющий идентифицаировать владельца карты по его росписи. Если злоумышленник захочет стереть роспись реального держателя карты, то целостность слоя нарушается и проявляется второй защитный сл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64216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Фотография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поверхности карты печатается фотографическое изображение ее владельца. При этом карты с фотографиями могут заменять собой удостоверения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екстовая персонализация (нумерация) пластиковых карт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арта маркируется специальными цифрами, данными о держателе карты или иной текстовой информацией. Данный тип персонализации является одним из самых простых и стоит подобная персонализация карты недор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олограм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двух- или трехмерное изображение объекта, являющееся индикатором подлинности конкретной пластиковой кар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икротекс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не различимый человеческим глазом текст, считываемый специальным устройством и удостоверяющий подлинность и персонификационные данные пластиковой кар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икрострукту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ложно скомбинированные линии, образующие фона или рисунок поля пластиковой кар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24000" y="692280"/>
            <a:ext cx="8424720" cy="54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анковские платёжные кар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редитные кар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ебетовые кар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аможенные кар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353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ртуальная карта — специальная банковская платёжная карта, предназначенная для платежей в Интернете. Представляет собой данные реквизитов банковской карты, необходимые для осуществления оплаты на интернет-сайт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ртуальная карта, как правило, выпускается без физического носителя, только в электронном вид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09T23:11:29Z</dcterms:created>
  <dc:creator>Пользователь</dc:creator>
  <dc:description/>
  <dc:language>en-US</dc:language>
  <cp:lastModifiedBy>Пользователь</cp:lastModifiedBy>
  <dcterms:modified xsi:type="dcterms:W3CDTF">2017-10-26T21:57:36Z</dcterms:modified>
  <cp:revision>4</cp:revision>
  <dc:subject/>
  <dc:title>Слайд 1</dc:title>
</cp:coreProperties>
</file>