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9F487-4B83-4921-8DDB-72CA7ED4B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129BB-7283-4BF0-BD44-883C33C6E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0BAA5-F1B5-42A1-8301-58DB27382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483A6-3FA3-4450-B603-21F8C47EF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3457A-D8E1-4024-B74B-5A424B119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25964-E248-4670-AE8E-CDD05DA0F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2E110-A4B2-45D1-B818-3A45D045B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1624F-23C9-4C4A-8827-DD8632542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D0A06-9F9D-4CCF-9E90-76750D106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8CF4D-6859-4DF4-9708-68CE42AF0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77229-7314-465C-8736-967A9740A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23099-0A80-4B15-93F3-A4C5BB07D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354C-22B7-42C8-93F0-19194E7DB7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475920"/>
            <a:ext cx="8353440" cy="532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латёжная система - совокупность правил, процедур и технической инфраструктуры, обеспечивающих перевод стоимости (ресурса) от одного субъекта экономики другому - транзакци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161-ФЗ О НАЦИОНАЛЬНОЙ ПЛАТЕЖНОЙ СИСТЕМ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татья 3. Основные понятия, используемые в настоящем Федеральном закон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0) платежная система - совокупность организаций, взаимодействующих по правилам платежной системы в целях осуществления перевода денежных средств, включающая оператора платежной системы, операторов услуг платежной инфраструктуры и участников платежной системы, из которых как минимум три организации являются операторами по переводу денежных средств;</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7) иностранная платежная система - совокупность организаций, присоединившихся к правилам платежной системы, организованной в соответствии с иностранным законодательством, и взаимодействующих по правилам платежной системы (участники иностранной платежной системы), в соответствии с которыми иностранный банк (иностранная кредитная организация) может выступать в качестве плательщика и получателя средств по переводам денежных средств участников иностранной платежной системы (иностранный центральный платежный клиринговый контрагент).</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8) электронные денежные средства - денежные средства, которые предварительно предоставлены одним лицом (лицом, предоставившим денежные средства) другому лицу, учитывающему информацию о размере предоставленных денежных средств без открытия банковского счета (обязанному лицу), для исполнения денежных обязательств лица, предоставившего денежные средства, перед третьими лицами и в отношении которых лицо, предоставившее денежные средства, имеет право передавать распоряжения исключительно с использованием электронных средств платежа. При этом не являются электронными денежными средствами денежные средства, полученные организациями, осуществляющими профессиональную деятельность на рынке ценных бумаг, клиринговую деятельность и (или) деятельность по управлению инвестиционными фондами, паевыми инвестиционными фондами и негосударственными пенсионными фондами и осуществляющими учет информации о размере предоставленных денежных средств без открытия банковского счета в соответствии с законодательством, регулирующим деятельность указанных организаци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250560" y="765000"/>
            <a:ext cx="8713800" cy="532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Банком международных расчетов определяются следующие виды рисков, возникающих в платежных системах:</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кредитный рис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риск нехватки ликвидност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системный рис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правовой рис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операционный рис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24000" y="404640"/>
            <a:ext cx="8424720" cy="5832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латежные системы характеризуются наличием довольно значительного уровня риска, что объясняется объемом и размером выполняемых в этих системах операций. Основные причины:</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ошибки персонала, клиентов и сбои в работе техники;</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неопределенность относительно окончательного выполнения платежных обязательств, связанные с несовершенством законодательства, юридических и технических процедур по которым функционируют системы</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чрезвычайные события (нарушение энергоснабжения, нарушения связи, стихийные бедствия);</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банкротство одного или нескольких поставщиков платежных услуг;</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криминальные воздействия на системы (мошенничеств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95280" y="259920"/>
            <a:ext cx="8569440" cy="6264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Банк России поступает информация об осуществлении лицами, не являющимися кредитными организациями, расчетов с поставщиками услуг (товаров, работ) за счет предварительно предоставленных третьими лицами денежных средств. Расчеты с поставщиками услуг (товаров, работ) осуществляются на основании передаваемых физическими лицами распоряжений в электронном виде, в том числе с использованием карт, не являющихся банковскими картами, сети Интернет, мобильных телефонов.</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частности, используются схемы расчетов с поставщиками услуг (товаров, работ), предполагающи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ыпуск лицами, не являющимися кредитными организациями, карт, в том числе «подарочных», «накопительных», «дисконтных», «бонусных», в целях их использования физическими лицами для расчетов с поставщиками услуг (товаров, работ), отличными от эмитентов карт;</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ткрытие «электронных кошельков» на Интернет-сайтах лицами, не являющимися кредитными организациями, в целях использования данных «электронных кошельков» физическими лицами для расчетов с поставщиками услуг (товаров, работ);</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использование авансов физических лиц по оплате услуг мобильной связи для расчетов с поставщиками услуг (товаров, работ) посредством, как правило, мобильных телефонов.</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соответствии с частью второй статьи 12 Закона о НПС лицо, не являющееся оператором электронных денежных средств, не вправе становиться обязанным по электронным денежным средствам (пункт 18 статьи 3 Закона о НПС) и осуществлять перевод электронных денежных средств, который отнесен к банковским операциям пунктом 9 части первой статьи 5 Федерального закона «О банках и банковской деятельност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аким образом, осуществление лицом, не являющимся кредитной организацией, на основании передаваемых ему физическими лицами распоряжений в электронном виде, деятельности по исполнению денежных обязательств указанных физических лиц перед поставщиками услуг (товаров, работ) за счет предварительно предоставленных денежных средств, учитываемых без открытия банковского счета, является нарушением законодательства Российской Федераци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95280" y="692280"/>
            <a:ext cx="842472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Электронные платёжные системы</a:t>
            </a:r>
            <a:r>
              <a:rPr b="0" lang="en-US" sz="3200" spc="-1" strike="noStrike">
                <a:solidFill>
                  <a:srgbClr val="000000"/>
                </a:solidFill>
                <a:latin typeface="Arial"/>
              </a:rPr>
              <a:t> являются подвидом платёжных систем, которые обеспечивают осуществление транзакций электронных платежей через сети (например, Интернет) или платёжные чип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250560" y="188640"/>
            <a:ext cx="8713800" cy="633564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Электронные деньги</a:t>
            </a:r>
            <a:r>
              <a:rPr b="0" lang="ru-RU" sz="2800" spc="-1" strike="noStrike">
                <a:solidFill>
                  <a:srgbClr val="000000"/>
                </a:solidFill>
                <a:latin typeface="Arial"/>
              </a:rPr>
              <a:t> - системы хранения и передачи как традиционных валют, так и негосударственных частных валют — обращение электронных денег может осуществляться как по правилам, установленным или согласованными с государственными центробанками, так и по собственным правилам негосударственных платежных систем.</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щаются  </a:t>
            </a:r>
            <a:r>
              <a:rPr b="0" lang="ru-RU" sz="2800" spc="-1" strike="noStrike">
                <a:solidFill>
                  <a:srgbClr val="000000"/>
                </a:solidFill>
                <a:latin typeface="Arial"/>
              </a:rPr>
              <a:t>	</a:t>
            </a:r>
            <a:r>
              <a:rPr b="0" lang="ru-RU" sz="2800" spc="-1" strike="noStrike">
                <a:solidFill>
                  <a:srgbClr val="000000"/>
                </a:solidFill>
                <a:latin typeface="Arial"/>
              </a:rPr>
              <a:t>-на базе смарт-карт</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на базе сетей</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гут быть анонимные (неперсонифицированные)</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не анонимные (персонифицированны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50560" y="189000"/>
            <a:ext cx="8713800" cy="6480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Arial"/>
              </a:rPr>
              <a:t>Фиатные электронные деньги на базе сете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PayP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фриканская платёжная система M-Pes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краинская платёжная система Globalmone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Яндекс.Деньг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Arial"/>
              </a:rPr>
              <a:t>Фиатные электронные деньги на базе смарт-карт</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Visa Cas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Monde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онконгская карточная система «Октопу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олландская система Chipkni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Arial"/>
              </a:rPr>
              <a:t>Нефиатные электронные деньги на базе сете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Pa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KPA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IW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BK Mone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Mone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диный кошелё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лекснет</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Q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риптовалюты</a:t>
            </a:r>
            <a:r>
              <a:rPr b="0" lang="en-US" sz="2000" spc="-1" strike="noStrike">
                <a:solidFill>
                  <a:srgbClr val="000000"/>
                </a:solidFill>
                <a:latin typeface="Arial"/>
              </a:rPr>
              <a:t>: Bitcoin, Litecoin </a:t>
            </a:r>
            <a:r>
              <a:rPr b="0" lang="ru-RU" sz="2000" spc="-1" strike="noStrike">
                <a:solidFill>
                  <a:srgbClr val="000000"/>
                </a:solidFill>
                <a:latin typeface="Arial"/>
              </a:rPr>
              <a:t>и</a:t>
            </a:r>
            <a:r>
              <a:rPr b="0" lang="en-US" sz="2000" spc="-1" strike="noStrike">
                <a:solidFill>
                  <a:srgbClr val="000000"/>
                </a:solidFill>
                <a:latin typeface="Arial"/>
              </a:rPr>
              <a:t> </a:t>
            </a:r>
            <a:r>
              <a:rPr b="0" lang="ru-RU" sz="2000" spc="-1" strike="noStrike">
                <a:solidFill>
                  <a:srgbClr val="000000"/>
                </a:solidFill>
                <a:latin typeface="Arial"/>
              </a:rPr>
              <a:t>т</a:t>
            </a:r>
            <a:r>
              <a:rPr b="0" lang="en-US" sz="2000" spc="-1" strike="noStrike">
                <a:solidFill>
                  <a:srgbClr val="000000"/>
                </a:solidFill>
                <a:latin typeface="Arial"/>
              </a:rPr>
              <a:t>. </a:t>
            </a:r>
            <a:r>
              <a:rPr b="0" lang="ru-RU" sz="2000" spc="-1" strike="noStrike">
                <a:solidFill>
                  <a:srgbClr val="000000"/>
                </a:solidFill>
                <a:latin typeface="Arial"/>
              </a:rPr>
              <a:t>п</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94920" y="259920"/>
            <a:ext cx="8497800" cy="6193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Фидуциарные (от лат. fiducia — доверие) или фиатные (от лат. fiat — декрет, указание, «да будет так») деньги, кредитные деньги — деньги, номинальная стоимость которых устанавливается и гарантируется государством вне зависимости от стоимости материала, из которого деньги изготовлены или находящегося в хранилище банка (необеспеченные деньги). Зачастую фидуциарные деньги функционируют как платёжное средство на основе государственных законов, обязывающих принимать их по номинал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95280" y="836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Обращение электронных денег происходит при помощи компьютерных сетей, Интернета, платёжных карт, электронных кошельков и устройств, работающих с платёжными картами (банкоматы, POS-терминалы, платёжные киоски). Используются и другие платёжные инструменты: браслеты, брелоки, блоки мобильных телефонов и другие устройства, оснащённые специальным платёжным чип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3640" y="333000"/>
            <a:ext cx="8497800" cy="6048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Законодательство ЕС разрешает осуществлять эмиссию электронных денег новому классу кредитных учреждений — Институтам электронных денег (ELMI). В Индии, Мексике, Нигерии, Сингапуре, на Тайване и Украине эмиссия электронных денег может осуществляться только банками. В Гонконге эмитенты электронных денег должны получить лицензию депозитной компании. В России эмитентами электронных денег могут быть только кредитные организации — банки или НКО, имеющие лицензии на осуществление деятельности в качестве оператора электронных денег и денежных переводов без открытия банковского счёт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404640"/>
            <a:ext cx="9036000" cy="6337440"/>
          </a:xfrm>
          <a:prstGeom prst="rect">
            <a:avLst/>
          </a:prstGeom>
          <a:noFill/>
          <a:ln w="0">
            <a:noFill/>
          </a:ln>
        </p:spPr>
        <p:txBody>
          <a:bodyPr lIns="90000" rIns="90000" tIns="46800" bIns="46800"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61-ФЗ от 27.06.2011 О национальной платежной системе</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ФЗ от 07.02.2011 О клиринге, клиринговой деятельности и центральном контрагенте</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4-ФЗ от 02.06.2010 О ратификации Договора о Таможенном кодексе таможенного союза</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3-ФЗ от 03.06.2009 О деятельности по приему платежей физических лиц, осуществляемой платежными агентами</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2-ФЗ от 17.05.2007 О банке развития</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5-ФЗ от 26.07.2006 О защите конкуренции</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73-ФЗ от 10.12.2003 О валютном регулировании и валютном контроле</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4-ФЗ от 22.05.2003 О применении контрольно-кассовой техники при осуществлении наличных денежных расчетов и (или) расчетов с использованием платежных карт</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8-ФЗ от 14.11.2002 Гражданский процессуальный кодекс РФ</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5-ФЗ от 24.07.2002 Арбитражный процессуальный кодекс Российской Федерации</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6-ФЗ от 10.07.2002 О Центральном банке Российской Федерации (Банке России)</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95-ФЗ от 30.12.2001 Кодекс Российской Федерации об административных правонарушениях</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5-ФЗ от 07.08.2001 О противодействии легализации (отмыванию) доходов, полученных преступным путем, и финансированию терроризма</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76-ФЗ от 17.07.1999 О почтовой связи</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0-ФЗ от 25.02.1999 О несостоятельности (банкротстве) кредитных организаций</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7-ФЗ от 05.08.2000, 146-ФЗ от 31.07.1998 Налоговый кодекс Российской Федерации</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45-ФЗ от 31.07.1998 Бюджетный кодекс Российской Федерации</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9-ФЗ от 22.04.1996 О рынке ценных бумаг</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30-ФЗ от 18.12.2006, 146-ФЗ от 26.11.2001, 14-ФЗ от 26.01.1996, 51-ФЗ от 30.11.1994 Гражданский кодекс Российской Федерации</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95-1 от 02.12.1990 О банках и банковской деятельности</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3640" y="115560"/>
            <a:ext cx="856908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Расчетно-платежная система РФ</a:t>
            </a:r>
            <a:endParaRPr b="0" lang="en-US" sz="2400" spc="-1" strike="noStrike">
              <a:solidFill>
                <a:srgbClr val="000000"/>
              </a:solidFill>
              <a:latin typeface="Arial"/>
            </a:endParaRPr>
          </a:p>
        </p:txBody>
      </p:sp>
      <p:sp>
        <p:nvSpPr>
          <p:cNvPr id="50" name="PlaceHolder 2"/>
          <p:cNvSpPr>
            <a:spLocks noGrp="1"/>
          </p:cNvSpPr>
          <p:nvPr>
            <p:ph/>
          </p:nvPr>
        </p:nvSpPr>
        <p:spPr>
          <a:xfrm>
            <a:off x="468360" y="1125360"/>
            <a:ext cx="8424720" cy="5399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латежная система Банка России</a:t>
            </a:r>
            <a:r>
              <a:rPr b="0" lang="ru-RU" sz="2400" spc="-1" strike="noStrike">
                <a:solidFill>
                  <a:srgbClr val="000000"/>
                </a:solidFill>
                <a:latin typeface="Arial"/>
              </a:rPr>
              <a:t>, в которой межбанковские расчеты осуществляются в централизованном порядке — через его расчетную сеть (РК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БЭСП – система банковских электронных срочных платеже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истемы межбанковских расчетов</a:t>
            </a:r>
            <a:r>
              <a:rPr b="0" lang="ru-RU" sz="2400" spc="-1" strike="noStrike">
                <a:solidFill>
                  <a:srgbClr val="000000"/>
                </a:solidFill>
                <a:latin typeface="Arial"/>
              </a:rPr>
              <a:t>, основанные на установлении прямых корреспондентских отношений между коммерческими банкам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лиринговые системы</a:t>
            </a:r>
            <a:r>
              <a:rPr b="0" lang="ru-RU" sz="2400" spc="-1" strike="noStrike">
                <a:solidFill>
                  <a:srgbClr val="000000"/>
                </a:solidFill>
                <a:latin typeface="Arial"/>
              </a:rPr>
              <a:t>, в которых расчеты осуществляются независимыми клиринговыми центрами и расчетными палатами, т.е. небанковскими кредитными организациям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утрибанковские расчетные системы</a:t>
            </a:r>
            <a:r>
              <a:rPr b="0" lang="ru-RU" sz="2400" spc="-1" strike="noStrike">
                <a:solidFill>
                  <a:srgbClr val="000000"/>
                </a:solidFill>
                <a:latin typeface="Arial"/>
              </a:rPr>
              <a:t>, с помощью которых осуществляются расчеты между головными офисами банков и их филиал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7T08:46:11Z</dcterms:created>
  <dc:creator>Пользователь</dc:creator>
  <dc:description/>
  <dc:language>en-US</dc:language>
  <cp:lastModifiedBy>Пользователь</cp:lastModifiedBy>
  <dcterms:modified xsi:type="dcterms:W3CDTF">2017-02-17T10:16:04Z</dcterms:modified>
  <cp:revision>6</cp:revision>
  <dc:subject/>
  <dc:title>Слайд 1</dc:title>
</cp:coreProperties>
</file>