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405-A233-48C4-AADA-A811EBF2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DCF-1630-4979-A79B-74D52243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1AA-5B4F-42BE-A547-0E76C53E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BD6-161B-455D-9D0C-A09548FB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9EB-7B49-49E7-97D4-D561320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52A-4D7B-4788-9BEC-6BACAD18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818-431D-44A4-8405-23ECE922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344-B9C0-4E6B-ABC0-4A23D265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F5A-9A14-4655-9A93-0054B7D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89A-FB74-4158-92E7-B881AD4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90F-5084-49F2-8A17-EA3A515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F8A-40D2-40A8-A7FA-43F2C35D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342F-FEDB-4216-A7C7-1606D7FE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истанционное банковское обслужи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анционное банковское обслуживание (ДБО) – это комплекс услуг удаленного доступа к различным банковским операциям, которые банки предоставляют своим клиентам (как юридическим, так и физическим лица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уясь услугами ДБО, клиенты могут, осуществлять удаленный доступ к своим счетам в банке, совершать платежи и переводы при помощи различных технических средств, каналов связи и с использованием специализированных программных продуктов. Такая форма взаимодействия с банком позволяет клиентам получать актуальную информацию из банка или передавать банку свои распоряжения в удобное время без визита в ба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ссификация Д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3516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Канал доставки банковских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Тип информационной системы, используемой для осуществления банковских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убъекты, пользующиеся услу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ид предоставляемой информации или возможных операций при пользовании услу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тепень универсальности или комплексности предоставляемых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Условия предоставляемых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 помощи телефонной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 помощи специальных устройств самообслуживания (платежно-справочные терминалы, информационные киоски, банкома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через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C-банкинг (Клиент-Банк, классический клиент-банк, remote banking, direct banking, home banking) - «толстый кли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-банкинг (Банк-Клиент, Online banking, WEB-banking) – «тонкий клиен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фонный банкинг (с использованием операторов телефонного обслуживания, посредством автоматических систем с использованием кнопочного телефона и средств компьютеризованной телефонной связи, посредством передачи SMS сообщ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ый банкинг (SMS-банкин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луживание при помощи банковски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20:41:55Z</dcterms:created>
  <dc:creator>Пользователь</dc:creator>
  <dc:description/>
  <dc:language>en-US</dc:language>
  <cp:lastModifiedBy>Пользователь</cp:lastModifiedBy>
  <dcterms:modified xsi:type="dcterms:W3CDTF">2017-03-24T02:25:59Z</dcterms:modified>
  <cp:revision>3</cp:revision>
  <dc:subject/>
  <dc:title>Слайд 1</dc:title>
</cp:coreProperties>
</file>