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99E-AC3D-4E15-A18B-88C76B27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160-F31E-42A4-939F-E390AD33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122-81BC-408D-B486-7A09AF15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1B4-2B7F-49BC-AA1E-8C9E42B1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A77-4586-45FB-B9A1-C8899FC9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033-D365-4517-8597-3354CE76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CCB-3D47-49F9-AB8C-70DF2600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CAC-A96C-4106-AC80-A4539A20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B4E-99BB-47B4-867D-31234A0F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F3C-CDD4-4C69-B3FF-9F715564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56E-750C-4788-8CB9-1D1EAD05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E88-F9BE-4CF2-B66C-01B4567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4FFF-7B65-4494-A72A-C3B4A5D7D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765000"/>
            <a:ext cx="8352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титуция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а 3. Федеративное 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тья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Денежной единицей в Российской Федерации является рубль. Денежная эмиссия осуществляется исключительно Центральным банком Российской Федерации. Введение и эмиссия других денег в Российской Федерации не допуск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Защита и обеспечение устойчивости рубля - основная функция Центрального банка Российской Федерации, которую он осуществляет независимо от других органов государствен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Система налогов, взимаемых в федеральный бюджет, и общие принципы налогообложения и сборов в Российской Федерации устанавливаются федеральным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Государственные займы выпускаются в порядке, определяемом федеральным законом, и размещаются на добровольной осн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Картинки по запросу дорожный чек сбербанк"/>
          <p:cNvPicPr/>
          <p:nvPr/>
        </p:nvPicPr>
        <p:blipFill>
          <a:blip r:embed="rId1"/>
          <a:stretch/>
        </p:blipFill>
        <p:spPr>
          <a:xfrm>
            <a:off x="762120" y="1682640"/>
            <a:ext cx="7619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4247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жданский Кодекс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тья 142. Ценные бума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Ценными бумагами являются документы, соответствующие установленным законом требованиям и удостоверяющие обязательственные и иные права, осуществление или передача которых возможны только при предъявлении таких документов (документарные ценные бумаг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ыми бумагами признаются также обязательственные и иные права, которые закреплены в решении о выпуске или ином акте лица, выпустившего ценные бумаги в соответствии с требованиями закона, и осуществление и передача которых возможны только с соблюдением правил учета этих прав в соответствии со статьей 149 настоящего Кодекса (бездокументарные ценные бумаг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Ценными бумагами являются акция, вексель, закладная, инвестиционный пай паевого инвестиционного фонда, коносамент, облигация, чек и иные ценные бумаги, названные в таком качестве в законе или признанные таковыми в установленном зако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уск или выдача ценных бумаг подлежит государственной регистрации в случаях, установленных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К РФ Статья 815. Ве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ях, когда в соответствии с соглашением сторон заемщиком выдан вексель, удостоверяющий ничем не обусловленное обязательство векселедателя (простой вексель) либо иного указанного в векселе плательщика (переводной вексель) выплатить по наступлении предусмотренного векселем срока полученные взаймы денежные суммы, отношения сторон по векселю регулируются законом о переводном и простом векс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момента выдачи векселя правила настоящего параграфа могут применяться к этим отношениям постольку, поскольку они не противоречат закону о переводном и простом вексе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нежные единицы в соответствии с законодательством данного государства (территории) или международными соглашениями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ой для определения масштаба цен, то есть той единицей, в которой выражаются цены на 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онным средством платежа на территории государства (территории), то есть обязательной к приёму для расчётов, погашения долга на территории данного государства (территории). Государства могут устанавливать ограничение на использование денежных знаков в качестве законных платёжных средств в зависимости от суммы или от вида платеж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принятым в практике международных расчётов средством осуществления валютно-кредитных операций, основанным на международных соглашениях и обычаях делового обо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денежным единицам (валюте) установлены два основных требования: подлинность и платёж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ский Кодекс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я 140. Деньги (валю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Рубль является законным платежным средством, обязательным к приему по нарицательной стоимости на всей территории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тежи на территории Российской Федерации осуществляются путем наличных и безналичных расч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лучаи, порядок и условия использования иностранной валюты на территории Российской Федерации определяются законом или в установленном им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жданский Кодекс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а 46. Рас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1. Общие положения о расче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2. Расчеты платежными поруч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3. Расчеты по аккредит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4. Расчеты по инкас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 5. Расчеты че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К РФ Статья 861. Наличные и безналичные ра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Расчеты с участием граждан, не связанные с осуществлением ими предпринимательской деятельности, могут производиться наличными деньгами (статья 140) без ограничения суммы или в безналич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Расчеты между юридическими лицами, а также расчеты с участием граждан, связанные с осуществлением ими предпринимательской деятельности, производятся в безналичном порядке. Расчеты между этими лицами могут производиться также наличными деньгами, если иное не установлено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Безналичные расчеты производятся через банки, иные кредитные организации (далее - банки), в которых открыты соответствующие счета, если иное не вытекает из закона и не обусловлено используемой формой расч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К РФ Статья 862. Формы безналичных ра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При осуществлении безналичных расчетов допускаются расчеты платежными поручениями, по аккредитиву, чеками, расчеты по инкассо, а также расчеты в иных формах, предусмотренных законом, установленными в соответствии с ним банковскими правилами и применяемыми в банковской практике обычаями делового обор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Стороны по договору вправе избрать и установить в договоре любую из форм расчетов, указанных в пункте 1 настоящей стат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К РФ Статья 87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ие положения о расчетах че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еком признается ценная бумага, содержащая ничем не обусловленное распоряжение чекодателя банку произвести платеж указанной в нем суммы чекодерж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В качестве плательщика по чеку может быть указан только банк, где чекодатель имеет средства, которыми он вправе распоряжаться путем выставления че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Отзыв чека до истечения срока для его предъявления не допуск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Выдача чека не погашает денежного обязательства, во исполнение которого он вы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орядок и условия использования чеков в платежном обороте регулируются настоящим Кодексом, а в части, им не урегулированной, другими законами и устанавливаемыми в соответствии с ними банковскими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Лицевая сторона чека ИП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8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3T08:36:39Z</dcterms:created>
  <dc:creator>Пользователь</dc:creator>
  <dc:description/>
  <dc:language>en-US</dc:language>
  <cp:lastModifiedBy>Пользователь</cp:lastModifiedBy>
  <dcterms:modified xsi:type="dcterms:W3CDTF">2017-03-03T10:06:54Z</dcterms:modified>
  <cp:revision>2</cp:revision>
  <dc:subject/>
  <dc:title>Слайд 1</dc:title>
</cp:coreProperties>
</file>