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4.jpeg" ContentType="image/jpeg"/>
  <Override PartName="/ppt/media/image25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3.png" ContentType="image/png"/>
  <Override PartName="/ppt/media/image18.wmf" ContentType="image/x-wmf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wmf" ContentType="image/x-wmf"/>
  <Override PartName="/ppt/media/image19.jpeg" ContentType="image/jpeg"/>
  <Override PartName="/ppt/media/image22.jpeg" ContentType="image/jpeg"/>
  <Override PartName="/ppt/media/image24.jpeg" ContentType="image/jpe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BD9-0D29-49F4-8D16-81C9D674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035-2661-44D3-9D3B-F4E9B781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FE07-AADB-4153-947E-7B033E8A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80B6-16A1-4DAE-B616-DC54C6DA3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38A-781E-4329-B3AA-C48C2124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C9C-DD9E-4709-AED3-F99BD5EE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4F52-2706-4A4E-9D92-0742CCB2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F56-D5BF-45D1-AA7C-D2BAC183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8A07-A4F6-41FA-84EF-5B1777A2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432-CBFF-448C-AB36-D53002E8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5F1-143F-452E-8797-3B9700B2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9B8-B738-4338-9152-B89BEF75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89A9-8706-4464-AACB-DD124741C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297180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Работу выполн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ученица 6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МБОУ «Вознесенская средняя общеобразовательная шко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римор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Архангель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Абрамова Ю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609480" y="304920"/>
            <a:ext cx="8001000" cy="23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чем нужна 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ЙЦУКЕНГ» ?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Picture 10" descr="sn_a_001"/>
          <p:cNvPicPr/>
          <p:nvPr/>
        </p:nvPicPr>
        <p:blipFill>
          <a:blip r:embed="rId1"/>
          <a:stretch/>
        </p:blipFill>
        <p:spPr>
          <a:xfrm>
            <a:off x="4572000" y="3276720"/>
            <a:ext cx="43434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80880" y="228600"/>
          <a:ext cx="8458200" cy="6095880"/>
        </p:xfrm>
        <a:graphic>
          <a:graphicData uri="http://schemas.openxmlformats.org/drawingml/2006/table">
            <a:tbl>
              <a:tblPr/>
              <a:tblGrid>
                <a:gridCol w="1025640"/>
                <a:gridCol w="1173240"/>
                <a:gridCol w="1116000"/>
                <a:gridCol w="1396800"/>
                <a:gridCol w="1152720"/>
                <a:gridCol w="1184400"/>
                <a:gridCol w="14094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ук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 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 тек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kb_800"/>
          <p:cNvPicPr/>
          <p:nvPr/>
        </p:nvPicPr>
        <p:blipFill>
          <a:blip r:embed="rId1"/>
          <a:stretch/>
        </p:blipFill>
        <p:spPr>
          <a:xfrm>
            <a:off x="304920" y="228600"/>
            <a:ext cx="8153280" cy="32655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2160" y="14184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2438280" y="1371600"/>
            <a:ext cx="2590920" cy="1523520"/>
            <a:chOff x="2438280" y="1371600"/>
            <a:chExt cx="2590920" cy="1523520"/>
          </a:xfrm>
        </p:grpSpPr>
        <p:sp>
          <p:nvSpPr>
            <p:cNvPr id="75" name="Oval 8"/>
            <p:cNvSpPr/>
            <p:nvPr/>
          </p:nvSpPr>
          <p:spPr>
            <a:xfrm>
              <a:off x="2956320" y="1371600"/>
              <a:ext cx="518040" cy="5079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474720" y="1371600"/>
              <a:ext cx="518040" cy="5079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3992760" y="1371600"/>
              <a:ext cx="518040" cy="5079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2438280" y="1879560"/>
              <a:ext cx="518040" cy="5076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2956320" y="1879560"/>
              <a:ext cx="518040" cy="5076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3474720" y="1879560"/>
              <a:ext cx="518040" cy="5076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3992760" y="1879560"/>
              <a:ext cx="518040" cy="5076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4511160" y="1879560"/>
              <a:ext cx="518040" cy="5076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2697120" y="2387160"/>
              <a:ext cx="518040" cy="5079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3215520" y="2387160"/>
              <a:ext cx="518040" cy="5079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3733560" y="2387160"/>
              <a:ext cx="518040" cy="5079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4251960" y="2387160"/>
              <a:ext cx="518040" cy="5079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20" descr="kb_800"/>
          <p:cNvPicPr/>
          <p:nvPr/>
        </p:nvPicPr>
        <p:blipFill>
          <a:blip r:embed="rId2"/>
          <a:stretch/>
        </p:blipFill>
        <p:spPr>
          <a:xfrm>
            <a:off x="609480" y="3714840"/>
            <a:ext cx="784872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8" name="Group 21"/>
          <p:cNvGrpSpPr/>
          <p:nvPr/>
        </p:nvGrpSpPr>
        <p:grpSpPr>
          <a:xfrm>
            <a:off x="2895480" y="4800600"/>
            <a:ext cx="2742840" cy="1447560"/>
            <a:chOff x="2895480" y="4800600"/>
            <a:chExt cx="2742840" cy="1447560"/>
          </a:xfrm>
        </p:grpSpPr>
        <p:sp>
          <p:nvSpPr>
            <p:cNvPr id="89" name="Oval 22"/>
            <p:cNvSpPr/>
            <p:nvPr/>
          </p:nvSpPr>
          <p:spPr>
            <a:xfrm>
              <a:off x="3643560" y="4800600"/>
              <a:ext cx="49824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4142160" y="4800600"/>
              <a:ext cx="49860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4641120" y="5283000"/>
              <a:ext cx="498240" cy="4827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5139720" y="5283000"/>
              <a:ext cx="498600" cy="4827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3144600" y="5283000"/>
              <a:ext cx="498600" cy="4827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2895480" y="5765760"/>
              <a:ext cx="49860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3892680" y="5765760"/>
              <a:ext cx="49860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4391640" y="5765760"/>
              <a:ext cx="49824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30"/>
          <p:cNvSpPr/>
          <p:nvPr/>
        </p:nvSpPr>
        <p:spPr>
          <a:xfrm>
            <a:off x="8534520" y="16765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8534520" y="48006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kb_800"/>
          <p:cNvPicPr/>
          <p:nvPr/>
        </p:nvPicPr>
        <p:blipFill>
          <a:blip r:embed="rId1"/>
          <a:stretch/>
        </p:blipFill>
        <p:spPr>
          <a:xfrm>
            <a:off x="609480" y="228600"/>
            <a:ext cx="7620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5"/>
          <p:cNvGrpSpPr/>
          <p:nvPr/>
        </p:nvGrpSpPr>
        <p:grpSpPr>
          <a:xfrm>
            <a:off x="2819520" y="1295280"/>
            <a:ext cx="2742840" cy="1371240"/>
            <a:chOff x="2819520" y="1295280"/>
            <a:chExt cx="2742840" cy="1371240"/>
          </a:xfrm>
        </p:grpSpPr>
        <p:sp>
          <p:nvSpPr>
            <p:cNvPr id="101" name="Oval 6"/>
            <p:cNvSpPr/>
            <p:nvPr/>
          </p:nvSpPr>
          <p:spPr>
            <a:xfrm>
              <a:off x="4565160" y="1752480"/>
              <a:ext cx="49824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7"/>
            <p:cNvSpPr/>
            <p:nvPr/>
          </p:nvSpPr>
          <p:spPr>
            <a:xfrm>
              <a:off x="5063760" y="1752480"/>
              <a:ext cx="4986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8"/>
            <p:cNvSpPr/>
            <p:nvPr/>
          </p:nvSpPr>
          <p:spPr>
            <a:xfrm>
              <a:off x="4066200" y="1752480"/>
              <a:ext cx="4986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9"/>
            <p:cNvSpPr/>
            <p:nvPr/>
          </p:nvSpPr>
          <p:spPr>
            <a:xfrm>
              <a:off x="4066200" y="1295280"/>
              <a:ext cx="4986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"/>
            <p:cNvSpPr/>
            <p:nvPr/>
          </p:nvSpPr>
          <p:spPr>
            <a:xfrm>
              <a:off x="4315680" y="2209320"/>
              <a:ext cx="49824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1"/>
            <p:cNvSpPr/>
            <p:nvPr/>
          </p:nvSpPr>
          <p:spPr>
            <a:xfrm>
              <a:off x="3816720" y="2209320"/>
              <a:ext cx="4986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2"/>
            <p:cNvSpPr/>
            <p:nvPr/>
          </p:nvSpPr>
          <p:spPr>
            <a:xfrm>
              <a:off x="3567600" y="1295280"/>
              <a:ext cx="49824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3"/>
            <p:cNvSpPr/>
            <p:nvPr/>
          </p:nvSpPr>
          <p:spPr>
            <a:xfrm>
              <a:off x="3068640" y="1752480"/>
              <a:ext cx="4986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4"/>
            <p:cNvSpPr/>
            <p:nvPr/>
          </p:nvSpPr>
          <p:spPr>
            <a:xfrm>
              <a:off x="2819520" y="2209320"/>
              <a:ext cx="4986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15" descr="kb_800"/>
          <p:cNvPicPr/>
          <p:nvPr/>
        </p:nvPicPr>
        <p:blipFill>
          <a:blip r:embed="rId2"/>
          <a:stretch/>
        </p:blipFill>
        <p:spPr>
          <a:xfrm>
            <a:off x="685800" y="3429000"/>
            <a:ext cx="7620120" cy="30528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6"/>
          <p:cNvGrpSpPr/>
          <p:nvPr/>
        </p:nvGrpSpPr>
        <p:grpSpPr>
          <a:xfrm>
            <a:off x="2590920" y="4495680"/>
            <a:ext cx="3047400" cy="1371240"/>
            <a:chOff x="2590920" y="4495680"/>
            <a:chExt cx="3047400" cy="1371240"/>
          </a:xfrm>
        </p:grpSpPr>
        <p:sp>
          <p:nvSpPr>
            <p:cNvPr id="112" name="Oval 17"/>
            <p:cNvSpPr/>
            <p:nvPr/>
          </p:nvSpPr>
          <p:spPr>
            <a:xfrm>
              <a:off x="3606840" y="4495680"/>
              <a:ext cx="5076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8"/>
            <p:cNvSpPr/>
            <p:nvPr/>
          </p:nvSpPr>
          <p:spPr>
            <a:xfrm>
              <a:off x="4114440" y="4495680"/>
              <a:ext cx="50796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9"/>
            <p:cNvSpPr/>
            <p:nvPr/>
          </p:nvSpPr>
          <p:spPr>
            <a:xfrm>
              <a:off x="4622760" y="4952520"/>
              <a:ext cx="5076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0"/>
            <p:cNvSpPr/>
            <p:nvPr/>
          </p:nvSpPr>
          <p:spPr>
            <a:xfrm>
              <a:off x="5130360" y="4952520"/>
              <a:ext cx="50796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21"/>
            <p:cNvSpPr/>
            <p:nvPr/>
          </p:nvSpPr>
          <p:spPr>
            <a:xfrm>
              <a:off x="4368600" y="5410080"/>
              <a:ext cx="5076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2"/>
            <p:cNvSpPr/>
            <p:nvPr/>
          </p:nvSpPr>
          <p:spPr>
            <a:xfrm>
              <a:off x="3860280" y="5410080"/>
              <a:ext cx="50796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3"/>
            <p:cNvSpPr/>
            <p:nvPr/>
          </p:nvSpPr>
          <p:spPr>
            <a:xfrm>
              <a:off x="2844360" y="5410080"/>
              <a:ext cx="50796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4"/>
            <p:cNvSpPr/>
            <p:nvPr/>
          </p:nvSpPr>
          <p:spPr>
            <a:xfrm>
              <a:off x="3098520" y="4952520"/>
              <a:ext cx="50796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25"/>
            <p:cNvSpPr/>
            <p:nvPr/>
          </p:nvSpPr>
          <p:spPr>
            <a:xfrm>
              <a:off x="2590920" y="4495680"/>
              <a:ext cx="5076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26"/>
          <p:cNvSpPr/>
          <p:nvPr/>
        </p:nvSpPr>
        <p:spPr>
          <a:xfrm>
            <a:off x="8458200" y="1600200"/>
            <a:ext cx="4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8458200" y="449568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kb_800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3048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kb_800"/>
          <p:cNvPicPr/>
          <p:nvPr/>
        </p:nvPicPr>
        <p:blipFill>
          <a:blip r:embed="rId2"/>
          <a:stretch/>
        </p:blipFill>
        <p:spPr>
          <a:xfrm>
            <a:off x="838080" y="3581280"/>
            <a:ext cx="7543800" cy="302112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9"/>
          <p:cNvGrpSpPr/>
          <p:nvPr/>
        </p:nvGrpSpPr>
        <p:grpSpPr>
          <a:xfrm>
            <a:off x="2666880" y="1447920"/>
            <a:ext cx="3048120" cy="1447560"/>
            <a:chOff x="2666880" y="1447920"/>
            <a:chExt cx="3048120" cy="1447560"/>
          </a:xfrm>
        </p:grpSpPr>
        <p:sp>
          <p:nvSpPr>
            <p:cNvPr id="126" name="Oval 7"/>
            <p:cNvSpPr/>
            <p:nvPr/>
          </p:nvSpPr>
          <p:spPr>
            <a:xfrm>
              <a:off x="4724280" y="1828800"/>
              <a:ext cx="507960" cy="4827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8"/>
            <p:cNvSpPr/>
            <p:nvPr/>
          </p:nvSpPr>
          <p:spPr>
            <a:xfrm>
              <a:off x="3174840" y="1447920"/>
              <a:ext cx="50832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9"/>
            <p:cNvSpPr/>
            <p:nvPr/>
          </p:nvSpPr>
          <p:spPr>
            <a:xfrm>
              <a:off x="3683160" y="1447920"/>
              <a:ext cx="50796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0"/>
            <p:cNvSpPr/>
            <p:nvPr/>
          </p:nvSpPr>
          <p:spPr>
            <a:xfrm>
              <a:off x="4191120" y="1447920"/>
              <a:ext cx="50796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1"/>
            <p:cNvSpPr/>
            <p:nvPr/>
          </p:nvSpPr>
          <p:spPr>
            <a:xfrm>
              <a:off x="2666880" y="1930320"/>
              <a:ext cx="507960" cy="4827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2"/>
            <p:cNvSpPr/>
            <p:nvPr/>
          </p:nvSpPr>
          <p:spPr>
            <a:xfrm>
              <a:off x="3174840" y="1930320"/>
              <a:ext cx="508320" cy="4827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"/>
            <p:cNvSpPr/>
            <p:nvPr/>
          </p:nvSpPr>
          <p:spPr>
            <a:xfrm>
              <a:off x="4191120" y="1930320"/>
              <a:ext cx="507960" cy="4827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4"/>
            <p:cNvSpPr/>
            <p:nvPr/>
          </p:nvSpPr>
          <p:spPr>
            <a:xfrm>
              <a:off x="5207040" y="1930320"/>
              <a:ext cx="507960" cy="48276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5"/>
            <p:cNvSpPr/>
            <p:nvPr/>
          </p:nvSpPr>
          <p:spPr>
            <a:xfrm>
              <a:off x="2921040" y="2413080"/>
              <a:ext cx="50796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6"/>
            <p:cNvSpPr/>
            <p:nvPr/>
          </p:nvSpPr>
          <p:spPr>
            <a:xfrm>
              <a:off x="3429000" y="2413080"/>
              <a:ext cx="50796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7"/>
            <p:cNvSpPr/>
            <p:nvPr/>
          </p:nvSpPr>
          <p:spPr>
            <a:xfrm>
              <a:off x="3936960" y="2413080"/>
              <a:ext cx="50796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8"/>
            <p:cNvSpPr/>
            <p:nvPr/>
          </p:nvSpPr>
          <p:spPr>
            <a:xfrm>
              <a:off x="4444920" y="2413080"/>
              <a:ext cx="507960" cy="4824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0"/>
          <p:cNvGrpSpPr/>
          <p:nvPr/>
        </p:nvGrpSpPr>
        <p:grpSpPr>
          <a:xfrm>
            <a:off x="3276720" y="4648320"/>
            <a:ext cx="2895120" cy="1371240"/>
            <a:chOff x="3276720" y="4648320"/>
            <a:chExt cx="2895120" cy="1371240"/>
          </a:xfrm>
        </p:grpSpPr>
        <p:sp>
          <p:nvSpPr>
            <p:cNvPr id="139" name="Oval 21"/>
            <p:cNvSpPr/>
            <p:nvPr/>
          </p:nvSpPr>
          <p:spPr>
            <a:xfrm>
              <a:off x="3276720" y="4648320"/>
              <a:ext cx="4824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759120" y="4648320"/>
              <a:ext cx="4824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41880" y="4648320"/>
              <a:ext cx="4824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724280" y="4648320"/>
              <a:ext cx="4824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3517560" y="5562360"/>
              <a:ext cx="4824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4724280" y="5105520"/>
              <a:ext cx="4824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5207040" y="5105520"/>
              <a:ext cx="4824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5689440" y="5105520"/>
              <a:ext cx="4824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>
              <a:off x="3759120" y="5105520"/>
              <a:ext cx="482400" cy="45684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0"/>
            <p:cNvSpPr/>
            <p:nvPr/>
          </p:nvSpPr>
          <p:spPr>
            <a:xfrm>
              <a:off x="4482720" y="5562360"/>
              <a:ext cx="482400" cy="457200"/>
            </a:xfrm>
            <a:prstGeom prst="ellipse">
              <a:avLst/>
            </a:prstGeom>
            <a:noFill/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31"/>
          <p:cNvSpPr/>
          <p:nvPr/>
        </p:nvSpPr>
        <p:spPr>
          <a:xfrm>
            <a:off x="8534520" y="1371600"/>
            <a:ext cx="30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8458200" y="487692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kb_800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3476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При работе слепым десятипальцевым методом каждая клавиша на клавиатуре закреплена за определенным пальцем руки, тем самым пользователь набирает текст, не глядя на клавиату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57200" y="1600200"/>
          <a:ext cx="8229600" cy="3600360"/>
        </p:xfrm>
        <a:graphic>
          <a:graphicData uri="http://schemas.openxmlformats.org/drawingml/2006/table">
            <a:tbl>
              <a:tblPr/>
              <a:tblGrid>
                <a:gridCol w="1295280"/>
                <a:gridCol w="782640"/>
                <a:gridCol w="1095480"/>
                <a:gridCol w="1374840"/>
                <a:gridCol w="1130400"/>
                <a:gridCol w="1339560"/>
                <a:gridCol w="12114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проб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kb_800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326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"/>
          <p:cNvGraphicFramePr/>
          <p:nvPr/>
        </p:nvGraphicFramePr>
        <p:xfrm>
          <a:off x="380880" y="3809880"/>
          <a:ext cx="8229600" cy="204156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143000"/>
                <a:gridCol w="1195200"/>
                <a:gridCol w="1130400"/>
                <a:gridCol w="1339920"/>
                <a:gridCol w="1211040"/>
              </a:tblGrid>
              <a:tr h="85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1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2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3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4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5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333399"/>
                          </a:solidFill>
                          <a:latin typeface="Arial Cyr"/>
                        </a:rPr>
                        <a:t>6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Проб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5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6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Oval 108"/>
          <p:cNvSpPr/>
          <p:nvPr/>
        </p:nvSpPr>
        <p:spPr>
          <a:xfrm>
            <a:off x="2362320" y="2666880"/>
            <a:ext cx="4267080" cy="9144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3"/>
          <p:cNvGraphicFramePr/>
          <p:nvPr/>
        </p:nvGraphicFramePr>
        <p:xfrm>
          <a:off x="0" y="304920"/>
          <a:ext cx="9144000" cy="601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91440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MG_8395"/>
          <p:cNvPicPr/>
          <p:nvPr/>
        </p:nvPicPr>
        <p:blipFill>
          <a:blip r:embed="rId1"/>
          <a:stretch/>
        </p:blipFill>
        <p:spPr>
          <a:xfrm>
            <a:off x="-228600" y="-17136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govno_PCshnoe"/>
          <p:cNvPicPr/>
          <p:nvPr/>
        </p:nvPicPr>
        <p:blipFill>
          <a:blip r:embed="rId1"/>
          <a:stretch/>
        </p:blipFill>
        <p:spPr>
          <a:xfrm>
            <a:off x="685800" y="380880"/>
            <a:ext cx="7810560" cy="3006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371600" y="39625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 Sans MS"/>
              </a:rPr>
              <a:t>Запятая находится в верхнем регистре,</a:t>
            </a: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Comic Sans MS"/>
              </a:rPr>
              <a:t>то есть для её набора нужно нажать клавишу </a:t>
            </a: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Shift</a:t>
            </a:r>
            <a:r>
              <a:rPr b="0" lang="ru-RU" sz="3600" spc="-1" strike="noStrike">
                <a:solidFill>
                  <a:srgbClr val="99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IMG_8403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2"/>
          <p:cNvPicPr/>
          <p:nvPr/>
        </p:nvPicPr>
        <p:blipFill>
          <a:blip r:embed="rId1"/>
          <a:stretch/>
        </p:blipFill>
        <p:spPr>
          <a:xfrm>
            <a:off x="4876920" y="1066680"/>
            <a:ext cx="4267080" cy="4267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0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250px-Arab_keyboard"/>
          <p:cNvPicPr/>
          <p:nvPr/>
        </p:nvPicPr>
        <p:blipFill>
          <a:blip r:embed="rId3"/>
          <a:stretch/>
        </p:blipFill>
        <p:spPr>
          <a:xfrm>
            <a:off x="533520" y="3657600"/>
            <a:ext cx="4572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800240" y="990360"/>
            <a:ext cx="3886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Русскую раскладку клавиш «ЙЦУКЕН» придумали в Америке в конце 19 век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4"/>
          <p:cNvPicPr/>
          <p:nvPr/>
        </p:nvPicPr>
        <p:blipFill>
          <a:blip r:embed="rId1"/>
          <a:stretch/>
        </p:blipFill>
        <p:spPr>
          <a:xfrm>
            <a:off x="228600" y="228600"/>
            <a:ext cx="435276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450px-KB_Eng-Rus_QWERTY%28%D0%99%D0%A6%D0%A3%D0%9A%D0%95%D0%9D%29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9" name="Rectangle 6"/>
          <p:cNvSpPr/>
          <p:nvPr/>
        </p:nvSpPr>
        <p:spPr>
          <a:xfrm>
            <a:off x="380880" y="365940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Название «ЙЦУКЕНГ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произошло от букв верхней строчки клавиатур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если читать их слева напра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1143000" y="914400"/>
            <a:ext cx="4267080" cy="60948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x10am"/>
          <p:cNvPicPr/>
          <p:nvPr/>
        </p:nvPicPr>
        <p:blipFill>
          <a:blip r:embed="rId1"/>
          <a:stretch/>
        </p:blipFill>
        <p:spPr>
          <a:xfrm>
            <a:off x="5791320" y="35053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отеза подтвердилас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расположение букв на клавиатуре зависит от частоты их употребления в тек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omic Sans MS"/>
              </a:rPr>
              <a:t>раскладка «ЙЦУКЕНГ» облегчает пользователю ввод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rcRect l="18520" t="16838" r="18520" b="20869"/>
          <a:stretch/>
        </p:blipFill>
        <p:spPr>
          <a:xfrm>
            <a:off x="0" y="130320"/>
            <a:ext cx="914400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1853" t="8417" r="3703" b="19186"/>
          <a:stretch/>
        </p:blipFill>
        <p:spPr>
          <a:xfrm>
            <a:off x="0" y="449280"/>
            <a:ext cx="9144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1"/>
          <a:srcRect l="0" t="0" r="0" b="25004"/>
          <a:stretch/>
        </p:blipFill>
        <p:spPr>
          <a:xfrm>
            <a:off x="0" y="22860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80880" y="228600"/>
            <a:ext cx="83822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5" descr="g0119025"/>
          <p:cNvPicPr/>
          <p:nvPr/>
        </p:nvPicPr>
        <p:blipFill>
          <a:blip r:embed="rId1"/>
          <a:stretch/>
        </p:blipFill>
        <p:spPr>
          <a:xfrm>
            <a:off x="5433840" y="3038400"/>
            <a:ext cx="3710160" cy="38196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533520" y="3581280"/>
            <a:ext cx="5029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Comic Sans MS"/>
              </a:rPr>
              <a:t>Желаю удачи    в освоении клавиатуры компьютер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3"/>
          <p:cNvPicPr/>
          <p:nvPr/>
        </p:nvPicPr>
        <p:blipFill>
          <a:blip r:embed="rId1"/>
          <a:stretch/>
        </p:blipFill>
        <p:spPr>
          <a:xfrm>
            <a:off x="990720" y="457200"/>
            <a:ext cx="74674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"/>
          <p:cNvPicPr/>
          <p:nvPr/>
        </p:nvPicPr>
        <p:blipFill>
          <a:blip r:embed="rId1"/>
          <a:stretch/>
        </p:blipFill>
        <p:spPr>
          <a:xfrm>
            <a:off x="4572000" y="304920"/>
            <a:ext cx="4295880" cy="285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2"/>
          <p:cNvPicPr/>
          <p:nvPr/>
        </p:nvPicPr>
        <p:blipFill>
          <a:blip r:embed="rId2"/>
          <a:stretch/>
        </p:blipFill>
        <p:spPr>
          <a:xfrm>
            <a:off x="304920" y="22860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700-1-926"/>
          <p:cNvPicPr/>
          <p:nvPr/>
        </p:nvPicPr>
        <p:blipFill>
          <a:blip r:embed="rId3"/>
          <a:stretch/>
        </p:blipFill>
        <p:spPr>
          <a:xfrm>
            <a:off x="304920" y="2362320"/>
            <a:ext cx="4190760" cy="2055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700-1-929"/>
          <p:cNvPicPr/>
          <p:nvPr/>
        </p:nvPicPr>
        <p:blipFill>
          <a:blip r:embed="rId4"/>
          <a:stretch/>
        </p:blipFill>
        <p:spPr>
          <a:xfrm>
            <a:off x="4876920" y="3352680"/>
            <a:ext cx="3962160" cy="317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700-1-930"/>
          <p:cNvPicPr/>
          <p:nvPr/>
        </p:nvPicPr>
        <p:blipFill>
          <a:blip r:embed="rId5"/>
          <a:stretch/>
        </p:blipFill>
        <p:spPr>
          <a:xfrm>
            <a:off x="304920" y="4419720"/>
            <a:ext cx="41148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IMG_8396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5181480" y="1295280"/>
            <a:ext cx="3962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Comic Sans MS"/>
              </a:rPr>
              <a:t>Клавиатура компьютера — одно из наиболее распространенных устройств ввода информации в компью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Rus_keyboard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2311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304920" y="274356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Comic Sans MS"/>
              </a:rPr>
              <a:t>Цель исследования: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найти ответ на вопрос «Зачем понадобилось так неудобно устраивать клавиатуру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Comic Sans MS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Comic Sans MS"/>
              </a:rPr>
              <a:t>расположение букв на клавиатуре зависит от частоты их употребления в разных тек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IMG_8397"/>
          <p:cNvPicPr/>
          <p:nvPr/>
        </p:nvPicPr>
        <p:blipFill>
          <a:blip r:embed="rId1"/>
          <a:stretch/>
        </p:blipFill>
        <p:spPr>
          <a:xfrm>
            <a:off x="0" y="0"/>
            <a:ext cx="4094280" cy="307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G_8400"/>
          <p:cNvPicPr/>
          <p:nvPr/>
        </p:nvPicPr>
        <p:blipFill>
          <a:blip r:embed="rId2"/>
          <a:stretch/>
        </p:blipFill>
        <p:spPr>
          <a:xfrm>
            <a:off x="5730840" y="0"/>
            <a:ext cx="3413160" cy="4551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G_8401"/>
          <p:cNvPicPr/>
          <p:nvPr/>
        </p:nvPicPr>
        <p:blipFill>
          <a:blip r:embed="rId3"/>
          <a:stretch/>
        </p:blipFill>
        <p:spPr>
          <a:xfrm>
            <a:off x="2971800" y="2840040"/>
            <a:ext cx="30132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IMG_8398"/>
          <p:cNvPicPr/>
          <p:nvPr/>
        </p:nvPicPr>
        <p:blipFill>
          <a:blip r:embed="rId1"/>
          <a:stretch/>
        </p:blipFill>
        <p:spPr>
          <a:xfrm>
            <a:off x="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G_8399"/>
          <p:cNvPicPr/>
          <p:nvPr/>
        </p:nvPicPr>
        <p:blipFill>
          <a:blip r:embed="rId2"/>
          <a:stretch/>
        </p:blipFill>
        <p:spPr>
          <a:xfrm>
            <a:off x="5029200" y="457200"/>
            <a:ext cx="3871800" cy="5162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MG_8402"/>
          <p:cNvPicPr/>
          <p:nvPr/>
        </p:nvPicPr>
        <p:blipFill>
          <a:blip r:embed="rId3"/>
          <a:stretch/>
        </p:blipFill>
        <p:spPr>
          <a:xfrm>
            <a:off x="609480" y="3505320"/>
            <a:ext cx="41706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3520" y="380880"/>
          <a:ext cx="8229600" cy="6278760"/>
        </p:xfrm>
        <a:graphic>
          <a:graphicData uri="http://schemas.openxmlformats.org/drawingml/2006/table">
            <a:tbl>
              <a:tblPr/>
              <a:tblGrid>
                <a:gridCol w="998280"/>
                <a:gridCol w="1141560"/>
                <a:gridCol w="1085760"/>
                <a:gridCol w="1359000"/>
                <a:gridCol w="1120680"/>
                <a:gridCol w="1152720"/>
                <a:gridCol w="1371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укв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 тек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3-01-27T17:07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