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38.jpeg" ContentType="image/jpeg"/>
  <Override PartName="/ppt/media/image5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50.jpeg" ContentType="image/jpeg"/>
  <Override PartName="/ppt/media/image37.jpeg" ContentType="image/jpeg"/>
  <Override PartName="/ppt/media/image60.jpeg" ContentType="image/jpeg"/>
  <Override PartName="/ppt/media/image3.jpeg" ContentType="image/jpeg"/>
  <Override PartName="/ppt/media/image7.jpeg" ContentType="image/jpeg"/>
  <Override PartName="/ppt/media/image16.png" ContentType="image/png"/>
  <Override PartName="/ppt/media/image49.jpeg" ContentType="image/jpeg"/>
  <Override PartName="/ppt/media/image22.png" ContentType="image/png"/>
  <Override PartName="/ppt/media/image24.jpeg" ContentType="image/jpeg"/>
  <Override PartName="/ppt/media/image19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55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2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23.png" ContentType="image/png"/>
  <Override PartName="/ppt/media/image53.jpeg" ContentType="image/jpeg"/>
  <Override PartName="/ppt/media/image54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99DE-F1B4-40C8-BDDD-56D4B890A0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B067-CD34-421E-B218-5CEEFA0E068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40D3-2E24-4BA0-98C5-FECF4B33679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424B-E809-4E54-B11D-50C3965AFD8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5E22-029A-440C-80D1-D7BBDC121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3DE5-CEDC-48DF-ABED-86E2F0CB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65B4-53B8-4192-A357-C47EBF617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9435-8DA4-4B35-8661-E6B86FC8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6263-F226-48B1-BCBA-2CABCFAB6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2CD6-B571-4670-9469-D472CDAC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FF0C-1469-4F7F-AEB0-A4C1D00C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30FB-6109-4BF1-BF97-11E4951D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89F1-216D-4FD5-97F0-DDE811C8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2427-C913-4A72-B790-E9E36029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3F4D-3297-44EB-8B5C-E8DF3027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648D-EBA5-4C62-96AF-CA381597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324B-AF3B-4F88-B88E-ED01805C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0D85-F1C5-498B-997E-E1146D88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4C8C-4FB1-4328-BE06-55B1C2FF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9C6E-FCBB-49B8-A0F9-63D118AF9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2A99-C8CC-461E-B43A-FF85E804A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578C-6D87-4D77-8F03-1B80CE6E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0119-071C-4669-AC0B-107188BA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626C-E033-46A6-B554-47D0C0D9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7A3A-0BFB-48ED-AB23-FC2990AA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F9C5-4CD9-43F8-92D1-8D90A0C3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D1D4-BE4A-4059-BED1-AAC640CB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EE7E-FF89-414F-8C2B-7F7B7B2A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C1CD-8F4C-4520-A822-AE1457885C7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ревнерусская архитекту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7AA8-BF61-4DAF-A360-5552EB914C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4190-3157-47C3-9631-85CD6043748A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ревнерусская архитекту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D840-1341-403D-AF8F-4F0F52A6162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F91A-34D5-47D8-B3F9-C8466861687D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ревнерусская архитектур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2B01-4B00-433A-9910-BA65BA3AB49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ЛЕГО-конструирование-</a:t>
            </a:r>
            <a:br>
              <a:rPr sz="5400"/>
            </a:b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кружок для первых и вторых классов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Дата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E3BE-F805-4484-BD4C-E125563F973B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ревнерусская архитектур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A44C-3898-4429-9321-FAA17BE125A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олокольн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9" name="Picture 8" descr="колокольня"/>
          <p:cNvPicPr/>
          <p:nvPr/>
        </p:nvPicPr>
        <p:blipFill>
          <a:blip r:embed="rId1"/>
          <a:stretch/>
        </p:blipFill>
        <p:spPr>
          <a:xfrm>
            <a:off x="2438280" y="2057400"/>
            <a:ext cx="1917720" cy="41893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9" descr="Pic0"/>
          <p:cNvPicPr/>
          <p:nvPr/>
        </p:nvPicPr>
        <p:blipFill>
          <a:blip r:embed="rId2"/>
          <a:stretch/>
        </p:blipFill>
        <p:spPr>
          <a:xfrm>
            <a:off x="6858000" y="1066680"/>
            <a:ext cx="1967040" cy="46483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0" descr="Pic4"/>
          <p:cNvPicPr/>
          <p:nvPr/>
        </p:nvPicPr>
        <p:blipFill>
          <a:blip r:embed="rId3"/>
          <a:stretch/>
        </p:blipFill>
        <p:spPr>
          <a:xfrm>
            <a:off x="228600" y="1295280"/>
            <a:ext cx="1989000" cy="41911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1" descr="Pic2"/>
          <p:cNvPicPr/>
          <p:nvPr/>
        </p:nvPicPr>
        <p:blipFill>
          <a:blip r:embed="rId4"/>
          <a:stretch/>
        </p:blipFill>
        <p:spPr>
          <a:xfrm>
            <a:off x="4419720" y="2133720"/>
            <a:ext cx="2313000" cy="40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78BA-1F4E-48E4-9D32-1A725730FBCC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ревнерусская архитектур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F7DF-B916-4F4E-8FEB-9EB23DF500F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ремл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7" name="Picture 4" descr="PICT0098"/>
          <p:cNvPicPr/>
          <p:nvPr/>
        </p:nvPicPr>
        <p:blipFill>
          <a:blip r:embed="rId1"/>
          <a:stretch/>
        </p:blipFill>
        <p:spPr>
          <a:xfrm>
            <a:off x="304920" y="1752480"/>
            <a:ext cx="4495680" cy="25146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PICT0103"/>
          <p:cNvPicPr/>
          <p:nvPr/>
        </p:nvPicPr>
        <p:blipFill>
          <a:blip r:embed="rId2"/>
          <a:stretch/>
        </p:blipFill>
        <p:spPr>
          <a:xfrm>
            <a:off x="4800600" y="3657600"/>
            <a:ext cx="41148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6671-922A-43F4-A241-0FC9E824B53E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ревнерусская архитектур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086F-475B-4C1A-99AE-2B3CCC7FCFA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ркв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3" name="Picture 5" descr="северная церковь"/>
          <p:cNvPicPr/>
          <p:nvPr/>
        </p:nvPicPr>
        <p:blipFill>
          <a:blip r:embed="rId1"/>
          <a:stretch/>
        </p:blipFill>
        <p:spPr>
          <a:xfrm>
            <a:off x="3505320" y="1523880"/>
            <a:ext cx="3217680" cy="444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0988-C5DB-4C07-B9C7-40D12ED5BCDF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ревнерусская архитектур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8098-5B2D-4129-A183-9330B90852E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918560" cy="1181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ревнерусский город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879280" y="1684440"/>
            <a:ext cx="48387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Picture 4" descr="DSCN2804"/>
          <p:cNvPicPr/>
          <p:nvPr/>
        </p:nvPicPr>
        <p:blipFill>
          <a:blip r:embed="rId1"/>
          <a:stretch/>
        </p:blipFill>
        <p:spPr>
          <a:xfrm>
            <a:off x="990720" y="1295280"/>
            <a:ext cx="6933960" cy="520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3970-CAD7-40F4-A1DB-6FCA797D5D95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ревнерусская архитектур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F61D-C489-41F4-AF95-0B483450AA3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кружной семинар 2006 год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4" name="Picture 4" descr="PICT0029"/>
          <p:cNvPicPr/>
          <p:nvPr/>
        </p:nvPicPr>
        <p:blipFill>
          <a:blip r:embed="rId1"/>
          <a:stretch/>
        </p:blipFill>
        <p:spPr>
          <a:xfrm>
            <a:off x="228600" y="2590920"/>
            <a:ext cx="2685960" cy="35812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PICT0030"/>
          <p:cNvPicPr/>
          <p:nvPr/>
        </p:nvPicPr>
        <p:blipFill>
          <a:blip r:embed="rId2"/>
          <a:stretch/>
        </p:blipFill>
        <p:spPr>
          <a:xfrm>
            <a:off x="6248520" y="1219320"/>
            <a:ext cx="2743200" cy="36576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PICT0032"/>
          <p:cNvPicPr/>
          <p:nvPr/>
        </p:nvPicPr>
        <p:blipFill>
          <a:blip r:embed="rId3"/>
          <a:stretch/>
        </p:blipFill>
        <p:spPr>
          <a:xfrm>
            <a:off x="2895480" y="1371600"/>
            <a:ext cx="3343320" cy="44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16C5-4118-4CA4-9587-E625214AD81D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ревнерусская архитектур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B660-60B4-4399-9775-99C942AF434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22093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аботы детей к различным проекта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AB08-2004-4784-8979-A81BF151DF3E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ревнерусская архитектур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A116-CF02-4C23-BF3F-62E5E1608F3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оект «Москва дворянская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етив с родителями дворянские усадьбы, ребята принесли фотографии усадеб и строили по ним свои моде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тем на занятиях кружка они познакомились с парковой архитектур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сущей дворянским усадьбам и конструировали различные парковые павильоны и фонта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7928-68A0-47A6-90FF-B59ED3FEF534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ревнерусская архитектур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B4D1-7C4D-4B1B-9EAE-FB8CE6D2671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ворянские усадьб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20" name="Picture 4" descr="PICT029"/>
          <p:cNvPicPr/>
          <p:nvPr/>
        </p:nvPicPr>
        <p:blipFill>
          <a:blip r:embed="rId1"/>
          <a:stretch/>
        </p:blipFill>
        <p:spPr>
          <a:xfrm>
            <a:off x="762120" y="2133720"/>
            <a:ext cx="3581280" cy="32004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5" descr="PICT0256"/>
          <p:cNvPicPr/>
          <p:nvPr/>
        </p:nvPicPr>
        <p:blipFill>
          <a:blip r:embed="rId2"/>
          <a:stretch/>
        </p:blipFill>
        <p:spPr>
          <a:xfrm>
            <a:off x="4952880" y="2743200"/>
            <a:ext cx="3733920" cy="33210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6"/>
          <p:cNvSpPr/>
          <p:nvPr/>
        </p:nvSpPr>
        <p:spPr>
          <a:xfrm>
            <a:off x="914400" y="5486400"/>
            <a:ext cx="32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садьба Узк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5410080" y="190512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шк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6003-3D2C-48FC-9BA6-096805990D81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ревнерусская архитектур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E6E0-A5EB-465F-9414-D58C0B86CFE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ворянские усадьб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80520" y="4343040"/>
            <a:ext cx="3505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анноприимный д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4" descr="PICT0295"/>
          <p:cNvPicPr/>
          <p:nvPr/>
        </p:nvPicPr>
        <p:blipFill>
          <a:blip r:embed="rId1"/>
          <a:stretch/>
        </p:blipFill>
        <p:spPr>
          <a:xfrm>
            <a:off x="304920" y="1447920"/>
            <a:ext cx="4952880" cy="25318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Копия PICT02861"/>
          <p:cNvPicPr/>
          <p:nvPr/>
        </p:nvPicPr>
        <p:blipFill>
          <a:blip r:embed="rId2"/>
          <a:stretch/>
        </p:blipFill>
        <p:spPr>
          <a:xfrm>
            <a:off x="4495680" y="320040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6"/>
          <p:cNvSpPr/>
          <p:nvPr/>
        </p:nvSpPr>
        <p:spPr>
          <a:xfrm>
            <a:off x="457200" y="52578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7"/>
          <p:cNvSpPr/>
          <p:nvPr/>
        </p:nvSpPr>
        <p:spPr>
          <a:xfrm>
            <a:off x="1965240" y="4379760"/>
            <a:ext cx="222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0279-C74E-4EF0-8541-B7DCA1177384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ревнерусская архитектур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E0E7-0E22-47FA-AABB-11593F5952B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оект «Душа моя масленица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7" name="Picture 4" descr="PICT0101"/>
          <p:cNvPicPr/>
          <p:nvPr/>
        </p:nvPicPr>
        <p:blipFill>
          <a:blip r:embed="rId1"/>
          <a:stretch/>
        </p:blipFill>
        <p:spPr>
          <a:xfrm>
            <a:off x="2895480" y="320040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" descr="PICT0105"/>
          <p:cNvPicPr/>
          <p:nvPr/>
        </p:nvPicPr>
        <p:blipFill>
          <a:blip r:embed="rId2"/>
          <a:stretch/>
        </p:blipFill>
        <p:spPr>
          <a:xfrm>
            <a:off x="5410080" y="16002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" descr="PICT0103"/>
          <p:cNvPicPr/>
          <p:nvPr/>
        </p:nvPicPr>
        <p:blipFill>
          <a:blip r:embed="rId3"/>
          <a:stretch/>
        </p:blipFill>
        <p:spPr>
          <a:xfrm>
            <a:off x="1371600" y="1600200"/>
            <a:ext cx="2666880" cy="23623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7"/>
          <p:cNvSpPr/>
          <p:nvPr/>
        </p:nvSpPr>
        <p:spPr>
          <a:xfrm>
            <a:off x="457200" y="3886200"/>
            <a:ext cx="2225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этому проекту ребята вторых классов построили модель праздничной площад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6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F560-C695-404E-BBB7-8271A74D947A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6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ревнерусская архитектур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7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EB2F-E612-4C5B-8244-3EBE5032AB1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2727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Мое первое знакомство с русской архитектурой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447560" y="4190760"/>
            <a:ext cx="6019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гимназия №1801 ЮАЗ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марова Л.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03D6-1111-4E73-9765-97A3F058F0E8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ревнерусская архитектур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8044-1446-4444-9D49-16C9B5E375B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оект «Литература и театр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5" name="Picture 8" descr="Image132"/>
          <p:cNvPicPr/>
          <p:nvPr/>
        </p:nvPicPr>
        <p:blipFill>
          <a:blip r:embed="rId1"/>
          <a:stretch/>
        </p:blipFill>
        <p:spPr>
          <a:xfrm>
            <a:off x="3809880" y="3048120"/>
            <a:ext cx="4953240" cy="33019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Image132"/>
          <p:cNvPicPr/>
          <p:nvPr/>
        </p:nvPicPr>
        <p:blipFill>
          <a:blip r:embed="rId2"/>
          <a:stretch/>
        </p:blipFill>
        <p:spPr>
          <a:xfrm>
            <a:off x="3886200" y="3124080"/>
            <a:ext cx="5037120" cy="335772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11"/>
          <p:cNvSpPr/>
          <p:nvPr/>
        </p:nvSpPr>
        <p:spPr>
          <a:xfrm>
            <a:off x="304920" y="4495680"/>
            <a:ext cx="3657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ки вторых классов конструировали модели театров по принесенным фотография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12" descr="Image15"/>
          <p:cNvPicPr/>
          <p:nvPr/>
        </p:nvPicPr>
        <p:blipFill>
          <a:blip r:embed="rId3"/>
          <a:stretch/>
        </p:blipFill>
        <p:spPr>
          <a:xfrm>
            <a:off x="380880" y="1295280"/>
            <a:ext cx="4496040" cy="30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D6F0-960A-469D-8C46-16D4C7D4B833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ревнерусская архитектур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69EB-603D-4911-94FD-F2CD320AD26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оект «Литература и театр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3" name="Picture 5" descr="ДЮЙМОВОЧКА"/>
          <p:cNvPicPr/>
          <p:nvPr/>
        </p:nvPicPr>
        <p:blipFill>
          <a:blip r:embed="rId1"/>
          <a:stretch/>
        </p:blipFill>
        <p:spPr>
          <a:xfrm>
            <a:off x="5410080" y="1568520"/>
            <a:ext cx="3505320" cy="27748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" descr="ГАДКИЙ УТЕНОК"/>
          <p:cNvPicPr/>
          <p:nvPr/>
        </p:nvPicPr>
        <p:blipFill>
          <a:blip r:embed="rId2"/>
          <a:stretch/>
        </p:blipFill>
        <p:spPr>
          <a:xfrm>
            <a:off x="380880" y="16002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838720" y="1600200"/>
            <a:ext cx="3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Picture 8" descr="ЗОЛУШКА"/>
          <p:cNvPicPr/>
          <p:nvPr/>
        </p:nvPicPr>
        <p:blipFill>
          <a:blip r:embed="rId3"/>
          <a:stretch/>
        </p:blipFill>
        <p:spPr>
          <a:xfrm>
            <a:off x="5638680" y="4343400"/>
            <a:ext cx="2895840" cy="217188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9"/>
          <p:cNvSpPr/>
          <p:nvPr/>
        </p:nvSpPr>
        <p:spPr>
          <a:xfrm>
            <a:off x="380880" y="4761000"/>
            <a:ext cx="259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10"/>
          <p:cNvSpPr/>
          <p:nvPr/>
        </p:nvSpPr>
        <p:spPr>
          <a:xfrm>
            <a:off x="533520" y="4989600"/>
            <a:ext cx="2590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12"/>
          <p:cNvSpPr/>
          <p:nvPr/>
        </p:nvSpPr>
        <p:spPr>
          <a:xfrm>
            <a:off x="1203480" y="5522760"/>
            <a:ext cx="153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13"/>
          <p:cNvSpPr/>
          <p:nvPr/>
        </p:nvSpPr>
        <p:spPr>
          <a:xfrm>
            <a:off x="228600" y="4495680"/>
            <a:ext cx="54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кже ученики моделировали сказочных персонажей к ЛЕГО-театру и сочиняли про них загад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1331-0C99-4448-AA3A-10D71FDA5EA8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ревнерусская архитектур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C0DD-0D48-462B-ADF7-11FA1FCBA51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ЕГО проек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кружке во второй половине дня ученики первых и вторых классов выполняют также отдельные ЛЕГО проекты. Иногда для выполнения этих проектов объединяются ученики всех клас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326A-5B9D-4ABE-8DCB-897EA2854A46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ревнерусская архитектур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86A7-7347-44F5-B749-DC3C52325AB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оект «Конкурс городских парков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70" name="Picture 4" descr="PICT0003"/>
          <p:cNvPicPr/>
          <p:nvPr/>
        </p:nvPicPr>
        <p:blipFill>
          <a:blip r:embed="rId1"/>
          <a:stretch/>
        </p:blipFill>
        <p:spPr>
          <a:xfrm>
            <a:off x="4648320" y="3733920"/>
            <a:ext cx="4190760" cy="26604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5" descr="PICT0005"/>
          <p:cNvPicPr/>
          <p:nvPr/>
        </p:nvPicPr>
        <p:blipFill>
          <a:blip r:embed="rId2"/>
          <a:stretch/>
        </p:blipFill>
        <p:spPr>
          <a:xfrm>
            <a:off x="457200" y="1752480"/>
            <a:ext cx="3962520" cy="236232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6"/>
          <p:cNvSpPr/>
          <p:nvPr/>
        </p:nvSpPr>
        <p:spPr>
          <a:xfrm>
            <a:off x="4648320" y="1828800"/>
            <a:ext cx="3809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протяжении трех занятий ребята строят ограды, ворота, аттракционы и различные парковые сооруж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9" descr="PICT0035"/>
          <p:cNvPicPr/>
          <p:nvPr/>
        </p:nvPicPr>
        <p:blipFill>
          <a:blip r:embed="rId3"/>
          <a:stretch/>
        </p:blipFill>
        <p:spPr>
          <a:xfrm>
            <a:off x="990720" y="4343400"/>
            <a:ext cx="2863800" cy="18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B08E-36D6-4CAD-ADE1-C2C7CE74F0DE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ревнерусская архитектур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C866-84B5-44FB-B23E-425F5058B80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онкурс парк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78" name="Picture 5" descr="PICT0033"/>
          <p:cNvPicPr/>
          <p:nvPr/>
        </p:nvPicPr>
        <p:blipFill>
          <a:blip r:embed="rId1"/>
          <a:stretch/>
        </p:blipFill>
        <p:spPr>
          <a:xfrm>
            <a:off x="5105520" y="38862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PICT0012"/>
          <p:cNvPicPr/>
          <p:nvPr/>
        </p:nvPicPr>
        <p:blipFill>
          <a:blip r:embed="rId2"/>
          <a:stretch/>
        </p:blipFill>
        <p:spPr>
          <a:xfrm>
            <a:off x="685800" y="396252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PICT0010"/>
          <p:cNvPicPr/>
          <p:nvPr/>
        </p:nvPicPr>
        <p:blipFill>
          <a:blip r:embed="rId3"/>
          <a:stretch/>
        </p:blipFill>
        <p:spPr>
          <a:xfrm>
            <a:off x="4572000" y="91440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9"/>
          <p:cNvSpPr/>
          <p:nvPr/>
        </p:nvSpPr>
        <p:spPr>
          <a:xfrm>
            <a:off x="593640" y="1560600"/>
            <a:ext cx="207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10"/>
          <p:cNvSpPr/>
          <p:nvPr/>
        </p:nvSpPr>
        <p:spPr>
          <a:xfrm>
            <a:off x="1447920" y="1600200"/>
            <a:ext cx="2590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тем жюри оценивает работы и распределяет мес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8996-5CEC-43F4-B0BD-8E6D2478FD65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ревнерусская архитектур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F5F1-19A9-46D6-BC31-F81E3958432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52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ачный посело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7" name="Picture 4" descr="DSCN2795"/>
          <p:cNvPicPr/>
          <p:nvPr/>
        </p:nvPicPr>
        <p:blipFill>
          <a:blip r:embed="rId1"/>
          <a:stretch/>
        </p:blipFill>
        <p:spPr>
          <a:xfrm>
            <a:off x="457200" y="990720"/>
            <a:ext cx="4413240" cy="2546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DSCN2796"/>
          <p:cNvPicPr/>
          <p:nvPr/>
        </p:nvPicPr>
        <p:blipFill>
          <a:blip r:embed="rId2"/>
          <a:stretch/>
        </p:blipFill>
        <p:spPr>
          <a:xfrm>
            <a:off x="5562720" y="914400"/>
            <a:ext cx="2627280" cy="35020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DSCN2793"/>
          <p:cNvPicPr/>
          <p:nvPr/>
        </p:nvPicPr>
        <p:blipFill>
          <a:blip r:embed="rId3"/>
          <a:stretch/>
        </p:blipFill>
        <p:spPr>
          <a:xfrm>
            <a:off x="685800" y="380988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8"/>
          <p:cNvSpPr/>
          <p:nvPr/>
        </p:nvSpPr>
        <p:spPr>
          <a:xfrm>
            <a:off x="4343400" y="4114800"/>
            <a:ext cx="4343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протяжении трех занятий ребята делают сначала каждый свою модель, а затем на демонстрационном столе устраивают общий поселок и каждый, кто хочет, может поиграть здес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5B28-1FC4-4BA0-8AD0-B6E6D98D5CE8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ревнерусская архитектур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08E9-DC41-46A4-90F1-43D60F3555D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оект «Город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95" name="Picture 4" descr="ГОРОД1"/>
          <p:cNvPicPr/>
          <p:nvPr/>
        </p:nvPicPr>
        <p:blipFill>
          <a:blip r:embed="rId1"/>
          <a:stretch/>
        </p:blipFill>
        <p:spPr>
          <a:xfrm>
            <a:off x="533520" y="1295280"/>
            <a:ext cx="3886200" cy="2914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ГОРОД3"/>
          <p:cNvPicPr/>
          <p:nvPr/>
        </p:nvPicPr>
        <p:blipFill>
          <a:blip r:embed="rId2"/>
          <a:stretch/>
        </p:blipFill>
        <p:spPr>
          <a:xfrm>
            <a:off x="4876920" y="3276720"/>
            <a:ext cx="3771720" cy="282888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6"/>
          <p:cNvSpPr/>
          <p:nvPr/>
        </p:nvSpPr>
        <p:spPr>
          <a:xfrm>
            <a:off x="4876920" y="1371600"/>
            <a:ext cx="3444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от проект – результат интегрированных занятий по окружающему миру и ЛЕГО-конструирован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457200" y="4267080"/>
            <a:ext cx="3902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бята выстраивают город с различными городскими сооружениями. Здесь и аэродром, и автостоянка, и речной вокзал, театры, кафе, музеи и другие зд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B2FB-0C4E-4A0C-9C61-AEE21160A873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ревнерусская архитектур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B544-ACCD-4F64-A343-960D781332B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оект «Город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03" name="Picture 4" descr="макет города2"/>
          <p:cNvPicPr/>
          <p:nvPr/>
        </p:nvPicPr>
        <p:blipFill>
          <a:blip r:embed="rId1"/>
          <a:stretch/>
        </p:blipFill>
        <p:spPr>
          <a:xfrm>
            <a:off x="533520" y="1676520"/>
            <a:ext cx="8153280" cy="43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8CB2-1EAD-42B0-9B39-4AE9DDF3C60F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ревнерусская архитектур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50A9-5000-41C4-94F1-A51AA6F903B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ЕГО теат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азка «Белоснежка и семь гномов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Picture 5" descr="БЕЛОСНЕЖКА1"/>
          <p:cNvPicPr/>
          <p:nvPr/>
        </p:nvPicPr>
        <p:blipFill>
          <a:blip r:embed="rId1"/>
          <a:stretch/>
        </p:blipFill>
        <p:spPr>
          <a:xfrm>
            <a:off x="4952880" y="4038480"/>
            <a:ext cx="3546720" cy="236376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6"/>
          <p:cNvSpPr/>
          <p:nvPr/>
        </p:nvSpPr>
        <p:spPr>
          <a:xfrm>
            <a:off x="457200" y="4800600"/>
            <a:ext cx="3597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ки первых классов сделали модели героев сказки, декорации к сказ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Picture 7" descr="бЕЛОСНЕЖКА10"/>
          <p:cNvPicPr/>
          <p:nvPr/>
        </p:nvPicPr>
        <p:blipFill>
          <a:blip r:embed="rId2"/>
          <a:stretch/>
        </p:blipFill>
        <p:spPr>
          <a:xfrm>
            <a:off x="457200" y="1981080"/>
            <a:ext cx="4114800" cy="25146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8" descr="Белоснежка2"/>
          <p:cNvPicPr/>
          <p:nvPr/>
        </p:nvPicPr>
        <p:blipFill>
          <a:blip r:embed="rId3"/>
          <a:stretch/>
        </p:blipFill>
        <p:spPr>
          <a:xfrm>
            <a:off x="4876920" y="1828800"/>
            <a:ext cx="3733560" cy="217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BF3A-3086-4345-9A02-1E4ED05B4DA0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ревнерусская архитектур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C689-4A6B-4407-955C-5837BCC0049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ЕГО теат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17" name="Picture 5" descr="белоснежка3"/>
          <p:cNvPicPr/>
          <p:nvPr/>
        </p:nvPicPr>
        <p:blipFill>
          <a:blip r:embed="rId1"/>
          <a:stretch/>
        </p:blipFill>
        <p:spPr>
          <a:xfrm>
            <a:off x="533520" y="4114800"/>
            <a:ext cx="3809880" cy="192708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6"/>
          <p:cNvSpPr/>
          <p:nvPr/>
        </p:nvSpPr>
        <p:spPr>
          <a:xfrm>
            <a:off x="4495680" y="1828800"/>
            <a:ext cx="411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ле чего отрепетировали сказку и показали ее детям средней и старшей групп детского са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Picture 7" descr="белоснежка4"/>
          <p:cNvPicPr/>
          <p:nvPr/>
        </p:nvPicPr>
        <p:blipFill>
          <a:blip r:embed="rId2"/>
          <a:stretch/>
        </p:blipFill>
        <p:spPr>
          <a:xfrm>
            <a:off x="457200" y="1447920"/>
            <a:ext cx="4003560" cy="21571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8" descr="PICT0259"/>
          <p:cNvPicPr/>
          <p:nvPr/>
        </p:nvPicPr>
        <p:blipFill>
          <a:blip r:embed="rId3"/>
          <a:stretch/>
        </p:blipFill>
        <p:spPr>
          <a:xfrm>
            <a:off x="4800600" y="3429000"/>
            <a:ext cx="3505320" cy="26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26D0-B159-4EBD-97EE-5ACB754F2D39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ревнерусская архитектур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A024-505A-4D22-B3EF-AFF7E32756F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и курс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ые цел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ознакомить детей с основными постройками русского деревянного и каменного зодче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ивить детям любовь к русской архитектур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развить чувство прекрасног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BC14-861A-43B8-8F4A-7C6E4E39DA23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ревнерусская архитектур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9955-E9FC-4D69-BA35-5CEF58D615C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рестьянский сруб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1905120" y="6324480"/>
            <a:ext cx="7238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18" descr="сруб"/>
          <p:cNvPicPr/>
          <p:nvPr/>
        </p:nvPicPr>
        <p:blipFill>
          <a:blip r:embed="rId1"/>
          <a:stretch/>
        </p:blipFill>
        <p:spPr>
          <a:xfrm>
            <a:off x="3352680" y="2209680"/>
            <a:ext cx="29322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7018-CB8D-4FFA-8349-290E694C3312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ревнерусская архитектур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7D96-3A09-4B9C-8829-AAA3BC45A05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арадное крыльц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2" name="Picture 4" descr="PICT0084"/>
          <p:cNvPicPr/>
          <p:nvPr/>
        </p:nvPicPr>
        <p:blipFill>
          <a:blip r:embed="rId1"/>
          <a:stretch/>
        </p:blipFill>
        <p:spPr>
          <a:xfrm>
            <a:off x="380880" y="1143000"/>
            <a:ext cx="3195720" cy="3276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PICT0088"/>
          <p:cNvPicPr/>
          <p:nvPr/>
        </p:nvPicPr>
        <p:blipFill>
          <a:blip r:embed="rId2"/>
          <a:stretch/>
        </p:blipFill>
        <p:spPr>
          <a:xfrm>
            <a:off x="5638680" y="1219320"/>
            <a:ext cx="3213360" cy="32954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PICT0085"/>
          <p:cNvPicPr/>
          <p:nvPr/>
        </p:nvPicPr>
        <p:blipFill>
          <a:blip r:embed="rId3"/>
          <a:stretch/>
        </p:blipFill>
        <p:spPr>
          <a:xfrm>
            <a:off x="2971800" y="3886200"/>
            <a:ext cx="335268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F9EA-E1D3-4518-92D0-B96680E411B2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ревнерусская архитектур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E5E1-7070-4583-80C9-C0A674DFEC8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няжеские хором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9" name="Picture 4" descr="PICT0001"/>
          <p:cNvPicPr/>
          <p:nvPr/>
        </p:nvPicPr>
        <p:blipFill>
          <a:blip r:embed="rId1"/>
          <a:stretch/>
        </p:blipFill>
        <p:spPr>
          <a:xfrm>
            <a:off x="228600" y="1143000"/>
            <a:ext cx="3505320" cy="27432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PICT0002"/>
          <p:cNvPicPr/>
          <p:nvPr/>
        </p:nvPicPr>
        <p:blipFill>
          <a:blip r:embed="rId2"/>
          <a:stretch/>
        </p:blipFill>
        <p:spPr>
          <a:xfrm>
            <a:off x="6172200" y="1143000"/>
            <a:ext cx="2514600" cy="28954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PICT0003"/>
          <p:cNvPicPr/>
          <p:nvPr/>
        </p:nvPicPr>
        <p:blipFill>
          <a:blip r:embed="rId3"/>
          <a:stretch/>
        </p:blipFill>
        <p:spPr>
          <a:xfrm>
            <a:off x="2895480" y="3352680"/>
            <a:ext cx="373392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Дата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2752-8B25-413D-97EF-0CD87D52E2A9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ревнерусская архитектур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D407-82A4-4122-BE5E-5CB9F699195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Триумфальные, дворцовые, монастырские воро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6" name="Picture 8" descr="Золотые ворота во Владимире"/>
          <p:cNvPicPr/>
          <p:nvPr/>
        </p:nvPicPr>
        <p:blipFill>
          <a:blip r:embed="rId1"/>
          <a:stretch/>
        </p:blipFill>
        <p:spPr>
          <a:xfrm>
            <a:off x="457200" y="3108240"/>
            <a:ext cx="2144880" cy="2933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9" descr="Ворота в Царицино"/>
          <p:cNvPicPr/>
          <p:nvPr/>
        </p:nvPicPr>
        <p:blipFill>
          <a:blip r:embed="rId2"/>
          <a:stretch/>
        </p:blipFill>
        <p:spPr>
          <a:xfrm>
            <a:off x="5943600" y="1600200"/>
            <a:ext cx="2173320" cy="27669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0" descr="Ворота Китай-города"/>
          <p:cNvPicPr/>
          <p:nvPr/>
        </p:nvPicPr>
        <p:blipFill>
          <a:blip r:embed="rId3"/>
          <a:stretch/>
        </p:blipFill>
        <p:spPr>
          <a:xfrm>
            <a:off x="3117960" y="1933560"/>
            <a:ext cx="2108160" cy="28512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3" descr="Pic16"/>
          <p:cNvPicPr/>
          <p:nvPr/>
        </p:nvPicPr>
        <p:blipFill>
          <a:blip r:embed="rId4"/>
          <a:stretch/>
        </p:blipFill>
        <p:spPr>
          <a:xfrm>
            <a:off x="6019920" y="4648320"/>
            <a:ext cx="21430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D4DB-6BCA-4F30-88AD-5B388C90B88B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ревнерусская архитектур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2668-F323-46DA-B749-5F0A10098FC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рота Китай-город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4" name="Picture 4" descr="PICT0020"/>
          <p:cNvPicPr/>
          <p:nvPr/>
        </p:nvPicPr>
        <p:blipFill>
          <a:blip r:embed="rId1"/>
          <a:stretch/>
        </p:blipFill>
        <p:spPr>
          <a:xfrm>
            <a:off x="609480" y="1600200"/>
            <a:ext cx="2819520" cy="2724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PICT0021"/>
          <p:cNvPicPr/>
          <p:nvPr/>
        </p:nvPicPr>
        <p:blipFill>
          <a:blip r:embed="rId2"/>
          <a:stretch/>
        </p:blipFill>
        <p:spPr>
          <a:xfrm>
            <a:off x="6248520" y="1600200"/>
            <a:ext cx="2614320" cy="34862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PICT0022"/>
          <p:cNvPicPr/>
          <p:nvPr/>
        </p:nvPicPr>
        <p:blipFill>
          <a:blip r:embed="rId3"/>
          <a:stretch/>
        </p:blipFill>
        <p:spPr>
          <a:xfrm>
            <a:off x="3276720" y="3657600"/>
            <a:ext cx="3162240" cy="23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Дата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2D4B-ACE0-4EC0-A5CB-F4015C3A317A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ревнерусская архитектур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091C-332C-4A50-A302-045C1D271E3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торожевые и проездные башни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1" name="Picture 8" descr="Pic15"/>
          <p:cNvPicPr/>
          <p:nvPr/>
        </p:nvPicPr>
        <p:blipFill>
          <a:blip r:embed="rId1"/>
          <a:srcRect l="6253" t="0" r="0" b="0"/>
          <a:stretch/>
        </p:blipFill>
        <p:spPr>
          <a:xfrm>
            <a:off x="4648320" y="1371600"/>
            <a:ext cx="2043000" cy="33987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9" descr="ЛЕГО1 165"/>
          <p:cNvPicPr/>
          <p:nvPr/>
        </p:nvPicPr>
        <p:blipFill>
          <a:blip r:embed="rId2"/>
          <a:stretch/>
        </p:blipFill>
        <p:spPr>
          <a:xfrm>
            <a:off x="228600" y="1371600"/>
            <a:ext cx="2270160" cy="34974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0" descr="проездная башня"/>
          <p:cNvPicPr/>
          <p:nvPr/>
        </p:nvPicPr>
        <p:blipFill>
          <a:blip r:embed="rId3"/>
          <a:stretch/>
        </p:blipFill>
        <p:spPr>
          <a:xfrm>
            <a:off x="2590920" y="2057400"/>
            <a:ext cx="1815840" cy="41450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1" descr="сторожевая башня"/>
          <p:cNvPicPr/>
          <p:nvPr/>
        </p:nvPicPr>
        <p:blipFill>
          <a:blip r:embed="rId4"/>
          <a:stretch/>
        </p:blipFill>
        <p:spPr>
          <a:xfrm>
            <a:off x="6862680" y="2286000"/>
            <a:ext cx="20829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R</cp:lastModifiedBy>
  <dcterms:modified xsi:type="dcterms:W3CDTF">2019-11-18T15:01:5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